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86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6998-2E6B-46D7-81A1-C09406E41A72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4F97-A06F-46FE-951B-08AC28E1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DF07-500E-4A41-B8D8-541F617C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19474-477B-4115-BE13-22C1205A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8285E-E8A3-4790-8DBE-99163164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2E020-B174-4A30-95FD-7B813B81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54C2B-D6F6-4170-8BBB-23E51FB2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C75334-EDE9-42C1-B692-A21BEA3A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70FBF-29ED-4A17-9581-5206D80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94BB6D-2D00-40A0-806B-BDE47A66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856A4-8F82-400B-B9BE-4A84669A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3772F-7AF1-4BC1-913D-74A048FE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E2C4F-61AE-49D9-A051-8711F337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4F41-A26D-4D94-9DE0-B2CC398E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3C36B-2A3A-459A-A998-E915B148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8E4C8-19A3-4B62-AB97-3DDAB34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46D5-890F-4B81-967B-BA245034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70714-462E-45FC-AF12-CA5529272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5CFBC-A8A4-4756-A027-6E3E944B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C00CF-A5BE-4B05-9191-25D276E9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0579A-367E-4935-A09D-FF96FD0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7C595-FBC5-4921-A959-45A9FF56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53BC27-AA9F-4A56-8B00-01E26A15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90F67B-45F4-4372-84A1-CC76985A0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8645-8052-4F47-BB3D-9D984616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801550-FFF3-46BE-A208-10FB41D7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23F84-E6BE-461A-B222-67732970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C2AFB3-1C74-4CFD-AA53-C292AD02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F1C26-5E84-477F-B4F5-15EF7057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FD38C-63A7-4DFE-A2FD-60020869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701E0E-D7F9-41A1-84BE-B90EDCE0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FBBCA-84F1-4149-9945-B07CB734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E408C-8A1F-47E1-A8DF-DA94C74D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BB7023-BAAD-4365-97D0-C95A6084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A810-60E1-4A3B-86CE-EE05B8F4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A188D-0722-496E-86C7-C3F167DF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1E5AC-E670-4483-A3BC-74B91224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D1DCB-0529-4F81-848D-D9DB502B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E52D7-24B7-4D61-B6E8-35423CE78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DD69F-7F3B-4269-AD8F-5D439C924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95A9D-64DC-4B4E-B921-2D46405B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58E1C-D0FB-4245-9853-CEF9EF0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D3223B-E3D2-47F5-AF6E-C93B412C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7D7A0-508E-4817-819A-EC716664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BA7AC-1908-47F4-8E5C-8E52F49D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91C9C-ED9E-452E-8A64-B82DC9C2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220B-7149-428B-B52D-067082A7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3BC139-4E46-47A9-A400-666B18850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96649-B133-4DFE-AA65-0A7DE9CD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911A9-2D53-4A34-B351-F710456C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7FAC3-BA05-4ACD-8412-AB7FE30A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DC70B5-C67C-4E96-AA00-337FBBFBE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CA21533-7705-4747-994C-F3841377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B931F5-136F-41E2-A952-AF74EBC28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5CE2CD-FBF4-4E0F-8834-59A267E6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3A556F8-E305-47B5-BEAA-DD11B677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A29CBA-8E55-4378-9646-86CD932D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B2F57-9595-4D2B-89DF-D428797A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AEBBEE-4BD6-41B6-B7F0-C380D400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32D960-3B06-454F-B75D-C5333F58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71BC6B-4DAE-4D71-B250-3E695595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CA9394A-0A56-40A6-989D-FCE5EABA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DFA3CA-50E9-4EB9-A731-0ACB7F0E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94AAEA9-8CE6-486A-81FA-E62E5B35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38675A-EA33-47B1-8BBE-76742673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34E1-6563-4C21-BDD4-20225367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99DA-E195-4D12-BE35-7A150521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49C8-FBD4-4FF0-B117-A4724852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984B-E10A-47C1-A881-1B9D55AE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799-A178-41B0-8DDE-D5E99FB7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7BEC-B8D2-4C20-A969-1EE40742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C19A-54B2-4E8B-AC9A-35D6E435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BE18-DEFC-461B-A1BE-B7A20E99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B041-B378-4D36-BD05-91EC5875A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19EE9-8476-4165-A47D-539AA1B16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B84F2-5F9C-4899-B9F4-39B68367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AFD80-9BE4-416C-B69B-380C684F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CFDBA-1F13-4AF5-8042-24DA3A12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C953-019B-45A8-B6E4-3225F321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FF9D0-7D91-47C6-8AC1-9AE38017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A4EE-F5A7-4AFF-A293-54598522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55277-E36C-478C-825B-16FF1EE69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24EB5-30E0-44B4-A7A3-41CFF060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8F732-1EEE-4B4A-AEDE-BA1E0DDD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67B34-8E25-4F47-8E3C-3715AB87B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00F3-EDB8-4D7D-9949-ED22EB3C2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6668B-E507-43E7-B10D-89036D0E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FC7C-A9CA-4F34-B76E-1FCD21C0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6166D-2CA2-499C-90A6-4F0B4292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05644-9BF6-4B5A-8FF5-65CA96F2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8A89-F4A8-4ED3-A525-A2EAC56A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3592-B63B-4C9E-93CD-A7D47DD3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12E30-FC53-476F-938C-5386B82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8FC58-8A55-43F0-8EA9-45EFA535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9C2D0-3893-4F78-A35E-811D5CE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23702-4CFF-47F4-BC7A-172A23A6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5BBDE-B75B-48FF-B803-5B07B678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E4CA1-CB0A-4C19-9CAE-7F5F3535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AC5A7-9CA4-4A2A-B1A5-E39DBEE21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90458-6A71-47B6-8E48-ADC796E0F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EFF94-80E7-40BD-BBB8-FAFC074A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81112-C36A-4B79-ABA5-85B1E078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824-6E58-4A22-A466-6973336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D4BD1-B146-44CF-AB92-B6271A16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7238E-460F-4C42-BC82-3D8A6179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95E35-D078-482F-9FA7-52D2A1B19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A7B41-4BF2-4E8E-A42F-A4BBAEAE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2FFAFC-7419-4C47-A2AE-CD1123E3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C3D4-F7BD-4700-BFC6-83C9D8DE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772531-53AF-4D78-8DDB-C76E1488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EF48B-6AF6-49B0-86B4-255F41A8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B87B8-B0BB-4D5E-8802-BB43DCEB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2333E-E273-4CFD-9BCA-954065B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33EE-C41D-4BB7-8DCF-A310B253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293BE-FB3C-44B3-A62E-D1A82EBD7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E8115-7989-4E27-B48F-F0A66D904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E601DA-7057-4BD2-BA90-A716CE85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8AD1AB-BB79-482C-956F-C8CA828D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31F7DA-D47C-4DD7-B7F1-54E45F47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53DE0-5F9A-4926-85F6-133B9F63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52E06-3BC1-45E1-9C4F-733127B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18EFD0-9EE5-4127-8022-888AC1B2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BA1553-DAFD-454C-986B-7AC05B87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B73318-013A-47E7-93C8-3A0140C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992-D726-407B-BB50-7ED71F38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754B4C-C385-4A8E-B0F8-DBBCDCBB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192D52-6818-48BF-9582-505BB79A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905FD0-EDC8-4E7E-802D-7049B662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D4B7B-5F5B-4DA3-A4DE-6FB296269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0E27B-ACBB-45A6-A95A-374AEEE5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732E9C-205A-4692-9094-D3321413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32350-EA9F-4487-855D-9340837B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EDD43-9B9E-45BE-AD39-16F7F9D8B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30EF-C00B-4634-9441-4F7CB924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6E41A-6C3C-46C8-97F8-DA6E4131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5C8-EBC2-4C83-9567-D16C3105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2ECE2-3FA5-4C88-BC24-B71D8CAA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8B2B4C-5BA5-48A1-9125-CC03E5BE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BE525-A0BA-4550-8B89-3928EFE8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0F972-B25B-4858-AF52-5D820715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016E-BB78-4579-B47D-A373FEA5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7491-6285-4E31-ACA5-F88A30512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2FBE8-3E9E-4BD8-8E41-A0A8267DE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86F89-635D-43D3-A638-4773A5919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CD891-A372-473B-808B-F157A2F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95500-6060-4064-BF3B-6699CCB9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6999-E158-4860-B650-F0EF8E03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FA81AB-3848-492A-8A74-3AD9AF1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2C780-D95B-4E29-A035-93BC7B0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481EF-5F19-4ECC-B570-2BE44DA2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AA1FF-2E73-4B92-B463-E648D7B1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8F8B6-498D-43F2-A3AA-A21ADAA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F0CD9-4397-41CE-B1A1-5D6EB3F9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60A74-6242-43AB-A325-03B859A00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5E0A8E-7DC4-4B4E-8FDA-B69A1DCC9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987C0-970D-4C70-ACAD-EA4A919E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64E39-F096-4FF2-AA96-A4A9FA3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6014-3500-458D-AAD2-0615E3074B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9AB4-9EE1-40BC-86F7-BEB60AF231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A54A-4796-4C80-B5BE-367B797846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CEE1-EE81-4844-B89C-3E9991471B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B726-E1FE-4191-9D7D-7859530729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15E6-BFDC-456B-BB2B-936DBEBBD3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246-C60E-4AB5-B4C3-8B70A109EBE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58A72-70D9-4F7F-84C8-9C1EFA77A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764-F71D-4C6F-A5E4-9E5C0FF93B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EA57-B7C1-4419-8728-8B4C131D048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DA7B-8A22-447E-B92F-87CA3A21F4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C44F-5697-4A8A-BB0B-C03027397C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4270-C9F1-4740-8EDD-CC664FE543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18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84480" y="2357280"/>
              <a:ext cx="3080880" cy="3357000"/>
              <a:chOff x="384480" y="2357280"/>
              <a:chExt cx="308088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84480" y="2357280"/>
                <a:ext cx="3080880" cy="3357000"/>
                <a:chOff x="384480" y="2357280"/>
                <a:chExt cx="308088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84480" y="2357280"/>
                  <a:ext cx="3080880" cy="3357000"/>
                </a:xfrm>
                <a:custGeom>
                  <a:avLst/>
                  <a:gdLst>
                    <a:gd name="textAreaLeft" fmla="*/ 150120 w 3080880"/>
                    <a:gd name="textAreaRight" fmla="*/ 2930760 w 3080880"/>
                    <a:gd name="textAreaTop" fmla="*/ 150120 h 3357000"/>
                    <a:gd name="textAreaBottom" fmla="*/ 3206880 h 3357000"/>
                  </a:gdLst>
                  <a:ahLst/>
                  <a:rect l="textAreaLeft" t="textAreaTop" r="textAreaRight" b="textAreaBottom"/>
                  <a:pathLst>
                    <a:path w="21600" h="23536">
                      <a:moveTo>
                        <a:pt x="3600" y="0"/>
                      </a:moveTo>
                      <a:arcTo wR="3600" hR="3600" stAng="16200000" swAng="-5400000"/>
                      <a:lnTo>
                        <a:pt x="0" y="19936"/>
                      </a:lnTo>
                      <a:arcTo wR="3600" hR="3600" stAng="10800000" swAng="-5400000"/>
                      <a:lnTo>
                        <a:pt x="18000" y="2353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84480" y="2357280"/>
                  <a:ext cx="57060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55760" y="2441160"/>
                <a:ext cx="2939760" cy="3217680"/>
                <a:chOff x="455760" y="2441160"/>
                <a:chExt cx="293976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55760" y="2441160"/>
                  <a:ext cx="2939760" cy="3217680"/>
                </a:xfrm>
                <a:custGeom>
                  <a:avLst/>
                  <a:gdLst>
                    <a:gd name="textAreaLeft" fmla="*/ 143280 w 2939760"/>
                    <a:gd name="textAreaRight" fmla="*/ 2796480 w 2939760"/>
                    <a:gd name="textAreaTop" fmla="*/ 143280 h 3217680"/>
                    <a:gd name="textAreaBottom" fmla="*/ 3074400 h 3217680"/>
                  </a:gdLst>
                  <a:ahLst/>
                  <a:rect l="textAreaLeft" t="textAreaTop" r="textAreaRight" b="textAreaBottom"/>
                  <a:pathLst>
                    <a:path w="21600" h="23642">
                      <a:moveTo>
                        <a:pt x="3600" y="0"/>
                      </a:moveTo>
                      <a:arcTo wR="3600" hR="3600" stAng="16200000" swAng="-5400000"/>
                      <a:lnTo>
                        <a:pt x="0" y="20042"/>
                      </a:lnTo>
                      <a:arcTo wR="3600" hR="3600" stAng="10800000" swAng="-5400000"/>
                      <a:lnTo>
                        <a:pt x="18000" y="23642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55760" y="2441160"/>
                  <a:ext cx="54468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94360" y="3143160"/>
                <a:ext cx="263772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28760" y="2401560"/>
              <a:ext cx="21394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357120" y="3315960"/>
              <a:ext cx="314316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31360" y="2344680"/>
            <a:ext cx="21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특수 아동의 유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34320" y="3267000"/>
            <a:ext cx="228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미국 장애인 교육법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37320" y="4187880"/>
            <a:ext cx="139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교수 전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6692-D35D-425C-A669-EFDC2E9F8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175360" y="506520"/>
            <a:ext cx="372420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4" name=""/>
          <p:cNvGraphicFramePr/>
          <p:nvPr/>
        </p:nvGraphicFramePr>
        <p:xfrm>
          <a:off x="714240" y="3214800"/>
          <a:ext cx="7858440" cy="3132000"/>
        </p:xfrm>
        <a:graphic>
          <a:graphicData uri="http://schemas.openxmlformats.org/drawingml/2006/table">
            <a:tbl>
              <a:tblPr/>
              <a:tblGrid>
                <a:gridCol w="1546200"/>
                <a:gridCol w="63122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8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영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 이상이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분야에서 탁월한 재능을 보이는 학습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지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유의하게 낮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Q 70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적응행동 결손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실용적 및 사회적 지능이 있는 장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능이 평균보다 높지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특정 교과의 학습이나 인지과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;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언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기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메타인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에 문제가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ADH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01"/>
                        </a:spcBef>
                        <a:spcAft>
                          <a:spcPts val="24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의력결핍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과잉활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충동성 등의 특징을 갖고 있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D67B-DAEA-4747-9D6B-FB86ACD4385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7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8" name="직사각형 14"/>
              <p:cNvSpPr/>
              <p:nvPr/>
            </p:nvSpPr>
            <p:spPr>
              <a:xfrm>
                <a:off x="1468440" y="138600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특수학습자의 유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0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91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2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7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그룹 43"/>
          <p:cNvGrpSpPr/>
          <p:nvPr/>
        </p:nvGrpSpPr>
        <p:grpSpPr>
          <a:xfrm>
            <a:off x="571680" y="1876320"/>
            <a:ext cx="8072280" cy="1452240"/>
            <a:chOff x="571680" y="1876320"/>
            <a:chExt cx="8072280" cy="1452240"/>
          </a:xfrm>
        </p:grpSpPr>
        <p:pic>
          <p:nvPicPr>
            <p:cNvPr id="797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20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8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799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0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직사각형 19"/>
            <p:cNvSpPr/>
            <p:nvPr/>
          </p:nvSpPr>
          <p:spPr>
            <a:xfrm>
              <a:off x="928800" y="200016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특수학습자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exceptional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learner)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능력이 특별히 높거나 반대로 능력이 특별히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낮은 학습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 및 행동의 측면에서 정상범주에서 이탈된 학습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TextBox 9" descr=""/>
          <p:cNvPicPr/>
          <p:nvPr/>
        </p:nvPicPr>
        <p:blipFill>
          <a:blip r:embed="rId1"/>
          <a:stretch/>
        </p:blipFill>
        <p:spPr>
          <a:xfrm>
            <a:off x="5181480" y="506520"/>
            <a:ext cx="359748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3" name=""/>
          <p:cNvGraphicFramePr/>
          <p:nvPr/>
        </p:nvGraphicFramePr>
        <p:xfrm>
          <a:off x="635040" y="1928880"/>
          <a:ext cx="7873920" cy="4513320"/>
        </p:xfrm>
        <a:graphic>
          <a:graphicData uri="http://schemas.openxmlformats.org/drawingml/2006/table">
            <a:tbl>
              <a:tblPr/>
              <a:tblGrid>
                <a:gridCol w="1650960"/>
                <a:gridCol w="6222960"/>
              </a:tblGrid>
              <a:tr h="37152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범  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설  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ed3e1"/>
                    </a:solidFill>
                  </a:tcPr>
                </a:tc>
              </a:tr>
              <a:tr h="6890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말하기 및 소통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업수행을 심각하게 방해하는 말 혹은 언어이해의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서 및 행동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간 지속되고 학업을 심각하게 방해하는 정서 혹은 행동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폐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상호작용 및 소통의 손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반복적인 행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정된 흥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예측가능한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환경에 대한 강박적인 요구를 특징으로 하는 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체 및 건강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제한된 에너지와 활력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신적 민감성의 둔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육의 통제 결여 중 하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상의 특징을 갖고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있는 신체 혹은 의학적 조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48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시각 손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시지각을 방해하는 눈 혹은 시신경의 기능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36000" rIns="36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각 상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46800" bIns="46800" anchor="ctr">
                      <a:noAutofit/>
                    </a:bodyPr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상적인 말의 빈도 범위에서 소리지각을 방해하는 귀 혹은 관련 신경의 기능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22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BB0B-75F2-4131-97EE-8DEFFDA363C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5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06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54A-6926-4C66-880D-A994FB14ABCF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08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09" name="직사각형 14"/>
              <p:cNvSpPr/>
              <p:nvPr/>
            </p:nvSpPr>
            <p:spPr>
              <a:xfrm>
                <a:off x="1504080" y="1386000"/>
                <a:ext cx="1596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미국 장애인 교육법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3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1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6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그룹 43"/>
          <p:cNvGrpSpPr/>
          <p:nvPr/>
        </p:nvGrpSpPr>
        <p:grpSpPr>
          <a:xfrm>
            <a:off x="571680" y="1876320"/>
            <a:ext cx="8072280" cy="695520"/>
            <a:chOff x="571680" y="1876320"/>
            <a:chExt cx="8072280" cy="695520"/>
          </a:xfrm>
        </p:grpSpPr>
        <p:pic>
          <p:nvPicPr>
            <p:cNvPr id="818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695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19" name="타원 1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820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1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2" name="직사각형 19"/>
            <p:cNvSpPr/>
            <p:nvPr/>
          </p:nvSpPr>
          <p:spPr>
            <a:xfrm>
              <a:off x="928800" y="200016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1975</a:t>
              </a: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년 장애 학생이 무상 공교육을 받을 수 있도록 제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3" name="직사각형 16"/>
          <p:cNvSpPr/>
          <p:nvPr/>
        </p:nvSpPr>
        <p:spPr>
          <a:xfrm>
            <a:off x="285840" y="2890800"/>
            <a:ext cx="8572320" cy="30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무상의 적절한 공교육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Free Appropriate Public Education: FAP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에게 무상으로 적절한 공교육 제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교육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인에게 교육적 수혜를 제공하기 위해 특별히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  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별적으로 고안된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통합을 향한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Mainstream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의 선택된 활동만을 위해서라도 특수학생들을 분리된 학급에서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규 학급으로 이동시키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점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 등이 종종 필요한 조력을 받을 수 없는 교실에 배치됨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4" name="TextBox 9" descr=""/>
          <p:cNvPicPr/>
          <p:nvPr/>
        </p:nvPicPr>
        <p:blipFill>
          <a:blip r:embed="rId1"/>
          <a:stretch/>
        </p:blipFill>
        <p:spPr>
          <a:xfrm>
            <a:off x="5218200" y="506520"/>
            <a:ext cx="3681360" cy="590400"/>
          </a:xfrm>
          <a:prstGeom prst="rect">
            <a:avLst/>
          </a:prstGeom>
          <a:ln w="0">
            <a:noFill/>
          </a:ln>
        </p:spPr>
      </p:pic>
      <p:sp>
        <p:nvSpPr>
          <p:cNvPr id="825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D155-2C88-4279-8E73-A0CE7BA04F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직사각형 16"/>
          <p:cNvSpPr/>
          <p:nvPr/>
        </p:nvSpPr>
        <p:spPr>
          <a:xfrm>
            <a:off x="142920" y="1857240"/>
            <a:ext cx="8929800" cy="34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44640" indent="-495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소한으로 제한된 환경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Least Restrictive Environment : LRE)</a:t>
            </a:r>
            <a:r>
              <a:rPr b="0" lang="en-US" sz="17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류화의 문제점에 대한 대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buClr>
                <a:srgbClr val="424456"/>
              </a:buClr>
              <a:buFont typeface="휴먼모음T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특수한 욕구를 만족시키면서 가능한 한 일반학교에 배치하는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일제로 일반학급에 배치하는 것으로부터 분리 시설에 수용하는 것까지의 연속상의 서비스로 구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9680" indent="-4190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응적 일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이 특정학교에서 요구를 충족시킬 수 있는 정도와 학교가 욕구를 충족시킬 수 있는 정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LRE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의 중심 개념으로 특수학생의 교육을 위한 개별화 접근을 중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81200" indent="-3859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28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9AC1-D42E-4C44-8C60-B7097D245F6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30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31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3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3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38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40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41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42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4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직사각형 16"/>
          <p:cNvSpPr/>
          <p:nvPr/>
        </p:nvSpPr>
        <p:spPr>
          <a:xfrm>
            <a:off x="285840" y="2786040"/>
            <a:ext cx="8572320" cy="39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전략 원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모든 학생들의 학습을 증진시틸 효과적 교수방법 사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의 필요에 맞는 수업 활동 및 과제 설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 욕구 충족 위한 조정된 독서 자료 준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전략을  적극적으로 가르칠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학생들의 성장과 교실 내 통합을 위한 계획 실행</a:t>
            </a:r>
            <a:br>
              <a:rPr sz="1800"/>
            </a:br>
            <a:r>
              <a:rPr b="0" lang="ko-KR" sz="1800" spc="-1" strike="noStrike">
                <a:solidFill>
                  <a:srgbClr val="000000"/>
                </a:solidFill>
                <a:latin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지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과 관련된 추가적인 지원 제공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체 학생이 제자리에서 개별 과제 수행 시에도 교사가 개인적으로 혹은 소그룹 학생과 과제 수행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가적인 조정사항의 예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5.4&gt; p. 2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TextBox 9" descr=""/>
          <p:cNvPicPr/>
          <p:nvPr/>
        </p:nvPicPr>
        <p:blipFill>
          <a:blip r:embed="rId1"/>
          <a:stretch/>
        </p:blipFill>
        <p:spPr>
          <a:xfrm>
            <a:off x="6291360" y="506520"/>
            <a:ext cx="2603520" cy="590400"/>
          </a:xfrm>
          <a:prstGeom prst="rect">
            <a:avLst/>
          </a:prstGeom>
          <a:ln w="0">
            <a:noFill/>
          </a:ln>
        </p:spPr>
      </p:pic>
      <p:sp>
        <p:nvSpPr>
          <p:cNvPr id="84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14B3-11C4-4788-8FE5-98E36DC803C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50" name="직사각형 14"/>
              <p:cNvSpPr/>
              <p:nvPr/>
            </p:nvSpPr>
            <p:spPr>
              <a:xfrm>
                <a:off x="1051920" y="1386000"/>
                <a:ext cx="3734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통합 학급에서의 교사 역할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4" name="Freeform 5"/>
              <p:cNvGrpSpPr/>
              <p:nvPr/>
            </p:nvGrpSpPr>
            <p:grpSpPr>
              <a:xfrm>
                <a:off x="688680" y="1407600"/>
                <a:ext cx="170640" cy="176760"/>
                <a:chOff x="688680" y="1407600"/>
                <a:chExt cx="170640" cy="176760"/>
              </a:xfrm>
            </p:grpSpPr>
            <p:pic>
              <p:nvPicPr>
                <p:cNvPr id="85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8" name="그룹 43"/>
          <p:cNvGrpSpPr/>
          <p:nvPr/>
        </p:nvGrpSpPr>
        <p:grpSpPr>
          <a:xfrm>
            <a:off x="571680" y="1857240"/>
            <a:ext cx="8072280" cy="714600"/>
            <a:chOff x="571680" y="1857240"/>
            <a:chExt cx="8072280" cy="714600"/>
          </a:xfrm>
        </p:grpSpPr>
        <p:pic>
          <p:nvPicPr>
            <p:cNvPr id="85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57240"/>
              <a:ext cx="8072280" cy="7146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0" name="타원 18"/>
            <p:cNvGrpSpPr/>
            <p:nvPr/>
          </p:nvGrpSpPr>
          <p:grpSpPr>
            <a:xfrm>
              <a:off x="859680" y="2139480"/>
              <a:ext cx="225360" cy="231480"/>
              <a:chOff x="859680" y="2139480"/>
              <a:chExt cx="225360" cy="231480"/>
            </a:xfrm>
          </p:grpSpPr>
          <p:pic>
            <p:nvPicPr>
              <p:cNvPr id="86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2" name=""/>
              <p:cNvSpPr/>
              <p:nvPr/>
            </p:nvSpPr>
            <p:spPr>
              <a:xfrm rot="10800000">
                <a:off x="942840" y="2195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3" name="직사각형 19"/>
            <p:cNvSpPr/>
            <p:nvPr/>
          </p:nvSpPr>
          <p:spPr>
            <a:xfrm>
              <a:off x="857160" y="19810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바다M"/>
                  <a:ea typeface="휴먼모음T"/>
                </a:rPr>
                <a:t>특수 학생 변별하기 및 가르치기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16"/>
          <p:cNvSpPr/>
          <p:nvPr/>
        </p:nvSpPr>
        <p:spPr>
          <a:xfrm>
            <a:off x="285840" y="2786040"/>
            <a:ext cx="8572320" cy="33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행동을 학습하도록 돕기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행동 개선의 두 가지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담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응용행동분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코치와 시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42445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호작용과 협력을 증진시키기 위한 전략들 </a:t>
            </a:r>
            <a:r>
              <a:rPr b="1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학생만큼 특수학생도 자주 호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협동학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또래 튜터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100000"/>
              </a:lnSpc>
              <a:spcBef>
                <a:spcPts val="451"/>
              </a:spcBef>
              <a:buClr>
                <a:srgbClr val="cc9900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조적 테크놀로지 활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28T00:35:24Z</dcterms:modified>
  <cp:revision>363</cp:revision>
  <dc:subject/>
  <dc:title>PowerPoint Template</dc:title>
</cp:coreProperties>
</file>