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29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459A-209D-45D7-8D0F-51EC265E66B6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1129-E723-47F2-9868-6E9B249E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243-E89A-4C1B-B6DD-B93616FEE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FAAAFA-EE02-4EC2-93BE-4B2A5805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4C7C9-FFAE-4828-ACFE-6B3A6FD8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9A8C58-799E-4730-87D8-2FCF68D9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D9243-D538-487B-A700-6EBEB07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AD37C-3F29-48C5-8A7D-26D3D49A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E199E-85F8-4720-8E0F-41F7105F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39A3B-D8FF-4DB3-9AD5-33FCE8C8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F1B557-B65E-4FD7-94DA-97A56FDA8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E35AE3-7998-46EC-95E1-74ECE714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BEB0BF-A537-4920-B581-DC54E3C06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501B-42F8-4EC6-8838-DD971D228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989D6-D535-4FA9-AD9B-93802170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B462E-CBF9-4090-A5D6-C0EB5C50A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A9B1A4-4916-47B1-B759-6B334F4C4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366F2F-F95C-4DAA-A85C-4539402C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2187A-2821-4883-A4F5-A25DD022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9AF44-71AC-41E1-9476-A1E12C3C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D1DF3-4BFE-4C46-B691-DA5C43B6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5C69A-BF41-433B-9DA6-E199D0E5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28AAB-ED6C-4B99-8218-65D468DBC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18F0AD-CD22-47C0-B5BE-8A16E85F5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6C54-1C60-4A1C-A73A-4BDD5002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B70CC5-7C90-49E8-B06C-EDE23F67B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86453-2CDD-49EA-85DF-435CCECB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63B022-983A-46E0-9A95-2528C0F5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94C879-B750-4C16-98AA-16EED0C8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EFAE5-11A8-4470-A3A6-5C930192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45624-9479-44F4-A44A-E0EAA5BE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83DB5-F0E2-4AAF-8B30-C3CF31AD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852B9-3201-4179-9108-F91237D7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261CC-5C2E-4C06-A875-3CFCE52F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AA132E-4ED5-4E8E-8606-D6FE34A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FD14-5F45-4E1D-8FFA-DF46E4689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D1DBC-34BD-48ED-8F87-A0E93558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789BD-E35A-4ABD-94AF-C9D18DCF7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74AAD-0F53-4584-A25B-EC429102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B9F39-FA7B-4E7B-AABE-DE7667202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4A7F9-2606-43B3-89FC-8A164E29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8C1CA8-4353-41B4-A29A-3ECA651D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18D513-FAF7-4A9A-BAAF-38992B0B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24FC0-579E-4C24-BA40-B36E2EA80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837108-26AE-43AD-A838-E20BC394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B3C25-55CD-4351-B46F-3B9B66CD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4D8-4278-4DF9-87AB-B0009EE1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E02264-0305-49CC-9FB7-A50FC7D2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32444-EFB8-4F05-A45C-D48E82E8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211847-9A50-489F-98C0-8D894D15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0C508F-68DC-4321-BD19-1DBB76767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2E38BB-78B5-48C8-AE1D-D67C9CE8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85ABC40-B850-4D2F-B6AD-22BFAFCB0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906DF28-8605-4368-9E4A-8AAC4402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762785-EF18-4A82-852A-4183D1E9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8FA3DA-5DE9-4397-8718-51B0F438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48DA1B1-AF6A-4BEF-9E7C-D210ECC9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8D5F-8231-4394-A1A8-4C059221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F23DA62-0788-4B38-951B-DB597253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4B05BD-7492-4532-8395-88B22EF2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604618-DD6C-4418-817E-4458D801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DF7D82-5E95-41C5-9469-A142032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8FD928-F007-4764-A068-AB89F8D5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A5022B8-D750-4EFC-A3EB-BECCD8C46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762845-BBFE-49D3-83B3-871E21093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E4AB-4F5C-415B-8FB1-BF8F8FA7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CC1C-D1B5-4CCD-8484-AA4DAD23D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C2EA-D1C7-4C31-A7A2-9264427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591A3-004F-41A1-984C-12B96E59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C6F6-0C7A-4096-8B5B-B4CE2EA4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ECA4-71C9-4999-93EE-A5742264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E73D-4C63-4095-84E1-3277F5E5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D3337-54B8-49B9-9CCF-C46ECE82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BAF9-1E56-4D3E-975D-546507F4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1F2E-87E6-4AF0-B5F6-E036AFD5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EC063-36D9-4EA5-BCCB-08A1C242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01A9A-D030-4E0B-BBF4-7E39CA9E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5642-3107-4B67-80C5-E96509AF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48EF7-E94D-40C8-A595-A52EE8AC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FEB2E-F3D6-406C-AC78-5D99ECF7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973F-06DE-431E-B8E4-AAB53C51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994F-5DB4-4CE7-B3A3-8B578320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A2506-B3BA-485C-BA89-5D21CFC0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89B5-E6DF-4D0B-B993-E7AA5E10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9138F-6C67-4F52-AA0E-3F58FFAB9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00E3F-1673-45FE-A54B-FD0ECDA0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CDFAB-20AF-4D94-8F58-CECCD90E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869FF-D45D-47AD-85B2-DA185356C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960AF-CDC8-415A-8F26-DCC80FC15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D21D-475A-43F0-AE9C-46E74B52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2C199-9ADA-4A87-9C0F-BDACA73A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52F5-2A4E-4D71-BD78-AACF5941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875F3-9015-451B-83A1-FDA1607E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E2973-F4E3-4B43-8716-495E1533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2B06D-04B2-43BC-8FFA-51AEADEA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3231-23ED-43AE-BB9F-FB4A940F5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D0F2C-0334-42D0-8269-F88E328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77428-9173-45E7-B79E-84FA351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1BBF0-3575-46D5-8293-62BCC7D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1C0A6-F6C4-40F1-B5E4-D8D54C31D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2BB05-E04B-4B81-9080-F813A847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EDD94-9F99-4B94-8FFF-F50991094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2B14-84CF-4D4D-BEA5-EEEB5B48C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9CC90D-AD83-4A63-965E-B681522E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89B52-F61C-4DD5-A466-452C774D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CCED9-8261-4509-9BA3-33B5B5BCF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6FB37-6EAA-444D-84B0-93C54145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308EA-2904-4F06-AB9E-F33FD064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DF2FB-7D64-444A-8D7B-7082C67B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E9BF2-29F7-4AD2-985A-52B4EBFF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3F74E-D652-4B22-92E9-C582AC6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6B9FF-DD0D-4C35-9A65-74507800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651D6-D005-43C9-9324-FDF6DC8E5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715-B81F-4B16-AA9C-EE2863D47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3DE7A-E814-4021-AF65-C4914EBF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437156-99B3-48A7-8F15-89293656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FFA55E-41FD-42F4-9E4D-A94E7FF6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F62568-6ED8-422B-96F0-35243A51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91D2ED-D421-47B3-BE07-02FD5AB8A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142C2-2E8D-46F1-A837-31F748EE8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97ED55-F45D-4EA8-AAC7-144E923A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546A79-990A-4CF6-927C-061A5B6C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708349-BD6E-4D01-AEC5-A35840CE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C7B46B-7433-4B6B-B54C-F24DC5F1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BAED-B984-4C1E-B3DA-762D3697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EA030-785E-4731-9C18-F742A516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5CC0F8-8619-4C7F-A953-650DD6613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6A0D5B-C495-40D2-8324-C3D45A784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A0163-C4CF-4D36-96B5-04867FCE5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0654C-6A6A-4E07-8570-E21F000D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B2D6C-45F1-4DDF-865E-6442732F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1039C-178B-484B-A5A0-27F330F0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C3CAA-9E66-4FDA-A4A1-515866E4A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67E4D-9FBF-4AB2-8B06-3A48930D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39E0B-88E7-4423-9B6D-6CBD25A6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DF0-E0CE-49A7-828E-38E8F96B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F79E1-87E2-4A3C-BBCC-067B54A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8995F-1118-415D-ABB4-8A929C1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ADB96-6826-4DE1-BA71-E0549B2D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0F6BD-66AB-42CA-9A03-837F33D8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3C99A-71DA-4C0C-8206-FE594288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18F00-185A-4B83-9086-A0E1D173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2B452-DAB7-4894-A8B4-57AC9772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D6CCE-B8A3-4526-8680-664D80FE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FA825-E2DD-4CAE-94ED-AF8A1CF8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C11D8-3A73-4797-BE47-8AC81427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AEF3-10B3-45CE-8138-D3CB1598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C301A-A503-42E1-A08B-7A300473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598AC-849C-46E5-BAE2-D9A173B2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88E0F8-97F7-4ABE-B32F-0F5D5AE4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257CC-7A13-420A-B62A-04147C8F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9E66A-501D-44FF-9814-5B85D2A7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270F0-24B9-4A43-AEFB-01F2A2D8B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44FBA-FF81-4787-B3D5-B72185682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93E814-8112-4BC1-A6C5-5D9CE552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69074-1653-4CDA-A809-B88BEABF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580A5-590A-49D3-811F-E3F7AA1A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1BA-C328-4EDB-B366-48267F1624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82F9-CA3A-4929-BE62-2B3F42344A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CACA-2E05-4D6E-8203-B7155A74A7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201E-0F99-4B05-99AA-EC098DB189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2632-96E3-4101-AF4C-FD0F4AF866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9773-27DD-47CD-8B09-4AAAA292BC9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34CA-118E-4A5C-B669-2E1856059B2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5E24-50EF-47F0-A43B-0A007485FB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64EA-2E8E-478F-B17A-643AE1C7BC8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C5A9-B532-4B79-A104-6EC2A410F8A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359-643E-435D-A97C-1DFF7413F15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D282-3BF6-4311-A26C-C49E387B17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0827-4903-4968-B3F0-1A019048F9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image" Target="../media/image7.png"/><Relationship Id="rId7" Type="http://schemas.openxmlformats.org/officeDocument/2006/relationships/image" Target="../media/image12.png"/><Relationship Id="rId8" Type="http://schemas.openxmlformats.org/officeDocument/2006/relationships/image" Target="../media/image3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1.png"/><Relationship Id="rId6" Type="http://schemas.openxmlformats.org/officeDocument/2006/relationships/image" Target="../media/image41.png"/><Relationship Id="rId7" Type="http://schemas.openxmlformats.org/officeDocument/2006/relationships/image" Target="../media/image41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image" Target="../media/image48.png"/><Relationship Id="rId10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3.png"/><Relationship Id="rId3" Type="http://schemas.openxmlformats.org/officeDocument/2006/relationships/image" Target="../media/image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92160"/>
            <a:ext cx="3500640" cy="89532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3"/>
          <p:cNvGrpSpPr/>
          <p:nvPr/>
        </p:nvGrpSpPr>
        <p:grpSpPr>
          <a:xfrm>
            <a:off x="357120" y="2357280"/>
            <a:ext cx="3143160" cy="3357000"/>
            <a:chOff x="357120" y="2357280"/>
            <a:chExt cx="3143160" cy="3357000"/>
          </a:xfrm>
        </p:grpSpPr>
        <p:grpSp>
          <p:nvGrpSpPr>
            <p:cNvPr id="768" name="그룹 55"/>
            <p:cNvGrpSpPr/>
            <p:nvPr/>
          </p:nvGrpSpPr>
          <p:grpSpPr>
            <a:xfrm>
              <a:off x="357120" y="2357280"/>
              <a:ext cx="3138120" cy="3357000"/>
              <a:chOff x="357120" y="2357280"/>
              <a:chExt cx="3138120" cy="3357000"/>
            </a:xfrm>
          </p:grpSpPr>
          <p:grpSp>
            <p:nvGrpSpPr>
              <p:cNvPr id="769" name="Group 92"/>
              <p:cNvGrpSpPr/>
              <p:nvPr/>
            </p:nvGrpSpPr>
            <p:grpSpPr>
              <a:xfrm>
                <a:off x="357120" y="2357280"/>
                <a:ext cx="3138120" cy="3357000"/>
                <a:chOff x="357120" y="2357280"/>
                <a:chExt cx="3138120" cy="3357000"/>
              </a:xfrm>
            </p:grpSpPr>
            <p:sp>
              <p:nvSpPr>
                <p:cNvPr id="770" name="AutoShape 93"/>
                <p:cNvSpPr/>
                <p:nvPr/>
              </p:nvSpPr>
              <p:spPr>
                <a:xfrm>
                  <a:off x="357120" y="2357280"/>
                  <a:ext cx="3138120" cy="3357000"/>
                </a:xfrm>
                <a:custGeom>
                  <a:avLst/>
                  <a:gdLst>
                    <a:gd name="textAreaLeft" fmla="*/ 153000 w 3138120"/>
                    <a:gd name="textAreaRight" fmla="*/ 2985120 w 3138120"/>
                    <a:gd name="textAreaTop" fmla="*/ 153000 h 3357000"/>
                    <a:gd name="textAreaBottom" fmla="*/ 3204000 h 3357000"/>
                  </a:gdLst>
                  <a:ahLst/>
                  <a:rect l="textAreaLeft" t="textAreaTop" r="textAreaRight" b="textAreaBottom"/>
                  <a:pathLst>
                    <a:path w="21600" h="23106">
                      <a:moveTo>
                        <a:pt x="3600" y="0"/>
                      </a:moveTo>
                      <a:arcTo wR="3600" hR="3600" stAng="16200000" swAng="-5400000"/>
                      <a:lnTo>
                        <a:pt x="0" y="19506"/>
                      </a:lnTo>
                      <a:arcTo wR="3600" hR="3600" stAng="10800000" swAng="-5400000"/>
                      <a:lnTo>
                        <a:pt x="18000" y="23106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002060"/>
                </a:solidFill>
                <a:ln w="9360">
                  <a:solidFill>
                    <a:srgbClr val="a04da3"/>
                  </a:solidFill>
                  <a:miter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Rectangle 94"/>
                <p:cNvSpPr/>
                <p:nvPr/>
              </p:nvSpPr>
              <p:spPr>
                <a:xfrm>
                  <a:off x="357120" y="2357280"/>
                  <a:ext cx="581040" cy="1566720"/>
                </a:xfrm>
                <a:prstGeom prst="rect">
                  <a:avLst/>
                </a:prstGeom>
                <a:solidFill>
                  <a:srgbClr val="002060"/>
                </a:solidFill>
                <a:ln w="0">
                  <a:noFill/>
                </a:ln>
                <a:effectLst>
                  <a:outerShdw dist="12600" dir="5400000" blurRad="0" rotWithShape="0">
                    <a:srgbClr val="000000">
                      <a:alpha val="4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2" name="Group 95"/>
              <p:cNvGrpSpPr/>
              <p:nvPr/>
            </p:nvGrpSpPr>
            <p:grpSpPr>
              <a:xfrm>
                <a:off x="429480" y="2441160"/>
                <a:ext cx="2994480" cy="3217680"/>
                <a:chOff x="429480" y="2441160"/>
                <a:chExt cx="2994480" cy="3217680"/>
              </a:xfrm>
            </p:grpSpPr>
            <p:sp>
              <p:nvSpPr>
                <p:cNvPr id="773" name="AutoShape 96"/>
                <p:cNvSpPr/>
                <p:nvPr/>
              </p:nvSpPr>
              <p:spPr>
                <a:xfrm>
                  <a:off x="429480" y="2441160"/>
                  <a:ext cx="2994480" cy="3217680"/>
                </a:xfrm>
                <a:custGeom>
                  <a:avLst/>
                  <a:gdLst>
                    <a:gd name="textAreaLeft" fmla="*/ 146160 w 2994480"/>
                    <a:gd name="textAreaRight" fmla="*/ 2848320 w 2994480"/>
                    <a:gd name="textAreaTop" fmla="*/ 146160 h 3217680"/>
                    <a:gd name="textAreaBottom" fmla="*/ 3071520 h 3217680"/>
                  </a:gdLst>
                  <a:ahLst/>
                  <a:rect l="textAreaLeft" t="textAreaTop" r="textAreaRight" b="textAreaBottom"/>
                  <a:pathLst>
                    <a:path w="21600" h="23210">
                      <a:moveTo>
                        <a:pt x="3600" y="0"/>
                      </a:moveTo>
                      <a:arcTo wR="3600" hR="3600" stAng="16200000" swAng="-5400000"/>
                      <a:lnTo>
                        <a:pt x="0" y="19610"/>
                      </a:lnTo>
                      <a:arcTo wR="3600" hR="3600" stAng="10800000" swAng="-5400000"/>
                      <a:lnTo>
                        <a:pt x="18000" y="23210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Rectangle 97"/>
                <p:cNvSpPr/>
                <p:nvPr/>
              </p:nvSpPr>
              <p:spPr>
                <a:xfrm>
                  <a:off x="429480" y="2441160"/>
                  <a:ext cx="555120" cy="1487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5" name="Line 98"/>
              <p:cNvSpPr/>
              <p:nvPr/>
            </p:nvSpPr>
            <p:spPr>
              <a:xfrm>
                <a:off x="570960" y="3143160"/>
                <a:ext cx="2686680" cy="0"/>
              </a:xfrm>
              <a:prstGeom prst="line">
                <a:avLst/>
              </a:prstGeom>
              <a:ln w="12600">
                <a:solidFill>
                  <a:srgbClr val="783a7a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76" name="직사각형 5" descr=""/>
            <p:cNvPicPr/>
            <p:nvPr/>
          </p:nvPicPr>
          <p:blipFill>
            <a:blip r:embed="rId2"/>
            <a:stretch/>
          </p:blipFill>
          <p:spPr>
            <a:xfrm>
              <a:off x="402120" y="2401560"/>
              <a:ext cx="2179080" cy="105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7" name="직사각형 6" descr=""/>
            <p:cNvPicPr/>
            <p:nvPr/>
          </p:nvPicPr>
          <p:blipFill>
            <a:blip r:embed="rId3"/>
            <a:stretch/>
          </p:blipFill>
          <p:spPr>
            <a:xfrm>
              <a:off x="493200" y="3315960"/>
              <a:ext cx="3007080" cy="171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8" name="직사각형 45"/>
          <p:cNvSpPr/>
          <p:nvPr/>
        </p:nvSpPr>
        <p:spPr>
          <a:xfrm>
            <a:off x="5009040" y="2344680"/>
            <a:ext cx="20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196960" y="3267000"/>
            <a:ext cx="24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에 대한 최근 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직사각형 45"/>
          <p:cNvSpPr/>
          <p:nvPr/>
        </p:nvSpPr>
        <p:spPr>
          <a:xfrm>
            <a:off x="4815000" y="418788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능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2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0EE22-751B-4B71-A02C-E7B72BF1BF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19" name="그룹 56"/>
          <p:cNvGrpSpPr/>
          <p:nvPr/>
        </p:nvGrpSpPr>
        <p:grpSpPr>
          <a:xfrm>
            <a:off x="214200" y="2297160"/>
            <a:ext cx="8820360" cy="3603600"/>
            <a:chOff x="214200" y="2297160"/>
            <a:chExt cx="8820360" cy="3603600"/>
          </a:xfrm>
        </p:grpSpPr>
        <p:sp>
          <p:nvSpPr>
            <p:cNvPr id="1120" name="Text Box 126"/>
            <p:cNvSpPr/>
            <p:nvPr/>
          </p:nvSpPr>
          <p:spPr>
            <a:xfrm>
              <a:off x="5813640" y="2297160"/>
              <a:ext cx="3220920" cy="36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8000"/>
                  </a:solidFill>
                  <a:latin typeface="휴먼모음T"/>
                  <a:ea typeface="휴먼모음T"/>
                </a:rPr>
                <a:t>문항의 표현양식에 따른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문항을 문자로 표현한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언어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림이나 도형으로 문항을 구성한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작성 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기능을 수행하도록 요구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Text Box 131"/>
            <p:cNvSpPr/>
            <p:nvPr/>
          </p:nvSpPr>
          <p:spPr>
            <a:xfrm>
              <a:off x="214200" y="2334960"/>
              <a:ext cx="3357720" cy="32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336699"/>
                  </a:solidFill>
                  <a:latin typeface="휴먼모음T"/>
                  <a:ea typeface="휴먼모음T"/>
                </a:rPr>
                <a:t>실시방식을 기준으로 한 분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별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한 명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를 대상으로 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집단검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한 명의 검사자가 여러 명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피검사자들을 대상으로 동시에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20600" indent="-120600">
                <a:lnSpc>
                  <a:spcPts val="998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시하는 검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2" name="그룹 56"/>
            <p:cNvGrpSpPr/>
            <p:nvPr/>
          </p:nvGrpSpPr>
          <p:grpSpPr>
            <a:xfrm>
              <a:off x="3110040" y="3204000"/>
              <a:ext cx="2820240" cy="2259000"/>
              <a:chOff x="3110040" y="3204000"/>
              <a:chExt cx="2820240" cy="2259000"/>
            </a:xfrm>
          </p:grpSpPr>
          <p:sp>
            <p:nvSpPr>
              <p:cNvPr id="1123" name="AutoShape 103"/>
              <p:cNvSpPr/>
              <p:nvPr/>
            </p:nvSpPr>
            <p:spPr>
              <a:xfrm flipH="1" rot="4130400">
                <a:off x="3371040" y="346680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9534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AutoShape 97"/>
              <p:cNvSpPr/>
              <p:nvPr/>
            </p:nvSpPr>
            <p:spPr>
              <a:xfrm rot="17399400">
                <a:off x="3953160" y="3448080"/>
                <a:ext cx="1732680" cy="1733760"/>
              </a:xfrm>
              <a:prstGeom prst="pie">
                <a:avLst/>
              </a:prstGeom>
              <a:gradFill rotWithShape="0">
                <a:gsLst>
                  <a:gs pos="0">
                    <a:srgbClr val="0099cc"/>
                  </a:gs>
                  <a:gs pos="100000">
                    <a:srgbClr val="00465e"/>
                  </a:gs>
                </a:gsLst>
                <a:lin ang="96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AutoShape 102"/>
              <p:cNvSpPr/>
              <p:nvPr/>
            </p:nvSpPr>
            <p:spPr>
              <a:xfrm flipH="1" rot="9468600">
                <a:off x="3372480" y="3466800"/>
                <a:ext cx="1732320" cy="1733040"/>
              </a:xfrm>
              <a:prstGeom prst="pi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475e00"/>
                  </a:gs>
                </a:gsLst>
                <a:lin ang="14868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슬라이드 번호 개체 틀 1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E875-3C3B-4923-90AF-0EF71D64527A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28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29" name="직사각형 17"/>
              <p:cNvSpPr/>
              <p:nvPr/>
            </p:nvSpPr>
            <p:spPr>
              <a:xfrm>
                <a:off x="1419120" y="1386360"/>
                <a:ext cx="1312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검사의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32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3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3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5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6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7" name="그룹 24"/>
          <p:cNvGrpSpPr/>
          <p:nvPr/>
        </p:nvGrpSpPr>
        <p:grpSpPr>
          <a:xfrm>
            <a:off x="142920" y="3225960"/>
            <a:ext cx="5670360" cy="2170080"/>
            <a:chOff x="142920" y="3225960"/>
            <a:chExt cx="5670360" cy="2170080"/>
          </a:xfrm>
        </p:grpSpPr>
        <p:grpSp>
          <p:nvGrpSpPr>
            <p:cNvPr id="1138" name="타원 19"/>
            <p:cNvGrpSpPr/>
            <p:nvPr/>
          </p:nvGrpSpPr>
          <p:grpSpPr>
            <a:xfrm>
              <a:off x="142920" y="3225960"/>
              <a:ext cx="226080" cy="218160"/>
              <a:chOff x="142920" y="3225960"/>
              <a:chExt cx="226080" cy="218160"/>
            </a:xfrm>
          </p:grpSpPr>
          <p:pic>
            <p:nvPicPr>
              <p:cNvPr id="1139" name="타원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142920" y="322596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0" name=""/>
              <p:cNvSpPr/>
              <p:nvPr/>
            </p:nvSpPr>
            <p:spPr>
              <a:xfrm rot="10800000">
                <a:off x="225000" y="32803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1" name="타원 20"/>
            <p:cNvGrpSpPr/>
            <p:nvPr/>
          </p:nvGrpSpPr>
          <p:grpSpPr>
            <a:xfrm>
              <a:off x="142920" y="4305240"/>
              <a:ext cx="226080" cy="218160"/>
              <a:chOff x="142920" y="4305240"/>
              <a:chExt cx="226080" cy="218160"/>
            </a:xfrm>
          </p:grpSpPr>
          <p:pic>
            <p:nvPicPr>
              <p:cNvPr id="1142" name="타원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920" y="4305240"/>
                <a:ext cx="22608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3" name=""/>
              <p:cNvSpPr/>
              <p:nvPr/>
            </p:nvSpPr>
            <p:spPr>
              <a:xfrm rot="10800000">
                <a:off x="225000" y="43567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타원 21"/>
            <p:cNvGrpSpPr/>
            <p:nvPr/>
          </p:nvGrpSpPr>
          <p:grpSpPr>
            <a:xfrm>
              <a:off x="5592960" y="3271680"/>
              <a:ext cx="220320" cy="218160"/>
              <a:chOff x="5592960" y="3271680"/>
              <a:chExt cx="220320" cy="218160"/>
            </a:xfrm>
          </p:grpSpPr>
          <p:pic>
            <p:nvPicPr>
              <p:cNvPr id="1145" name="타원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5592960" y="32716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6" name=""/>
              <p:cNvSpPr/>
              <p:nvPr/>
            </p:nvSpPr>
            <p:spPr>
              <a:xfrm rot="10800000">
                <a:off x="5669640" y="332208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7" name="타원 22"/>
            <p:cNvGrpSpPr/>
            <p:nvPr/>
          </p:nvGrpSpPr>
          <p:grpSpPr>
            <a:xfrm>
              <a:off x="5592960" y="4104360"/>
              <a:ext cx="220320" cy="218160"/>
              <a:chOff x="5592960" y="4104360"/>
              <a:chExt cx="220320" cy="218160"/>
            </a:xfrm>
          </p:grpSpPr>
          <p:pic>
            <p:nvPicPr>
              <p:cNvPr id="1148" name="타원 22" descr=""/>
              <p:cNvPicPr/>
              <p:nvPr/>
            </p:nvPicPr>
            <p:blipFill>
              <a:blip r:embed="rId6"/>
              <a:stretch/>
            </p:blipFill>
            <p:spPr>
              <a:xfrm>
                <a:off x="5592960" y="410436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49" name=""/>
              <p:cNvSpPr/>
              <p:nvPr/>
            </p:nvSpPr>
            <p:spPr>
              <a:xfrm rot="10800000">
                <a:off x="5669640" y="415476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타원 23"/>
            <p:cNvGrpSpPr/>
            <p:nvPr/>
          </p:nvGrpSpPr>
          <p:grpSpPr>
            <a:xfrm>
              <a:off x="5592960" y="5177880"/>
              <a:ext cx="220320" cy="218160"/>
              <a:chOff x="5592960" y="5177880"/>
              <a:chExt cx="220320" cy="218160"/>
            </a:xfrm>
          </p:grpSpPr>
          <p:pic>
            <p:nvPicPr>
              <p:cNvPr id="1151" name="타원 23" descr=""/>
              <p:cNvPicPr/>
              <p:nvPr/>
            </p:nvPicPr>
            <p:blipFill>
              <a:blip r:embed="rId7"/>
              <a:stretch/>
            </p:blipFill>
            <p:spPr>
              <a:xfrm>
                <a:off x="5592960" y="5177880"/>
                <a:ext cx="220320" cy="21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52" name=""/>
              <p:cNvSpPr/>
              <p:nvPr/>
            </p:nvSpPr>
            <p:spPr>
              <a:xfrm rot="10800000">
                <a:off x="5669640" y="5231520"/>
                <a:ext cx="67680" cy="6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154" name="TextBox 38"/>
          <p:cNvSpPr/>
          <p:nvPr/>
        </p:nvSpPr>
        <p:spPr>
          <a:xfrm>
            <a:off x="-2922840" y="5873760"/>
            <a:ext cx="23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슬라이드 번호 개체 틀 38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96B5-BDFE-4372-ADAD-2116D78E66B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6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15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58" name="직사각형 47"/>
              <p:cNvSpPr/>
              <p:nvPr/>
            </p:nvSpPr>
            <p:spPr>
              <a:xfrm>
                <a:off x="1252440" y="13863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직선 연결선 4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61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6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4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5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6" name="그룹 37"/>
          <p:cNvGrpSpPr/>
          <p:nvPr/>
        </p:nvGrpSpPr>
        <p:grpSpPr>
          <a:xfrm>
            <a:off x="214200" y="1857240"/>
            <a:ext cx="8501040" cy="1143000"/>
            <a:chOff x="214200" y="1857240"/>
            <a:chExt cx="8501040" cy="1143000"/>
          </a:xfrm>
        </p:grpSpPr>
        <p:grpSp>
          <p:nvGrpSpPr>
            <p:cNvPr id="1167" name="그룹 37"/>
            <p:cNvGrpSpPr/>
            <p:nvPr/>
          </p:nvGrpSpPr>
          <p:grpSpPr>
            <a:xfrm>
              <a:off x="214200" y="1857240"/>
              <a:ext cx="8501040" cy="1143000"/>
              <a:chOff x="214200" y="1857240"/>
              <a:chExt cx="8501040" cy="1143000"/>
            </a:xfrm>
          </p:grpSpPr>
          <p:grpSp>
            <p:nvGrpSpPr>
              <p:cNvPr id="1168" name="그룹 91"/>
              <p:cNvGrpSpPr/>
              <p:nvPr/>
            </p:nvGrpSpPr>
            <p:grpSpPr>
              <a:xfrm>
                <a:off x="214200" y="2071440"/>
                <a:ext cx="8501040" cy="928800"/>
                <a:chOff x="214200" y="2071440"/>
                <a:chExt cx="8501040" cy="928800"/>
              </a:xfrm>
            </p:grpSpPr>
            <p:pic>
              <p:nvPicPr>
                <p:cNvPr id="1169" name="Picture 5" descr="233"/>
                <p:cNvPicPr/>
                <p:nvPr/>
              </p:nvPicPr>
              <p:blipFill>
                <a:blip r:embed="rId3"/>
                <a:srcRect l="0" t="0" r="24313" b="0"/>
                <a:stretch/>
              </p:blipFill>
              <p:spPr>
                <a:xfrm>
                  <a:off x="214200" y="2071440"/>
                  <a:ext cx="8501040" cy="92880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70" name="직사각형 61"/>
                <p:cNvSpPr/>
                <p:nvPr/>
              </p:nvSpPr>
              <p:spPr>
                <a:xfrm>
                  <a:off x="1214280" y="23364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인이 지능검사에서 얻은 점수를 특정 연령집단의 평균과 비교하여 표시한 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1" name="그룹 44"/>
              <p:cNvGrpSpPr/>
              <p:nvPr/>
            </p:nvGrpSpPr>
            <p:grpSpPr>
              <a:xfrm>
                <a:off x="856800" y="1857240"/>
                <a:ext cx="7574040" cy="551160"/>
                <a:chOff x="856800" y="1857240"/>
                <a:chExt cx="7574040" cy="551160"/>
              </a:xfrm>
            </p:grpSpPr>
            <p:grpSp>
              <p:nvGrpSpPr>
                <p:cNvPr id="1172" name="그룹 91"/>
                <p:cNvGrpSpPr/>
                <p:nvPr/>
              </p:nvGrpSpPr>
              <p:grpSpPr>
                <a:xfrm>
                  <a:off x="856800" y="1857240"/>
                  <a:ext cx="2558520" cy="551160"/>
                  <a:chOff x="856800" y="1857240"/>
                  <a:chExt cx="2558520" cy="551160"/>
                </a:xfrm>
              </p:grpSpPr>
              <p:grpSp>
                <p:nvGrpSpPr>
                  <p:cNvPr id="1173" name="그룹 34"/>
                  <p:cNvGrpSpPr/>
                  <p:nvPr/>
                </p:nvGrpSpPr>
                <p:grpSpPr>
                  <a:xfrm>
                    <a:off x="856800" y="1966680"/>
                    <a:ext cx="349200" cy="362160"/>
                    <a:chOff x="856800" y="1966680"/>
                    <a:chExt cx="349200" cy="362160"/>
                  </a:xfrm>
                </p:grpSpPr>
                <p:pic>
                  <p:nvPicPr>
                    <p:cNvPr id="1174" name="Picture 177" descr="bull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6800" y="197460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75" name="TextBox 36"/>
                    <p:cNvSpPr/>
                    <p:nvPr/>
                  </p:nvSpPr>
                  <p:spPr>
                    <a:xfrm>
                      <a:off x="884880" y="1966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6" name="직사각형 57"/>
                  <p:cNvSpPr/>
                  <p:nvPr/>
                </p:nvSpPr>
                <p:spPr>
                  <a:xfrm>
                    <a:off x="1368000" y="1857240"/>
                    <a:ext cx="20473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mental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ag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7" name="직선 연결선 55"/>
                <p:cNvSpPr/>
                <p:nvPr/>
              </p:nvSpPr>
              <p:spPr>
                <a:xfrm>
                  <a:off x="4212720" y="2143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8" name="타원 51"/>
            <p:cNvGrpSpPr/>
            <p:nvPr/>
          </p:nvGrpSpPr>
          <p:grpSpPr>
            <a:xfrm>
              <a:off x="993240" y="2499120"/>
              <a:ext cx="225360" cy="237600"/>
              <a:chOff x="993240" y="2499120"/>
              <a:chExt cx="225360" cy="237600"/>
            </a:xfrm>
          </p:grpSpPr>
          <p:pic>
            <p:nvPicPr>
              <p:cNvPr id="1179" name="타원 51" descr=""/>
              <p:cNvPicPr/>
              <p:nvPr/>
            </p:nvPicPr>
            <p:blipFill>
              <a:blip r:embed="rId5"/>
              <a:stretch/>
            </p:blipFill>
            <p:spPr>
              <a:xfrm>
                <a:off x="993240" y="2499120"/>
                <a:ext cx="225360" cy="23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0" name=""/>
              <p:cNvSpPr/>
              <p:nvPr/>
            </p:nvSpPr>
            <p:spPr>
              <a:xfrm rot="10800000">
                <a:off x="1073520" y="2558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1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1182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1183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1184" name="Picture 5" descr="233"/>
                <p:cNvPicPr/>
                <p:nvPr/>
              </p:nvPicPr>
              <p:blipFill>
                <a:blip r:embed="rId6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1185" name="직사각형 8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검사에서 얻는 점수를 동년배와 상대적으로 비교하여 나타낸 지능지수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6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1187" name="그룹 91"/>
                <p:cNvGrpSpPr/>
                <p:nvPr/>
              </p:nvGrpSpPr>
              <p:grpSpPr>
                <a:xfrm>
                  <a:off x="856800" y="5143680"/>
                  <a:ext cx="4905000" cy="551160"/>
                  <a:chOff x="856800" y="5143680"/>
                  <a:chExt cx="4905000" cy="551160"/>
                </a:xfrm>
              </p:grpSpPr>
              <p:grpSp>
                <p:nvGrpSpPr>
                  <p:cNvPr id="1188" name="그룹 34"/>
                  <p:cNvGrpSpPr/>
                  <p:nvPr/>
                </p:nvGrpSpPr>
                <p:grpSpPr>
                  <a:xfrm>
                    <a:off x="856800" y="5253120"/>
                    <a:ext cx="349200" cy="361800"/>
                    <a:chOff x="856800" y="5253120"/>
                    <a:chExt cx="349200" cy="361800"/>
                  </a:xfrm>
                </p:grpSpPr>
                <p:pic>
                  <p:nvPicPr>
                    <p:cNvPr id="1189" name="Picture 177" descr="bull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56800" y="5260680"/>
                      <a:ext cx="349200" cy="35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1190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1" name="직사각형 84"/>
                  <p:cNvSpPr/>
                  <p:nvPr/>
                </p:nvSpPr>
                <p:spPr>
                  <a:xfrm>
                    <a:off x="1591560" y="5143680"/>
                    <a:ext cx="4170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편차지능지수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deviation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 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intelligence quotient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2" name="직선 연결선 82"/>
                <p:cNvSpPr/>
                <p:nvPr/>
              </p:nvSpPr>
              <p:spPr>
                <a:xfrm>
                  <a:off x="6335280" y="5421240"/>
                  <a:ext cx="2095560" cy="936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3" name="타원 78"/>
            <p:cNvGrpSpPr/>
            <p:nvPr/>
          </p:nvGrpSpPr>
          <p:grpSpPr>
            <a:xfrm>
              <a:off x="993240" y="5815800"/>
              <a:ext cx="225360" cy="231480"/>
              <a:chOff x="993240" y="5815800"/>
              <a:chExt cx="225360" cy="231480"/>
            </a:xfrm>
          </p:grpSpPr>
          <p:pic>
            <p:nvPicPr>
              <p:cNvPr id="1194" name="타원 78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5815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5" name=""/>
              <p:cNvSpPr/>
              <p:nvPr/>
            </p:nvSpPr>
            <p:spPr>
              <a:xfrm rot="10800000">
                <a:off x="1073520" y="5872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6" name="그룹 98"/>
          <p:cNvGrpSpPr/>
          <p:nvPr/>
        </p:nvGrpSpPr>
        <p:grpSpPr>
          <a:xfrm>
            <a:off x="214200" y="3178080"/>
            <a:ext cx="8501040" cy="1859040"/>
            <a:chOff x="214200" y="3178080"/>
            <a:chExt cx="8501040" cy="1859040"/>
          </a:xfrm>
        </p:grpSpPr>
        <p:grpSp>
          <p:nvGrpSpPr>
            <p:cNvPr id="1197" name="그룹 37"/>
            <p:cNvGrpSpPr/>
            <p:nvPr/>
          </p:nvGrpSpPr>
          <p:grpSpPr>
            <a:xfrm>
              <a:off x="214200" y="3178080"/>
              <a:ext cx="8501040" cy="1859040"/>
              <a:chOff x="214200" y="3178080"/>
              <a:chExt cx="8501040" cy="1859040"/>
            </a:xfrm>
          </p:grpSpPr>
          <p:grpSp>
            <p:nvGrpSpPr>
              <p:cNvPr id="1198" name="그룹 37"/>
              <p:cNvGrpSpPr/>
              <p:nvPr/>
            </p:nvGrpSpPr>
            <p:grpSpPr>
              <a:xfrm>
                <a:off x="214200" y="3178080"/>
                <a:ext cx="8501040" cy="1859040"/>
                <a:chOff x="214200" y="3178080"/>
                <a:chExt cx="8501040" cy="1859040"/>
              </a:xfrm>
            </p:grpSpPr>
            <p:grpSp>
              <p:nvGrpSpPr>
                <p:cNvPr id="1199" name="그룹 91"/>
                <p:cNvGrpSpPr/>
                <p:nvPr/>
              </p:nvGrpSpPr>
              <p:grpSpPr>
                <a:xfrm>
                  <a:off x="214200" y="3392280"/>
                  <a:ext cx="8501040" cy="1644840"/>
                  <a:chOff x="214200" y="3392280"/>
                  <a:chExt cx="8501040" cy="1644840"/>
                </a:xfrm>
              </p:grpSpPr>
              <p:pic>
                <p:nvPicPr>
                  <p:cNvPr id="1200" name="Picture 5" descr="233"/>
                  <p:cNvPicPr/>
                  <p:nvPr/>
                </p:nvPicPr>
                <p:blipFill>
                  <a:blip r:embed="rId9"/>
                  <a:srcRect l="0" t="0" r="24313" b="0"/>
                  <a:stretch/>
                </p:blipFill>
                <p:spPr>
                  <a:xfrm>
                    <a:off x="214200" y="3392280"/>
                    <a:ext cx="8501040" cy="1644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71785" dir="2700000" blurRad="0" rotWithShape="0">
                      <a:srgbClr val="808080">
                        <a:alpha val="50000"/>
                      </a:srgbClr>
                    </a:outerShdw>
                  </a:effectLst>
                </p:spPr>
              </p:pic>
              <p:sp>
                <p:nvSpPr>
                  <p:cNvPr id="1201" name="직사각형 74"/>
                  <p:cNvSpPr/>
                  <p:nvPr/>
                </p:nvSpPr>
                <p:spPr>
                  <a:xfrm>
                    <a:off x="1214280" y="3657240"/>
                    <a:ext cx="7500960" cy="505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18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은 생활연령의 비로 나타낸 지능지수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02" name="그룹 44"/>
                <p:cNvGrpSpPr/>
                <p:nvPr/>
              </p:nvGrpSpPr>
              <p:grpSpPr>
                <a:xfrm>
                  <a:off x="856800" y="3178080"/>
                  <a:ext cx="7574040" cy="551160"/>
                  <a:chOff x="856800" y="3178080"/>
                  <a:chExt cx="7574040" cy="551160"/>
                </a:xfrm>
              </p:grpSpPr>
              <p:grpSp>
                <p:nvGrpSpPr>
                  <p:cNvPr id="1203" name="그룹 91"/>
                  <p:cNvGrpSpPr/>
                  <p:nvPr/>
                </p:nvGrpSpPr>
                <p:grpSpPr>
                  <a:xfrm>
                    <a:off x="856800" y="3178080"/>
                    <a:ext cx="4433040" cy="551160"/>
                    <a:chOff x="856800" y="3178080"/>
                    <a:chExt cx="4433040" cy="551160"/>
                  </a:xfrm>
                </p:grpSpPr>
                <p:grpSp>
                  <p:nvGrpSpPr>
                    <p:cNvPr id="1204" name="그룹 34"/>
                    <p:cNvGrpSpPr/>
                    <p:nvPr/>
                  </p:nvGrpSpPr>
                  <p:grpSpPr>
                    <a:xfrm>
                      <a:off x="856800" y="3287520"/>
                      <a:ext cx="349200" cy="362520"/>
                      <a:chOff x="856800" y="3287520"/>
                      <a:chExt cx="349200" cy="362520"/>
                    </a:xfrm>
                  </p:grpSpPr>
                  <p:pic>
                    <p:nvPicPr>
                      <p:cNvPr id="1205" name="Picture 177" descr="bull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856800" y="3291480"/>
                        <a:ext cx="349200" cy="358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1206" name="TextBox 36"/>
                      <p:cNvSpPr/>
                      <p:nvPr/>
                    </p:nvSpPr>
                    <p:spPr>
                      <a:xfrm>
                        <a:off x="884880" y="328752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000000"/>
                            </a:solidFill>
                            <a:latin typeface="HY헤드라인M"/>
                            <a:ea typeface="HY헤드라인M"/>
                          </a:rPr>
                          <a:t>2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207" name="직사각형 70"/>
                    <p:cNvSpPr/>
                    <p:nvPr/>
                  </p:nvSpPr>
                  <p:spPr>
                    <a:xfrm>
                      <a:off x="1555560" y="3178080"/>
                      <a:ext cx="3734280" cy="5511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비율지능지수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ratio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intelligence quotien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8" name="직선 연결선 68"/>
                  <p:cNvSpPr/>
                  <p:nvPr/>
                </p:nvSpPr>
                <p:spPr>
                  <a:xfrm>
                    <a:off x="5827320" y="3456000"/>
                    <a:ext cx="2603520" cy="9360"/>
                  </a:xfrm>
                  <a:prstGeom prst="line">
                    <a:avLst/>
                  </a:prstGeom>
                  <a:ln w="9360">
                    <a:solidFill>
                      <a:srgbClr val="7f7f7f"/>
                    </a:solidFill>
                    <a:prstDash val="dash"/>
                    <a:miter/>
                    <a:tailEnd len="med" type="diamond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9" name="타원 64"/>
              <p:cNvGrpSpPr/>
              <p:nvPr/>
            </p:nvGrpSpPr>
            <p:grpSpPr>
              <a:xfrm>
                <a:off x="993240" y="3822120"/>
                <a:ext cx="225360" cy="231480"/>
                <a:chOff x="993240" y="3822120"/>
                <a:chExt cx="225360" cy="231480"/>
              </a:xfrm>
            </p:grpSpPr>
            <p:pic>
              <p:nvPicPr>
                <p:cNvPr id="1210" name="타원 64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993240" y="382212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1" name=""/>
                <p:cNvSpPr/>
                <p:nvPr/>
              </p:nvSpPr>
              <p:spPr>
                <a:xfrm rot="10800000">
                  <a:off x="1073520" y="3880080"/>
                  <a:ext cx="69120" cy="6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2" name="그룹 97"/>
            <p:cNvGrpSpPr/>
            <p:nvPr/>
          </p:nvGrpSpPr>
          <p:grpSpPr>
            <a:xfrm>
              <a:off x="5572080" y="3786120"/>
              <a:ext cx="3000240" cy="1001160"/>
              <a:chOff x="5572080" y="3786120"/>
              <a:chExt cx="3000240" cy="1001160"/>
            </a:xfrm>
          </p:grpSpPr>
          <p:grpSp>
            <p:nvGrpSpPr>
              <p:cNvPr id="1213" name="모서리가 둥근 직사각형 89"/>
              <p:cNvGrpSpPr/>
              <p:nvPr/>
            </p:nvGrpSpPr>
            <p:grpSpPr>
              <a:xfrm>
                <a:off x="5572080" y="3786120"/>
                <a:ext cx="3000240" cy="1001160"/>
                <a:chOff x="5572080" y="3786120"/>
                <a:chExt cx="3000240" cy="1001160"/>
              </a:xfrm>
            </p:grpSpPr>
            <p:pic>
              <p:nvPicPr>
                <p:cNvPr id="1214" name="모서리가 둥근 직사각형 8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572080" y="3786120"/>
                  <a:ext cx="3000240" cy="100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5" name=""/>
                <p:cNvSpPr/>
                <p:nvPr/>
              </p:nvSpPr>
              <p:spPr>
                <a:xfrm>
                  <a:off x="5735520" y="3918240"/>
                  <a:ext cx="2680560" cy="723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6" name="그룹 48"/>
              <p:cNvGrpSpPr/>
              <p:nvPr/>
            </p:nvGrpSpPr>
            <p:grpSpPr>
              <a:xfrm>
                <a:off x="5756400" y="4006800"/>
                <a:ext cx="2638800" cy="654120"/>
                <a:chOff x="5756400" y="4006800"/>
                <a:chExt cx="2638800" cy="654120"/>
              </a:xfrm>
            </p:grpSpPr>
            <p:sp>
              <p:nvSpPr>
                <p:cNvPr id="1217" name="TextBox 41"/>
                <p:cNvSpPr/>
                <p:nvPr/>
              </p:nvSpPr>
              <p:spPr>
                <a:xfrm>
                  <a:off x="5756400" y="4140000"/>
                  <a:ext cx="6595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IQ =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TextBox 42"/>
                <p:cNvSpPr/>
                <p:nvPr/>
              </p:nvSpPr>
              <p:spPr>
                <a:xfrm>
                  <a:off x="7603560" y="4140000"/>
                  <a:ext cx="791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x 100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그룹 47"/>
                <p:cNvGrpSpPr/>
                <p:nvPr/>
              </p:nvGrpSpPr>
              <p:grpSpPr>
                <a:xfrm>
                  <a:off x="6283800" y="4006800"/>
                  <a:ext cx="1385640" cy="654120"/>
                  <a:chOff x="6283800" y="4006800"/>
                  <a:chExt cx="1385640" cy="654120"/>
                </a:xfrm>
              </p:grpSpPr>
              <p:sp>
                <p:nvSpPr>
                  <p:cNvPr id="1220" name="TextBox 43"/>
                  <p:cNvSpPr/>
                  <p:nvPr/>
                </p:nvSpPr>
                <p:spPr>
                  <a:xfrm>
                    <a:off x="6350040" y="43236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C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생활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Box 44"/>
                  <p:cNvSpPr/>
                  <p:nvPr/>
                </p:nvSpPr>
                <p:spPr>
                  <a:xfrm>
                    <a:off x="6350040" y="4006800"/>
                    <a:ext cx="13194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MA(</a:t>
                    </a:r>
                    <a:r>
                      <a:rPr b="0" lang="ko-KR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정신연령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모음T"/>
                        <a:ea typeface="휴먼모음T"/>
                      </a:rPr>
                      <a:t>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직선 연결선 46"/>
                  <p:cNvSpPr/>
                  <p:nvPr/>
                </p:nvSpPr>
                <p:spPr>
                  <a:xfrm flipH="1" flipV="1">
                    <a:off x="6283800" y="4286520"/>
                    <a:ext cx="1263240" cy="1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223" name="타원 63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1224" name="타원 63" descr=""/>
            <p:cNvPicPr/>
            <p:nvPr/>
          </p:nvPicPr>
          <p:blipFill>
            <a:blip r:embed="rId13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6" name="직사각형 65"/>
          <p:cNvSpPr/>
          <p:nvPr/>
        </p:nvSpPr>
        <p:spPr>
          <a:xfrm>
            <a:off x="1214280" y="603396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점수가 어느 위치에 해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28" name="슬라이드 번호 개체 틀 21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D278-0B83-495E-B557-6291DBA552B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그룹 91"/>
          <p:cNvGrpSpPr/>
          <p:nvPr/>
        </p:nvGrpSpPr>
        <p:grpSpPr>
          <a:xfrm>
            <a:off x="285840" y="1785960"/>
            <a:ext cx="8501040" cy="4071960"/>
            <a:chOff x="285840" y="1785960"/>
            <a:chExt cx="8501040" cy="4071960"/>
          </a:xfrm>
        </p:grpSpPr>
        <p:pic>
          <p:nvPicPr>
            <p:cNvPr id="1230" name="Picture 5" descr="233"/>
            <p:cNvPicPr/>
            <p:nvPr/>
          </p:nvPicPr>
          <p:blipFill>
            <a:blip r:embed="rId2"/>
            <a:srcRect l="0" t="0" r="24313" b="0"/>
            <a:stretch/>
          </p:blipFill>
          <p:spPr>
            <a:xfrm>
              <a:off x="285840" y="1785960"/>
              <a:ext cx="8501040" cy="407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31" name="직사각형 32"/>
            <p:cNvSpPr/>
            <p:nvPr/>
          </p:nvSpPr>
          <p:spPr>
            <a:xfrm>
              <a:off x="1285920" y="2455920"/>
              <a:ext cx="7500960" cy="46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그룹 43"/>
          <p:cNvGrpSpPr/>
          <p:nvPr/>
        </p:nvGrpSpPr>
        <p:grpSpPr>
          <a:xfrm>
            <a:off x="928800" y="2222640"/>
            <a:ext cx="2973240" cy="551160"/>
            <a:chOff x="928800" y="2222640"/>
            <a:chExt cx="2973240" cy="551160"/>
          </a:xfrm>
        </p:grpSpPr>
        <p:grpSp>
          <p:nvGrpSpPr>
            <p:cNvPr id="1233" name="그룹 34"/>
            <p:cNvGrpSpPr/>
            <p:nvPr/>
          </p:nvGrpSpPr>
          <p:grpSpPr>
            <a:xfrm>
              <a:off x="928800" y="2319480"/>
              <a:ext cx="349200" cy="374760"/>
              <a:chOff x="928800" y="2319480"/>
              <a:chExt cx="349200" cy="374760"/>
            </a:xfrm>
          </p:grpSpPr>
          <p:pic>
            <p:nvPicPr>
              <p:cNvPr id="1234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928800" y="2340360"/>
                <a:ext cx="34920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5" name="TextBox 36"/>
              <p:cNvSpPr/>
              <p:nvPr/>
            </p:nvSpPr>
            <p:spPr>
              <a:xfrm>
                <a:off x="956160" y="23194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36" name="직사각형 28"/>
            <p:cNvSpPr/>
            <p:nvPr/>
          </p:nvSpPr>
          <p:spPr>
            <a:xfrm>
              <a:off x="1784160" y="22226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는 지능과 다르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7" name="Picture 33" descr="C:\Documents and Settings\신형수\Local Settings\Temporary Internet Files\Content.IE5\WCQ5N9GP\MCj03200320000[1].wmf"/>
          <p:cNvPicPr/>
          <p:nvPr/>
        </p:nvPicPr>
        <p:blipFill>
          <a:blip r:embed="rId4"/>
          <a:stretch/>
        </p:blipFill>
        <p:spPr>
          <a:xfrm>
            <a:off x="7924680" y="4992840"/>
            <a:ext cx="1060560" cy="1126800"/>
          </a:xfrm>
          <a:prstGeom prst="rect">
            <a:avLst/>
          </a:prstGeom>
          <a:ln w="0">
            <a:noFill/>
          </a:ln>
        </p:spPr>
      </p:pic>
      <p:grpSp>
        <p:nvGrpSpPr>
          <p:cNvPr id="1238" name="그룹 44"/>
          <p:cNvGrpSpPr/>
          <p:nvPr/>
        </p:nvGrpSpPr>
        <p:grpSpPr>
          <a:xfrm>
            <a:off x="928800" y="3083040"/>
            <a:ext cx="4079880" cy="551160"/>
            <a:chOff x="928800" y="3083040"/>
            <a:chExt cx="4079880" cy="551160"/>
          </a:xfrm>
        </p:grpSpPr>
        <p:grpSp>
          <p:nvGrpSpPr>
            <p:cNvPr id="1239" name="그룹 34"/>
            <p:cNvGrpSpPr/>
            <p:nvPr/>
          </p:nvGrpSpPr>
          <p:grpSpPr>
            <a:xfrm>
              <a:off x="928800" y="3179880"/>
              <a:ext cx="349200" cy="374760"/>
              <a:chOff x="928800" y="3179880"/>
              <a:chExt cx="349200" cy="374760"/>
            </a:xfrm>
          </p:grpSpPr>
          <p:pic>
            <p:nvPicPr>
              <p:cNvPr id="1240" name="Picture 177" descr="bull"/>
              <p:cNvPicPr/>
              <p:nvPr/>
            </p:nvPicPr>
            <p:blipFill>
              <a:blip r:embed="rId5"/>
              <a:stretch/>
            </p:blipFill>
            <p:spPr>
              <a:xfrm>
                <a:off x="928800" y="32000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1" name="TextBox 36"/>
              <p:cNvSpPr/>
              <p:nvPr/>
            </p:nvSpPr>
            <p:spPr>
              <a:xfrm>
                <a:off x="956160" y="3179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직사각형 46"/>
            <p:cNvSpPr/>
            <p:nvPr/>
          </p:nvSpPr>
          <p:spPr>
            <a:xfrm>
              <a:off x="2063520" y="3083040"/>
              <a:ext cx="2945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지수가 시간경과에 따라 변화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그룹 49"/>
          <p:cNvGrpSpPr/>
          <p:nvPr/>
        </p:nvGrpSpPr>
        <p:grpSpPr>
          <a:xfrm>
            <a:off x="928800" y="3943440"/>
            <a:ext cx="5065560" cy="551160"/>
            <a:chOff x="928800" y="3943440"/>
            <a:chExt cx="5065560" cy="551160"/>
          </a:xfrm>
        </p:grpSpPr>
        <p:grpSp>
          <p:nvGrpSpPr>
            <p:cNvPr id="1244" name="그룹 34"/>
            <p:cNvGrpSpPr/>
            <p:nvPr/>
          </p:nvGrpSpPr>
          <p:grpSpPr>
            <a:xfrm>
              <a:off x="928800" y="4040280"/>
              <a:ext cx="349200" cy="374760"/>
              <a:chOff x="928800" y="4040280"/>
              <a:chExt cx="349200" cy="374760"/>
            </a:xfrm>
          </p:grpSpPr>
          <p:pic>
            <p:nvPicPr>
              <p:cNvPr id="1245" name="Picture 177" descr="bull"/>
              <p:cNvPicPr/>
              <p:nvPr/>
            </p:nvPicPr>
            <p:blipFill>
              <a:blip r:embed="rId6"/>
              <a:stretch/>
            </p:blipFill>
            <p:spPr>
              <a:xfrm>
                <a:off x="928800" y="4059720"/>
                <a:ext cx="349200" cy="35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6" name="TextBox 36"/>
              <p:cNvSpPr/>
              <p:nvPr/>
            </p:nvSpPr>
            <p:spPr>
              <a:xfrm>
                <a:off x="956160" y="4040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7" name="직사각형 51"/>
            <p:cNvSpPr/>
            <p:nvPr/>
          </p:nvSpPr>
          <p:spPr>
            <a:xfrm>
              <a:off x="2308320" y="3943440"/>
              <a:ext cx="36860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가 중요한 능력을 모두 측정하지 못한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8" name="그룹 54"/>
          <p:cNvGrpSpPr/>
          <p:nvPr/>
        </p:nvGrpSpPr>
        <p:grpSpPr>
          <a:xfrm>
            <a:off x="928800" y="4803840"/>
            <a:ext cx="2973240" cy="551160"/>
            <a:chOff x="928800" y="4803840"/>
            <a:chExt cx="2973240" cy="551160"/>
          </a:xfrm>
        </p:grpSpPr>
        <p:grpSp>
          <p:nvGrpSpPr>
            <p:cNvPr id="1249" name="그룹 34"/>
            <p:cNvGrpSpPr/>
            <p:nvPr/>
          </p:nvGrpSpPr>
          <p:grpSpPr>
            <a:xfrm>
              <a:off x="928800" y="4900680"/>
              <a:ext cx="349200" cy="374760"/>
              <a:chOff x="928800" y="4900680"/>
              <a:chExt cx="349200" cy="374760"/>
            </a:xfrm>
          </p:grpSpPr>
          <p:pic>
            <p:nvPicPr>
              <p:cNvPr id="125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928800" y="4919040"/>
                <a:ext cx="349200" cy="35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1" name="TextBox 36"/>
              <p:cNvSpPr/>
              <p:nvPr/>
            </p:nvSpPr>
            <p:spPr>
              <a:xfrm>
                <a:off x="956160" y="49006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2" name="직사각형 56"/>
            <p:cNvSpPr/>
            <p:nvPr/>
          </p:nvSpPr>
          <p:spPr>
            <a:xfrm>
              <a:off x="1784160" y="4803840"/>
              <a:ext cx="21178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지능검사는 공정하지 않다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54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55" name="직사각형 66"/>
              <p:cNvSpPr/>
              <p:nvPr/>
            </p:nvSpPr>
            <p:spPr>
              <a:xfrm>
                <a:off x="1536120" y="1386360"/>
                <a:ext cx="1683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에 대한 오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직선 연결선 67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58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9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60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61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2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3" name="TextBox 9" descr=""/>
          <p:cNvPicPr/>
          <p:nvPr/>
        </p:nvPicPr>
        <p:blipFill>
          <a:blip r:embed="rId1"/>
          <a:stretch/>
        </p:blipFill>
        <p:spPr>
          <a:xfrm>
            <a:off x="6583320" y="506520"/>
            <a:ext cx="2316240" cy="590400"/>
          </a:xfrm>
          <a:prstGeom prst="rect">
            <a:avLst/>
          </a:prstGeom>
          <a:ln w="0">
            <a:noFill/>
          </a:ln>
        </p:spPr>
      </p:pic>
      <p:sp>
        <p:nvSpPr>
          <p:cNvPr id="1264" name="슬라이드 번호 개체 틀 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4D86-5AFC-428B-AA9C-255B8578511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26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267" name="직사각형 12"/>
              <p:cNvSpPr/>
              <p:nvPr/>
            </p:nvSpPr>
            <p:spPr>
              <a:xfrm>
                <a:off x="1653120" y="1386360"/>
                <a:ext cx="205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지능지수 해석 시 유의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직선 연결선 13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27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27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그룹 39"/>
          <p:cNvGrpSpPr/>
          <p:nvPr/>
        </p:nvGrpSpPr>
        <p:grpSpPr>
          <a:xfrm>
            <a:off x="642960" y="2000160"/>
            <a:ext cx="8728200" cy="4000680"/>
            <a:chOff x="642960" y="2000160"/>
            <a:chExt cx="8728200" cy="4000680"/>
          </a:xfrm>
        </p:grpSpPr>
        <p:grpSp>
          <p:nvGrpSpPr>
            <p:cNvPr id="1276" name="그룹 123"/>
            <p:cNvGrpSpPr/>
            <p:nvPr/>
          </p:nvGrpSpPr>
          <p:grpSpPr>
            <a:xfrm>
              <a:off x="642960" y="2000160"/>
              <a:ext cx="8728200" cy="4000680"/>
              <a:chOff x="642960" y="2000160"/>
              <a:chExt cx="8728200" cy="4000680"/>
            </a:xfrm>
          </p:grpSpPr>
          <p:pic>
            <p:nvPicPr>
              <p:cNvPr id="1277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2000160"/>
                <a:ext cx="8072640" cy="40006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78" name="직사각형 19"/>
              <p:cNvSpPr/>
              <p:nvPr/>
            </p:nvSpPr>
            <p:spPr>
              <a:xfrm>
                <a:off x="869760" y="2071440"/>
                <a:ext cx="850140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는 상대적 지적 수준을 나타낸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의 지적 능력을 나타내는 지표는 매우 다양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 동일하더라도 하위요인은 다를 수 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능지수가 높다고 해서 학업성적이 반드시 높은 것은 아니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Q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만을 기준으로 하여 중요한 의사결정을 내리지 말아야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9" name="타원 20"/>
              <p:cNvGrpSpPr/>
              <p:nvPr/>
            </p:nvGrpSpPr>
            <p:grpSpPr>
              <a:xfrm>
                <a:off x="908280" y="2432160"/>
                <a:ext cx="225360" cy="231480"/>
                <a:chOff x="908280" y="2432160"/>
                <a:chExt cx="225360" cy="231480"/>
              </a:xfrm>
            </p:grpSpPr>
            <p:pic>
              <p:nvPicPr>
                <p:cNvPr id="1280" name="타원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08280" y="2432160"/>
                  <a:ext cx="22536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1" name=""/>
                <p:cNvSpPr/>
                <p:nvPr/>
              </p:nvSpPr>
              <p:spPr>
                <a:xfrm rot="10800000">
                  <a:off x="987480" y="24876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2" name="타원 16"/>
            <p:cNvGrpSpPr/>
            <p:nvPr/>
          </p:nvGrpSpPr>
          <p:grpSpPr>
            <a:xfrm>
              <a:off x="908280" y="3145320"/>
              <a:ext cx="225360" cy="231480"/>
              <a:chOff x="908280" y="3145320"/>
              <a:chExt cx="225360" cy="231480"/>
            </a:xfrm>
          </p:grpSpPr>
          <p:pic>
            <p:nvPicPr>
              <p:cNvPr id="1283" name="타원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908280" y="3145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 rot="10800000">
                <a:off x="987480" y="32018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5" name="타원 17"/>
            <p:cNvGrpSpPr/>
            <p:nvPr/>
          </p:nvGrpSpPr>
          <p:grpSpPr>
            <a:xfrm>
              <a:off x="908280" y="5218200"/>
              <a:ext cx="225360" cy="231480"/>
              <a:chOff x="908280" y="5218200"/>
              <a:chExt cx="225360" cy="231480"/>
            </a:xfrm>
          </p:grpSpPr>
          <p:pic>
            <p:nvPicPr>
              <p:cNvPr id="1286" name="타원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908280" y="52182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 rot="10800000">
                <a:off x="987480" y="5274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8" name="타원 21"/>
            <p:cNvGrpSpPr/>
            <p:nvPr/>
          </p:nvGrpSpPr>
          <p:grpSpPr>
            <a:xfrm>
              <a:off x="908280" y="3816000"/>
              <a:ext cx="225360" cy="231480"/>
              <a:chOff x="908280" y="3816000"/>
              <a:chExt cx="225360" cy="231480"/>
            </a:xfrm>
          </p:grpSpPr>
          <p:pic>
            <p:nvPicPr>
              <p:cNvPr id="1289" name="타원 21" descr=""/>
              <p:cNvPicPr/>
              <p:nvPr/>
            </p:nvPicPr>
            <p:blipFill>
              <a:blip r:embed="rId7"/>
              <a:stretch/>
            </p:blipFill>
            <p:spPr>
              <a:xfrm>
                <a:off x="908280" y="381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3871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1" name="타원 22"/>
            <p:cNvGrpSpPr/>
            <p:nvPr/>
          </p:nvGrpSpPr>
          <p:grpSpPr>
            <a:xfrm>
              <a:off x="908280" y="4529520"/>
              <a:ext cx="225360" cy="231480"/>
              <a:chOff x="908280" y="4529520"/>
              <a:chExt cx="225360" cy="231480"/>
            </a:xfrm>
          </p:grpSpPr>
          <p:pic>
            <p:nvPicPr>
              <p:cNvPr id="1292" name="타원 22" descr=""/>
              <p:cNvPicPr/>
              <p:nvPr/>
            </p:nvPicPr>
            <p:blipFill>
              <a:blip r:embed="rId8"/>
              <a:stretch/>
            </p:blipFill>
            <p:spPr>
              <a:xfrm>
                <a:off x="908280" y="45295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3" name=""/>
              <p:cNvSpPr/>
              <p:nvPr/>
            </p:nvSpPr>
            <p:spPr>
              <a:xfrm rot="10800000">
                <a:off x="987480" y="45864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94" name="Picture 67" descr="C:\Users\ET-27\AppData\Local\Microsoft\Windows\Temporary Internet Files\Content.IE5\EK0NU43Q\MPj04386780000[1].jpg"/>
          <p:cNvPicPr/>
          <p:nvPr/>
        </p:nvPicPr>
        <p:blipFill>
          <a:blip r:embed="rId9"/>
          <a:stretch/>
        </p:blipFill>
        <p:spPr>
          <a:xfrm>
            <a:off x="8064360" y="5499000"/>
            <a:ext cx="9399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784" name="슬라이드 번호 개체 틀 38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9FD96-DF55-4180-B596-E5D97A31C3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5" name="그룹 35"/>
          <p:cNvGrpSpPr/>
          <p:nvPr/>
        </p:nvGrpSpPr>
        <p:grpSpPr>
          <a:xfrm>
            <a:off x="642960" y="1143000"/>
            <a:ext cx="8429760" cy="455760"/>
            <a:chOff x="642960" y="1143000"/>
            <a:chExt cx="8429760" cy="455760"/>
          </a:xfrm>
        </p:grpSpPr>
        <p:grpSp>
          <p:nvGrpSpPr>
            <p:cNvPr id="786" name="그룹 48"/>
            <p:cNvGrpSpPr/>
            <p:nvPr/>
          </p:nvGrpSpPr>
          <p:grpSpPr>
            <a:xfrm>
              <a:off x="642960" y="1197360"/>
              <a:ext cx="8429760" cy="401400"/>
              <a:chOff x="642960" y="1197360"/>
              <a:chExt cx="8429760" cy="401400"/>
            </a:xfrm>
          </p:grpSpPr>
          <p:sp>
            <p:nvSpPr>
              <p:cNvPr id="787" name="직사각형 13"/>
              <p:cNvSpPr/>
              <p:nvPr/>
            </p:nvSpPr>
            <p:spPr>
              <a:xfrm>
                <a:off x="1488600" y="1197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측정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직선 연결선 18"/>
              <p:cNvSpPr/>
              <p:nvPr/>
            </p:nvSpPr>
            <p:spPr>
              <a:xfrm>
                <a:off x="642960" y="159732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9" name="그룹 49"/>
            <p:cNvGrpSpPr/>
            <p:nvPr/>
          </p:nvGrpSpPr>
          <p:grpSpPr>
            <a:xfrm>
              <a:off x="671400" y="1206360"/>
              <a:ext cx="328320" cy="319320"/>
              <a:chOff x="671400" y="1206360"/>
              <a:chExt cx="328320" cy="319320"/>
            </a:xfrm>
          </p:grpSpPr>
          <p:sp>
            <p:nvSpPr>
              <p:cNvPr id="790" name="AutoShape 4"/>
              <p:cNvSpPr/>
              <p:nvPr/>
            </p:nvSpPr>
            <p:spPr>
              <a:xfrm>
                <a:off x="671400" y="120636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" name="Freeform 5"/>
              <p:cNvGrpSpPr/>
              <p:nvPr/>
            </p:nvGrpSpPr>
            <p:grpSpPr>
              <a:xfrm>
                <a:off x="688680" y="1218960"/>
                <a:ext cx="170640" cy="176760"/>
                <a:chOff x="688680" y="1218960"/>
                <a:chExt cx="170640" cy="176760"/>
              </a:xfrm>
            </p:grpSpPr>
            <p:pic>
              <p:nvPicPr>
                <p:cNvPr id="79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218960"/>
                  <a:ext cx="170640" cy="17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3" name=""/>
                <p:cNvSpPr/>
                <p:nvPr/>
              </p:nvSpPr>
              <p:spPr>
                <a:xfrm>
                  <a:off x="691920" y="122724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4" name="TextBox 88"/>
            <p:cNvSpPr/>
            <p:nvPr/>
          </p:nvSpPr>
          <p:spPr>
            <a:xfrm>
              <a:off x="658080" y="1143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5" name="그룹 43"/>
          <p:cNvGrpSpPr/>
          <p:nvPr/>
        </p:nvGrpSpPr>
        <p:grpSpPr>
          <a:xfrm>
            <a:off x="571680" y="1785960"/>
            <a:ext cx="8072280" cy="1058760"/>
            <a:chOff x="571680" y="1785960"/>
            <a:chExt cx="8072280" cy="1058760"/>
          </a:xfrm>
        </p:grpSpPr>
        <p:pic>
          <p:nvPicPr>
            <p:cNvPr id="79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785960"/>
              <a:ext cx="8072280" cy="1058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7" name="타원 49"/>
            <p:cNvGrpSpPr/>
            <p:nvPr/>
          </p:nvGrpSpPr>
          <p:grpSpPr>
            <a:xfrm>
              <a:off x="859680" y="2103120"/>
              <a:ext cx="225360" cy="231480"/>
              <a:chOff x="859680" y="2103120"/>
              <a:chExt cx="225360" cy="231480"/>
            </a:xfrm>
          </p:grpSpPr>
          <p:pic>
            <p:nvPicPr>
              <p:cNvPr id="798" name="타원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031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 rot="10800000">
                <a:off x="943200" y="2157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직사각형 50"/>
            <p:cNvSpPr/>
            <p:nvPr/>
          </p:nvSpPr>
          <p:spPr>
            <a:xfrm>
              <a:off x="903240" y="18316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을 측정하여 지능지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IQ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로 나타내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를 비교하여 개인차를 진단하는 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주력하는 접근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1" name="그룹 37"/>
          <p:cNvGrpSpPr/>
          <p:nvPr/>
        </p:nvGrpSpPr>
        <p:grpSpPr>
          <a:xfrm>
            <a:off x="214200" y="3000240"/>
            <a:ext cx="8501040" cy="2000520"/>
            <a:chOff x="214200" y="3000240"/>
            <a:chExt cx="8501040" cy="2000520"/>
          </a:xfrm>
        </p:grpSpPr>
        <p:grpSp>
          <p:nvGrpSpPr>
            <p:cNvPr id="802" name="그룹 37"/>
            <p:cNvGrpSpPr/>
            <p:nvPr/>
          </p:nvGrpSpPr>
          <p:grpSpPr>
            <a:xfrm>
              <a:off x="214200" y="3000240"/>
              <a:ext cx="8501040" cy="2000520"/>
              <a:chOff x="214200" y="3000240"/>
              <a:chExt cx="8501040" cy="2000520"/>
            </a:xfrm>
          </p:grpSpPr>
          <p:grpSp>
            <p:nvGrpSpPr>
              <p:cNvPr id="803" name="그룹 91"/>
              <p:cNvGrpSpPr/>
              <p:nvPr/>
            </p:nvGrpSpPr>
            <p:grpSpPr>
              <a:xfrm>
                <a:off x="214200" y="3214440"/>
                <a:ext cx="8501040" cy="1786320"/>
                <a:chOff x="214200" y="3214440"/>
                <a:chExt cx="8501040" cy="1786320"/>
              </a:xfrm>
            </p:grpSpPr>
            <p:pic>
              <p:nvPicPr>
                <p:cNvPr id="804" name="Picture 5" descr="233"/>
                <p:cNvPicPr/>
                <p:nvPr/>
              </p:nvPicPr>
              <p:blipFill>
                <a:blip r:embed="rId5"/>
                <a:srcRect l="0" t="0" r="24313" b="0"/>
                <a:stretch/>
              </p:blipFill>
              <p:spPr>
                <a:xfrm>
                  <a:off x="214200" y="3214440"/>
                  <a:ext cx="8501040" cy="178632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05" name="직사각형 64"/>
                <p:cNvSpPr/>
                <p:nvPr/>
              </p:nvSpPr>
              <p:spPr>
                <a:xfrm>
                  <a:off x="1214280" y="3479400"/>
                  <a:ext cx="7500960" cy="146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g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일반적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능력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2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수요인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(s factor): 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특정과제의 해결에만 적용되는 요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일반요인으로 구성되는 단일능력이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6" name="그룹 44"/>
              <p:cNvGrpSpPr/>
              <p:nvPr/>
            </p:nvGrpSpPr>
            <p:grpSpPr>
              <a:xfrm>
                <a:off x="856800" y="3000240"/>
                <a:ext cx="7574040" cy="551160"/>
                <a:chOff x="856800" y="3000240"/>
                <a:chExt cx="7574040" cy="551160"/>
              </a:xfrm>
            </p:grpSpPr>
            <p:grpSp>
              <p:nvGrpSpPr>
                <p:cNvPr id="807" name="그룹 91"/>
                <p:cNvGrpSpPr/>
                <p:nvPr/>
              </p:nvGrpSpPr>
              <p:grpSpPr>
                <a:xfrm>
                  <a:off x="856800" y="3000240"/>
                  <a:ext cx="2524680" cy="551160"/>
                  <a:chOff x="856800" y="3000240"/>
                  <a:chExt cx="2524680" cy="551160"/>
                </a:xfrm>
              </p:grpSpPr>
              <p:grpSp>
                <p:nvGrpSpPr>
                  <p:cNvPr id="808" name="그룹 34"/>
                  <p:cNvGrpSpPr/>
                  <p:nvPr/>
                </p:nvGrpSpPr>
                <p:grpSpPr>
                  <a:xfrm>
                    <a:off x="856800" y="3109680"/>
                    <a:ext cx="349200" cy="362160"/>
                    <a:chOff x="856800" y="3109680"/>
                    <a:chExt cx="349200" cy="362160"/>
                  </a:xfrm>
                </p:grpSpPr>
                <p:pic>
                  <p:nvPicPr>
                    <p:cNvPr id="809" name="Picture 177" descr="bull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56800" y="3114360"/>
                      <a:ext cx="349200" cy="357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10" name="TextBox 36"/>
                    <p:cNvSpPr/>
                    <p:nvPr/>
                  </p:nvSpPr>
                  <p:spPr>
                    <a:xfrm>
                      <a:off x="884880" y="31096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1" name="직사각형 60"/>
                  <p:cNvSpPr/>
                  <p:nvPr/>
                </p:nvSpPr>
                <p:spPr>
                  <a:xfrm>
                    <a:off x="1347840" y="3000240"/>
                    <a:ext cx="20336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이요인설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Sprearman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12" name="직선 연결선 58"/>
                <p:cNvSpPr/>
                <p:nvPr/>
              </p:nvSpPr>
              <p:spPr>
                <a:xfrm>
                  <a:off x="4212720" y="32860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3" name="타원 53"/>
            <p:cNvGrpSpPr/>
            <p:nvPr/>
          </p:nvGrpSpPr>
          <p:grpSpPr>
            <a:xfrm>
              <a:off x="993240" y="3645360"/>
              <a:ext cx="225360" cy="231480"/>
              <a:chOff x="993240" y="3645360"/>
              <a:chExt cx="225360" cy="231480"/>
            </a:xfrm>
          </p:grpSpPr>
          <p:pic>
            <p:nvPicPr>
              <p:cNvPr id="814" name="타원 53" descr=""/>
              <p:cNvPicPr/>
              <p:nvPr/>
            </p:nvPicPr>
            <p:blipFill>
              <a:blip r:embed="rId7"/>
              <a:stretch/>
            </p:blipFill>
            <p:spPr>
              <a:xfrm>
                <a:off x="993240" y="364536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5" name=""/>
              <p:cNvSpPr/>
              <p:nvPr/>
            </p:nvSpPr>
            <p:spPr>
              <a:xfrm rot="10800000">
                <a:off x="1073520" y="37022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6" name="타원 54"/>
            <p:cNvGrpSpPr/>
            <p:nvPr/>
          </p:nvGrpSpPr>
          <p:grpSpPr>
            <a:xfrm>
              <a:off x="993240" y="4645440"/>
              <a:ext cx="225360" cy="231480"/>
              <a:chOff x="993240" y="4645440"/>
              <a:chExt cx="225360" cy="231480"/>
            </a:xfrm>
          </p:grpSpPr>
          <p:pic>
            <p:nvPicPr>
              <p:cNvPr id="817" name="타원 54" descr=""/>
              <p:cNvPicPr/>
              <p:nvPr/>
            </p:nvPicPr>
            <p:blipFill>
              <a:blip r:embed="rId8"/>
              <a:stretch/>
            </p:blipFill>
            <p:spPr>
              <a:xfrm>
                <a:off x="993240" y="46454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8" name=""/>
              <p:cNvSpPr/>
              <p:nvPr/>
            </p:nvSpPr>
            <p:spPr>
              <a:xfrm rot="10800000">
                <a:off x="1073520" y="4702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9" name="그룹 37"/>
          <p:cNvGrpSpPr/>
          <p:nvPr/>
        </p:nvGrpSpPr>
        <p:grpSpPr>
          <a:xfrm>
            <a:off x="214200" y="5143680"/>
            <a:ext cx="8501040" cy="1428480"/>
            <a:chOff x="214200" y="5143680"/>
            <a:chExt cx="8501040" cy="1428480"/>
          </a:xfrm>
        </p:grpSpPr>
        <p:grpSp>
          <p:nvGrpSpPr>
            <p:cNvPr id="820" name="그룹 37"/>
            <p:cNvGrpSpPr/>
            <p:nvPr/>
          </p:nvGrpSpPr>
          <p:grpSpPr>
            <a:xfrm>
              <a:off x="214200" y="5143680"/>
              <a:ext cx="8501040" cy="1428480"/>
              <a:chOff x="214200" y="5143680"/>
              <a:chExt cx="8501040" cy="1428480"/>
            </a:xfrm>
          </p:grpSpPr>
          <p:grpSp>
            <p:nvGrpSpPr>
              <p:cNvPr id="821" name="그룹 91"/>
              <p:cNvGrpSpPr/>
              <p:nvPr/>
            </p:nvGrpSpPr>
            <p:grpSpPr>
              <a:xfrm>
                <a:off x="214200" y="5357880"/>
                <a:ext cx="8501040" cy="1214280"/>
                <a:chOff x="214200" y="5357880"/>
                <a:chExt cx="8501040" cy="1214280"/>
              </a:xfrm>
            </p:grpSpPr>
            <p:pic>
              <p:nvPicPr>
                <p:cNvPr id="822" name="Picture 5" descr="233"/>
                <p:cNvPicPr/>
                <p:nvPr/>
              </p:nvPicPr>
              <p:blipFill>
                <a:blip r:embed="rId9"/>
                <a:srcRect l="0" t="0" r="24313" b="0"/>
                <a:stretch/>
              </p:blipFill>
              <p:spPr>
                <a:xfrm>
                  <a:off x="214200" y="5357880"/>
                  <a:ext cx="8501040" cy="121428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23" name="직사각형 78"/>
                <p:cNvSpPr/>
                <p:nvPr/>
              </p:nvSpPr>
              <p:spPr>
                <a:xfrm>
                  <a:off x="1214280" y="562284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상호독립적인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7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기초정신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그룹 44"/>
              <p:cNvGrpSpPr/>
              <p:nvPr/>
            </p:nvGrpSpPr>
            <p:grpSpPr>
              <a:xfrm>
                <a:off x="856800" y="5143680"/>
                <a:ext cx="7574040" cy="551160"/>
                <a:chOff x="856800" y="5143680"/>
                <a:chExt cx="7574040" cy="551160"/>
              </a:xfrm>
            </p:grpSpPr>
            <p:grpSp>
              <p:nvGrpSpPr>
                <p:cNvPr id="825" name="그룹 91"/>
                <p:cNvGrpSpPr/>
                <p:nvPr/>
              </p:nvGrpSpPr>
              <p:grpSpPr>
                <a:xfrm>
                  <a:off x="856800" y="5143680"/>
                  <a:ext cx="2838600" cy="551160"/>
                  <a:chOff x="856800" y="5143680"/>
                  <a:chExt cx="2838600" cy="551160"/>
                </a:xfrm>
              </p:grpSpPr>
              <p:grpSp>
                <p:nvGrpSpPr>
                  <p:cNvPr id="826" name="그룹 34"/>
                  <p:cNvGrpSpPr/>
                  <p:nvPr/>
                </p:nvGrpSpPr>
                <p:grpSpPr>
                  <a:xfrm>
                    <a:off x="856800" y="5253120"/>
                    <a:ext cx="349200" cy="362520"/>
                    <a:chOff x="856800" y="5253120"/>
                    <a:chExt cx="349200" cy="362520"/>
                  </a:xfrm>
                </p:grpSpPr>
                <p:pic>
                  <p:nvPicPr>
                    <p:cNvPr id="827" name="Picture 177" descr="bull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856800" y="5260680"/>
                      <a:ext cx="349200" cy="35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28" name="TextBox 36"/>
                    <p:cNvSpPr/>
                    <p:nvPr/>
                  </p:nvSpPr>
                  <p:spPr>
                    <a:xfrm>
                      <a:off x="884880" y="5253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9" name="직사각형 74"/>
                  <p:cNvSpPr/>
                  <p:nvPr/>
                </p:nvSpPr>
                <p:spPr>
                  <a:xfrm>
                    <a:off x="1439280" y="5143680"/>
                    <a:ext cx="225612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기초정신능력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Thurstone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30" name="직선 연결선 72"/>
                <p:cNvSpPr/>
                <p:nvPr/>
              </p:nvSpPr>
              <p:spPr>
                <a:xfrm>
                  <a:off x="4212720" y="5429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31" name="타원 67"/>
            <p:cNvGrpSpPr/>
            <p:nvPr/>
          </p:nvGrpSpPr>
          <p:grpSpPr>
            <a:xfrm>
              <a:off x="993240" y="5791320"/>
              <a:ext cx="225360" cy="231480"/>
              <a:chOff x="993240" y="5791320"/>
              <a:chExt cx="225360" cy="231480"/>
            </a:xfrm>
          </p:grpSpPr>
          <p:pic>
            <p:nvPicPr>
              <p:cNvPr id="832" name="타원 67" descr=""/>
              <p:cNvPicPr/>
              <p:nvPr/>
            </p:nvPicPr>
            <p:blipFill>
              <a:blip r:embed="rId11"/>
              <a:stretch/>
            </p:blipFill>
            <p:spPr>
              <a:xfrm>
                <a:off x="993240" y="579132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3" name=""/>
              <p:cNvSpPr/>
              <p:nvPr/>
            </p:nvSpPr>
            <p:spPr>
              <a:xfrm rot="10800000">
                <a:off x="1073520" y="58456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4" name="타원 45"/>
          <p:cNvGrpSpPr/>
          <p:nvPr/>
        </p:nvGrpSpPr>
        <p:grpSpPr>
          <a:xfrm>
            <a:off x="1006560" y="6218280"/>
            <a:ext cx="225360" cy="231840"/>
            <a:chOff x="1006560" y="6218280"/>
            <a:chExt cx="225360" cy="231840"/>
          </a:xfrm>
        </p:grpSpPr>
        <p:pic>
          <p:nvPicPr>
            <p:cNvPr id="835" name="타원 45" descr=""/>
            <p:cNvPicPr/>
            <p:nvPr/>
          </p:nvPicPr>
          <p:blipFill>
            <a:blip r:embed="rId12"/>
            <a:stretch/>
          </p:blipFill>
          <p:spPr>
            <a:xfrm>
              <a:off x="1006560" y="62182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"/>
            <p:cNvSpPr/>
            <p:nvPr/>
          </p:nvSpPr>
          <p:spPr>
            <a:xfrm rot="10800000">
              <a:off x="1085760" y="62737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직사각형 46"/>
          <p:cNvSpPr/>
          <p:nvPr/>
        </p:nvSpPr>
        <p:spPr>
          <a:xfrm>
            <a:off x="1214280" y="6032520"/>
            <a:ext cx="7500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이해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유창성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리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억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간지각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각속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리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39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B32B-8CF3-4B30-820C-68964E2518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그룹 37"/>
          <p:cNvGrpSpPr/>
          <p:nvPr/>
        </p:nvGrpSpPr>
        <p:grpSpPr>
          <a:xfrm>
            <a:off x="214200" y="1714680"/>
            <a:ext cx="8501040" cy="4251240"/>
            <a:chOff x="214200" y="1714680"/>
            <a:chExt cx="8501040" cy="4251240"/>
          </a:xfrm>
        </p:grpSpPr>
        <p:grpSp>
          <p:nvGrpSpPr>
            <p:cNvPr id="841" name="그룹 37"/>
            <p:cNvGrpSpPr/>
            <p:nvPr/>
          </p:nvGrpSpPr>
          <p:grpSpPr>
            <a:xfrm>
              <a:off x="214200" y="1714680"/>
              <a:ext cx="8501040" cy="4251240"/>
              <a:chOff x="214200" y="1714680"/>
              <a:chExt cx="8501040" cy="4251240"/>
            </a:xfrm>
          </p:grpSpPr>
          <p:grpSp>
            <p:nvGrpSpPr>
              <p:cNvPr id="842" name="그룹 91"/>
              <p:cNvGrpSpPr/>
              <p:nvPr/>
            </p:nvGrpSpPr>
            <p:grpSpPr>
              <a:xfrm>
                <a:off x="214200" y="1928880"/>
                <a:ext cx="8501040" cy="4037040"/>
                <a:chOff x="214200" y="1928880"/>
                <a:chExt cx="8501040" cy="4037040"/>
              </a:xfrm>
            </p:grpSpPr>
            <p:pic>
              <p:nvPicPr>
                <p:cNvPr id="843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928880"/>
                  <a:ext cx="8501040" cy="40370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44" name="직사각형 28"/>
                <p:cNvSpPr/>
                <p:nvPr/>
              </p:nvSpPr>
              <p:spPr>
                <a:xfrm>
                  <a:off x="1214280" y="2193840"/>
                  <a:ext cx="7500960" cy="215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은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내용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5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조작차원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6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산출차원을 조합하여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만들어지는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150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개의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기본능력으로 구성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그룹 44"/>
              <p:cNvGrpSpPr/>
              <p:nvPr/>
            </p:nvGrpSpPr>
            <p:grpSpPr>
              <a:xfrm>
                <a:off x="856800" y="1714680"/>
                <a:ext cx="7574040" cy="551160"/>
                <a:chOff x="856800" y="1714680"/>
                <a:chExt cx="7574040" cy="551160"/>
              </a:xfrm>
            </p:grpSpPr>
            <p:grpSp>
              <p:nvGrpSpPr>
                <p:cNvPr id="846" name="그룹 91"/>
                <p:cNvGrpSpPr/>
                <p:nvPr/>
              </p:nvGrpSpPr>
              <p:grpSpPr>
                <a:xfrm>
                  <a:off x="856800" y="1714680"/>
                  <a:ext cx="2628360" cy="551160"/>
                  <a:chOff x="856800" y="1714680"/>
                  <a:chExt cx="2628360" cy="551160"/>
                </a:xfrm>
              </p:grpSpPr>
              <p:grpSp>
                <p:nvGrpSpPr>
                  <p:cNvPr id="847" name="그룹 34"/>
                  <p:cNvGrpSpPr/>
                  <p:nvPr/>
                </p:nvGrpSpPr>
                <p:grpSpPr>
                  <a:xfrm>
                    <a:off x="856800" y="1824120"/>
                    <a:ext cx="349200" cy="362160"/>
                    <a:chOff x="856800" y="1824120"/>
                    <a:chExt cx="349200" cy="362160"/>
                  </a:xfrm>
                </p:grpSpPr>
                <p:pic>
                  <p:nvPicPr>
                    <p:cNvPr id="848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828440"/>
                      <a:ext cx="349200" cy="357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49" name="TextBox 36"/>
                    <p:cNvSpPr/>
                    <p:nvPr/>
                  </p:nvSpPr>
                  <p:spPr>
                    <a:xfrm>
                      <a:off x="884880" y="182412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50" name="직사각형 24"/>
                  <p:cNvSpPr/>
                  <p:nvPr/>
                </p:nvSpPr>
                <p:spPr>
                  <a:xfrm>
                    <a:off x="1429920" y="1714680"/>
                    <a:ext cx="205524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지능구조모형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(Guilford)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51" name="직선 연결선 22"/>
                <p:cNvSpPr/>
                <p:nvPr/>
              </p:nvSpPr>
              <p:spPr>
                <a:xfrm>
                  <a:off x="4212720" y="200052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2" name="타원 18"/>
            <p:cNvGrpSpPr/>
            <p:nvPr/>
          </p:nvGrpSpPr>
          <p:grpSpPr>
            <a:xfrm>
              <a:off x="993240" y="2359080"/>
              <a:ext cx="225360" cy="231480"/>
              <a:chOff x="993240" y="2359080"/>
              <a:chExt cx="225360" cy="231480"/>
            </a:xfrm>
          </p:grpSpPr>
          <p:pic>
            <p:nvPicPr>
              <p:cNvPr id="85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35908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4" name=""/>
              <p:cNvSpPr/>
              <p:nvPr/>
            </p:nvSpPr>
            <p:spPr>
              <a:xfrm rot="10800000">
                <a:off x="107352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그룹 99"/>
          <p:cNvGrpSpPr/>
          <p:nvPr/>
        </p:nvGrpSpPr>
        <p:grpSpPr>
          <a:xfrm>
            <a:off x="4111560" y="2643120"/>
            <a:ext cx="4489920" cy="3101400"/>
            <a:chOff x="4111560" y="2643120"/>
            <a:chExt cx="4489920" cy="3101400"/>
          </a:xfrm>
        </p:grpSpPr>
        <p:pic>
          <p:nvPicPr>
            <p:cNvPr id="856" name="그림 75" descr="그림1.png"/>
            <p:cNvPicPr/>
            <p:nvPr/>
          </p:nvPicPr>
          <p:blipFill>
            <a:blip r:embed="rId5"/>
            <a:stretch/>
          </p:blipFill>
          <p:spPr>
            <a:xfrm>
              <a:off x="4111560" y="2747880"/>
              <a:ext cx="359640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TextBox 76"/>
            <p:cNvSpPr/>
            <p:nvPr/>
          </p:nvSpPr>
          <p:spPr>
            <a:xfrm>
              <a:off x="7788240" y="3586320"/>
              <a:ext cx="3484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유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관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체계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변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함의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TextBox 77"/>
            <p:cNvSpPr/>
            <p:nvPr/>
          </p:nvSpPr>
          <p:spPr>
            <a:xfrm>
              <a:off x="6225120" y="2643120"/>
              <a:ext cx="156312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청각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상징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미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	</a:t>
              </a:r>
              <a:r>
                <a:rPr b="0" lang="en-US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   </a:t>
              </a:r>
              <a:r>
                <a:rPr b="0" lang="ko-KR" sz="11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동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9" name="그룹 103"/>
            <p:cNvGrpSpPr/>
            <p:nvPr/>
          </p:nvGrpSpPr>
          <p:grpSpPr>
            <a:xfrm>
              <a:off x="5943600" y="4596120"/>
              <a:ext cx="1693440" cy="855360"/>
              <a:chOff x="5943600" y="4596120"/>
              <a:chExt cx="1693440" cy="855360"/>
            </a:xfrm>
          </p:grpSpPr>
          <p:sp>
            <p:nvSpPr>
              <p:cNvPr id="860" name="TextBox 94"/>
              <p:cNvSpPr/>
              <p:nvPr/>
            </p:nvSpPr>
            <p:spPr>
              <a:xfrm>
                <a:off x="594360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TextBox 95"/>
              <p:cNvSpPr/>
              <p:nvPr/>
            </p:nvSpPr>
            <p:spPr>
              <a:xfrm>
                <a:off x="630072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TextBox 96"/>
              <p:cNvSpPr/>
              <p:nvPr/>
            </p:nvSpPr>
            <p:spPr>
              <a:xfrm>
                <a:off x="66578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확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TextBox 97"/>
              <p:cNvSpPr/>
              <p:nvPr/>
            </p:nvSpPr>
            <p:spPr>
              <a:xfrm>
                <a:off x="701496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사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고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TextBox 98"/>
              <p:cNvSpPr/>
              <p:nvPr/>
            </p:nvSpPr>
            <p:spPr>
              <a:xfrm>
                <a:off x="7372440" y="4596120"/>
                <a:ext cx="26460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평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가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199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1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력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5" name="그룹 136"/>
            <p:cNvGrpSpPr/>
            <p:nvPr/>
          </p:nvGrpSpPr>
          <p:grpSpPr>
            <a:xfrm>
              <a:off x="6683400" y="2747880"/>
              <a:ext cx="1571400" cy="644400"/>
              <a:chOff x="6683400" y="2747880"/>
              <a:chExt cx="1571400" cy="644400"/>
            </a:xfrm>
          </p:grpSpPr>
          <p:sp>
            <p:nvSpPr>
              <p:cNvPr id="866" name="직선 연결선 91"/>
              <p:cNvSpPr/>
              <p:nvPr/>
            </p:nvSpPr>
            <p:spPr>
              <a:xfrm>
                <a:off x="6683400" y="274788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직선 연결선 92"/>
              <p:cNvSpPr/>
              <p:nvPr/>
            </p:nvSpPr>
            <p:spPr>
              <a:xfrm flipH="1" flipV="1">
                <a:off x="7111440" y="2747880"/>
                <a:ext cx="1143000" cy="64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직선 연결선 93"/>
              <p:cNvSpPr/>
              <p:nvPr/>
            </p:nvSpPr>
            <p:spPr>
              <a:xfrm>
                <a:off x="7826400" y="3390840"/>
                <a:ext cx="428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9" name="그룹 135"/>
            <p:cNvGrpSpPr/>
            <p:nvPr/>
          </p:nvGrpSpPr>
          <p:grpSpPr>
            <a:xfrm>
              <a:off x="8183520" y="3676680"/>
              <a:ext cx="214920" cy="858960"/>
              <a:chOff x="8183520" y="3676680"/>
              <a:chExt cx="214920" cy="858960"/>
            </a:xfrm>
          </p:grpSpPr>
          <p:sp>
            <p:nvSpPr>
              <p:cNvPr id="870" name="직선 연결선 88"/>
              <p:cNvSpPr/>
              <p:nvPr/>
            </p:nvSpPr>
            <p:spPr>
              <a:xfrm>
                <a:off x="8183520" y="367668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직선 연결선 89"/>
              <p:cNvSpPr/>
              <p:nvPr/>
            </p:nvSpPr>
            <p:spPr>
              <a:xfrm>
                <a:off x="8183520" y="4534200"/>
                <a:ext cx="21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직선 연결선 90"/>
              <p:cNvSpPr/>
              <p:nvPr/>
            </p:nvSpPr>
            <p:spPr>
              <a:xfrm flipH="1">
                <a:off x="8397000" y="3677400"/>
                <a:ext cx="1440" cy="85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3" name="TextBox 82"/>
            <p:cNvSpPr/>
            <p:nvPr/>
          </p:nvSpPr>
          <p:spPr>
            <a:xfrm>
              <a:off x="8207280" y="39686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산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4" name="그룹 137"/>
            <p:cNvGrpSpPr/>
            <p:nvPr/>
          </p:nvGrpSpPr>
          <p:grpSpPr>
            <a:xfrm>
              <a:off x="6110640" y="5490000"/>
              <a:ext cx="1415880" cy="137880"/>
              <a:chOff x="6110640" y="5490000"/>
              <a:chExt cx="1415880" cy="137880"/>
            </a:xfrm>
          </p:grpSpPr>
          <p:sp>
            <p:nvSpPr>
              <p:cNvPr id="875" name="직선 연결선 85"/>
              <p:cNvSpPr/>
              <p:nvPr/>
            </p:nvSpPr>
            <p:spPr>
              <a:xfrm flipH="1">
                <a:off x="752400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직선 연결선 86"/>
              <p:cNvSpPr/>
              <p:nvPr/>
            </p:nvSpPr>
            <p:spPr>
              <a:xfrm flipH="1">
                <a:off x="6110640" y="5490000"/>
                <a:ext cx="2520" cy="13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87"/>
              <p:cNvSpPr/>
              <p:nvPr/>
            </p:nvSpPr>
            <p:spPr>
              <a:xfrm flipH="1" flipV="1">
                <a:off x="6112080" y="5627160"/>
                <a:ext cx="1413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8" name="TextBox 84"/>
            <p:cNvSpPr/>
            <p:nvPr/>
          </p:nvSpPr>
          <p:spPr>
            <a:xfrm>
              <a:off x="6654240" y="543744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조작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TextBox 79"/>
            <p:cNvSpPr/>
            <p:nvPr/>
          </p:nvSpPr>
          <p:spPr>
            <a:xfrm>
              <a:off x="7461000" y="2890800"/>
              <a:ext cx="394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4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타원 49"/>
          <p:cNvGrpSpPr/>
          <p:nvPr/>
        </p:nvGrpSpPr>
        <p:grpSpPr>
          <a:xfrm>
            <a:off x="933480" y="4668840"/>
            <a:ext cx="225360" cy="231840"/>
            <a:chOff x="933480" y="4668840"/>
            <a:chExt cx="225360" cy="231840"/>
          </a:xfrm>
        </p:grpSpPr>
        <p:pic>
          <p:nvPicPr>
            <p:cNvPr id="881" name="타원 49" descr=""/>
            <p:cNvPicPr/>
            <p:nvPr/>
          </p:nvPicPr>
          <p:blipFill>
            <a:blip r:embed="rId6"/>
            <a:stretch/>
          </p:blipFill>
          <p:spPr>
            <a:xfrm>
              <a:off x="933480" y="466884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"/>
            <p:cNvSpPr/>
            <p:nvPr/>
          </p:nvSpPr>
          <p:spPr>
            <a:xfrm rot="10800000">
              <a:off x="1014480" y="4729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직사각형 50"/>
          <p:cNvSpPr/>
          <p:nvPr/>
        </p:nvSpPr>
        <p:spPr>
          <a:xfrm>
            <a:off x="1214280" y="4500720"/>
            <a:ext cx="364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용 측면에서 의미적 내용에 치중한 반면 나머지 내용은 상대적으로 등안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885" name="슬라이드 번호 개체 틀 5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B578-2918-4312-AE33-0F92032B66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6" name="그룹 37"/>
          <p:cNvGrpSpPr/>
          <p:nvPr/>
        </p:nvGrpSpPr>
        <p:grpSpPr>
          <a:xfrm>
            <a:off x="214200" y="1643040"/>
            <a:ext cx="8501040" cy="4500720"/>
            <a:chOff x="214200" y="1643040"/>
            <a:chExt cx="8501040" cy="4500720"/>
          </a:xfrm>
        </p:grpSpPr>
        <p:grpSp>
          <p:nvGrpSpPr>
            <p:cNvPr id="887" name="그룹 37"/>
            <p:cNvGrpSpPr/>
            <p:nvPr/>
          </p:nvGrpSpPr>
          <p:grpSpPr>
            <a:xfrm>
              <a:off x="214200" y="1643040"/>
              <a:ext cx="8501040" cy="4500720"/>
              <a:chOff x="214200" y="1643040"/>
              <a:chExt cx="8501040" cy="4500720"/>
            </a:xfrm>
          </p:grpSpPr>
          <p:grpSp>
            <p:nvGrpSpPr>
              <p:cNvPr id="888" name="그룹 91"/>
              <p:cNvGrpSpPr/>
              <p:nvPr/>
            </p:nvGrpSpPr>
            <p:grpSpPr>
              <a:xfrm>
                <a:off x="214200" y="1714320"/>
                <a:ext cx="8501040" cy="4429440"/>
                <a:chOff x="214200" y="1714320"/>
                <a:chExt cx="8501040" cy="4429440"/>
              </a:xfrm>
            </p:grpSpPr>
            <p:pic>
              <p:nvPicPr>
                <p:cNvPr id="889" name="Picture 5" descr="233"/>
                <p:cNvPicPr/>
                <p:nvPr/>
              </p:nvPicPr>
              <p:blipFill>
                <a:blip r:embed="rId2"/>
                <a:srcRect l="0" t="0" r="24313" b="0"/>
                <a:stretch/>
              </p:blipFill>
              <p:spPr>
                <a:xfrm>
                  <a:off x="214200" y="1714320"/>
                  <a:ext cx="8501040" cy="4429440"/>
                </a:xfrm>
                <a:prstGeom prst="rect">
                  <a:avLst/>
                </a:prstGeom>
                <a:ln w="0">
                  <a:noFill/>
                </a:ln>
                <a:effectLst>
                  <a:outerShdw dist="71785" dir="2700000" blurRad="0" rotWithShape="0">
                    <a:srgbClr val="808080">
                      <a:alpha val="50000"/>
                    </a:srgbClr>
                  </a:outerShdw>
                </a:effectLst>
              </p:spPr>
            </p:pic>
            <p:sp>
              <p:nvSpPr>
                <p:cNvPr id="890" name="직사각형 27"/>
                <p:cNvSpPr/>
                <p:nvPr/>
              </p:nvSpPr>
              <p:spPr>
                <a:xfrm>
                  <a:off x="1214280" y="2122200"/>
                  <a:ext cx="750096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지능을 구성하는 요인들이 위계를 이루고 있다고 가정한다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.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1" name="그룹 44"/>
              <p:cNvGrpSpPr/>
              <p:nvPr/>
            </p:nvGrpSpPr>
            <p:grpSpPr>
              <a:xfrm>
                <a:off x="856800" y="1643040"/>
                <a:ext cx="7574040" cy="551160"/>
                <a:chOff x="856800" y="1643040"/>
                <a:chExt cx="7574040" cy="551160"/>
              </a:xfrm>
            </p:grpSpPr>
            <p:grpSp>
              <p:nvGrpSpPr>
                <p:cNvPr id="892" name="그룹 91"/>
                <p:cNvGrpSpPr/>
                <p:nvPr/>
              </p:nvGrpSpPr>
              <p:grpSpPr>
                <a:xfrm>
                  <a:off x="856800" y="1643040"/>
                  <a:ext cx="1542960" cy="551160"/>
                  <a:chOff x="856800" y="1643040"/>
                  <a:chExt cx="1542960" cy="551160"/>
                </a:xfrm>
              </p:grpSpPr>
              <p:grpSp>
                <p:nvGrpSpPr>
                  <p:cNvPr id="893" name="그룹 34"/>
                  <p:cNvGrpSpPr/>
                  <p:nvPr/>
                </p:nvGrpSpPr>
                <p:grpSpPr>
                  <a:xfrm>
                    <a:off x="856800" y="1752480"/>
                    <a:ext cx="349200" cy="361800"/>
                    <a:chOff x="856800" y="1752480"/>
                    <a:chExt cx="349200" cy="361800"/>
                  </a:xfrm>
                </p:grpSpPr>
                <p:pic>
                  <p:nvPicPr>
                    <p:cNvPr id="894" name="Picture 177" descr="bull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56800" y="1761120"/>
                      <a:ext cx="349200" cy="35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895" name="TextBox 36"/>
                    <p:cNvSpPr/>
                    <p:nvPr/>
                  </p:nvSpPr>
                  <p:spPr>
                    <a:xfrm>
                      <a:off x="884880" y="1752480"/>
                      <a:ext cx="296640" cy="3373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헤드라인M"/>
                          <a:ea typeface="HY헤드라인M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6" name="직사각형 23"/>
                  <p:cNvSpPr/>
                  <p:nvPr/>
                </p:nvSpPr>
                <p:spPr>
                  <a:xfrm>
                    <a:off x="1391400" y="1643040"/>
                    <a:ext cx="1008360" cy="551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5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ko-KR" sz="2000" spc="-1" strike="noStrike">
                        <a:solidFill>
                          <a:srgbClr val="000000"/>
                        </a:solidFill>
                        <a:latin typeface="휴먼엑스포"/>
                        <a:ea typeface="휴먼엑스포"/>
                      </a:rPr>
                      <a:t>위계적 모형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97" name="직선 연결선 21"/>
                <p:cNvSpPr/>
                <p:nvPr/>
              </p:nvSpPr>
              <p:spPr>
                <a:xfrm>
                  <a:off x="4212720" y="1928880"/>
                  <a:ext cx="4218120" cy="1440"/>
                </a:xfrm>
                <a:prstGeom prst="line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diamond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98" name="타원 17"/>
            <p:cNvGrpSpPr/>
            <p:nvPr/>
          </p:nvGrpSpPr>
          <p:grpSpPr>
            <a:xfrm>
              <a:off x="993240" y="2286000"/>
              <a:ext cx="225360" cy="231480"/>
              <a:chOff x="993240" y="2286000"/>
              <a:chExt cx="225360" cy="231480"/>
            </a:xfrm>
          </p:grpSpPr>
          <p:pic>
            <p:nvPicPr>
              <p:cNvPr id="899" name="타원 17" descr=""/>
              <p:cNvPicPr/>
              <p:nvPr/>
            </p:nvPicPr>
            <p:blipFill>
              <a:blip r:embed="rId4"/>
              <a:stretch/>
            </p:blipFill>
            <p:spPr>
              <a:xfrm>
                <a:off x="993240" y="22860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"/>
              <p:cNvSpPr/>
              <p:nvPr/>
            </p:nvSpPr>
            <p:spPr>
              <a:xfrm rot="10800000">
                <a:off x="1073520" y="2345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1" name="그룹 30"/>
          <p:cNvGrpSpPr/>
          <p:nvPr/>
        </p:nvGrpSpPr>
        <p:grpSpPr>
          <a:xfrm>
            <a:off x="654480" y="3786120"/>
            <a:ext cx="7775280" cy="2058480"/>
            <a:chOff x="654480" y="3786120"/>
            <a:chExt cx="7775280" cy="2058480"/>
          </a:xfrm>
        </p:grpSpPr>
        <p:grpSp>
          <p:nvGrpSpPr>
            <p:cNvPr id="902" name="그룹 142"/>
            <p:cNvGrpSpPr/>
            <p:nvPr/>
          </p:nvGrpSpPr>
          <p:grpSpPr>
            <a:xfrm>
              <a:off x="654480" y="3786120"/>
              <a:ext cx="3989160" cy="551160"/>
              <a:chOff x="654480" y="3786120"/>
              <a:chExt cx="3989160" cy="551160"/>
            </a:xfrm>
          </p:grpSpPr>
          <p:grpSp>
            <p:nvGrpSpPr>
              <p:cNvPr id="903" name="그룹 97"/>
              <p:cNvGrpSpPr/>
              <p:nvPr/>
            </p:nvGrpSpPr>
            <p:grpSpPr>
              <a:xfrm>
                <a:off x="654480" y="3901320"/>
                <a:ext cx="340920" cy="307080"/>
                <a:chOff x="654480" y="3901320"/>
                <a:chExt cx="340920" cy="307080"/>
              </a:xfrm>
            </p:grpSpPr>
            <p:pic>
              <p:nvPicPr>
                <p:cNvPr id="904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76440" y="391932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5" name="TextBox 146"/>
                <p:cNvSpPr/>
                <p:nvPr/>
              </p:nvSpPr>
              <p:spPr>
                <a:xfrm>
                  <a:off x="654480" y="390132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6" name="직사각형 36"/>
              <p:cNvSpPr/>
              <p:nvPr/>
            </p:nvSpPr>
            <p:spPr>
              <a:xfrm>
                <a:off x="811080" y="3786120"/>
                <a:ext cx="383256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이론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attell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7" name="직선 연결선 30"/>
            <p:cNvSpPr/>
            <p:nvPr/>
          </p:nvSpPr>
          <p:spPr>
            <a:xfrm>
              <a:off x="4843440" y="4071600"/>
              <a:ext cx="358632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8" name="그룹 114"/>
            <p:cNvGrpSpPr/>
            <p:nvPr/>
          </p:nvGrpSpPr>
          <p:grpSpPr>
            <a:xfrm>
              <a:off x="1038240" y="4241880"/>
              <a:ext cx="7377480" cy="1602720"/>
              <a:chOff x="1038240" y="4241880"/>
              <a:chExt cx="7377480" cy="1602720"/>
            </a:xfrm>
          </p:grpSpPr>
          <p:sp>
            <p:nvSpPr>
              <p:cNvPr id="909" name="직사각형 37"/>
              <p:cNvSpPr/>
              <p:nvPr/>
            </p:nvSpPr>
            <p:spPr>
              <a:xfrm>
                <a:off x="1243080" y="4241880"/>
                <a:ext cx="7172640" cy="160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crystalized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경험이나 교육의 영향을 받아 획득한 능력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어휘이해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수리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일반지식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유동성 지능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fluid intelligence)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생물학적으로 결정되는 생리적 및 신경적 요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언어유추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기억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추상적 관계이해능력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10" name="타원 33"/>
              <p:cNvGrpSpPr/>
              <p:nvPr/>
            </p:nvGrpSpPr>
            <p:grpSpPr>
              <a:xfrm>
                <a:off x="1038240" y="4388760"/>
                <a:ext cx="223200" cy="231480"/>
                <a:chOff x="1038240" y="4388760"/>
                <a:chExt cx="223200" cy="231480"/>
              </a:xfrm>
            </p:grpSpPr>
            <p:pic>
              <p:nvPicPr>
                <p:cNvPr id="911" name="타원 33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038240" y="438876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"/>
                <p:cNvSpPr/>
                <p:nvPr/>
              </p:nvSpPr>
              <p:spPr>
                <a:xfrm rot="10800000">
                  <a:off x="1120320" y="444312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3" name="타원 34"/>
              <p:cNvGrpSpPr/>
              <p:nvPr/>
            </p:nvGrpSpPr>
            <p:grpSpPr>
              <a:xfrm>
                <a:off x="1038240" y="5218200"/>
                <a:ext cx="223200" cy="231480"/>
                <a:chOff x="1038240" y="5218200"/>
                <a:chExt cx="223200" cy="231480"/>
              </a:xfrm>
            </p:grpSpPr>
            <p:pic>
              <p:nvPicPr>
                <p:cNvPr id="914" name="타원 34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1038240" y="5218200"/>
                  <a:ext cx="223200" cy="23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5" name=""/>
                <p:cNvSpPr/>
                <p:nvPr/>
              </p:nvSpPr>
              <p:spPr>
                <a:xfrm rot="10800000">
                  <a:off x="1120320" y="5274000"/>
                  <a:ext cx="6876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16" name="타원 35"/>
          <p:cNvGrpSpPr/>
          <p:nvPr/>
        </p:nvGrpSpPr>
        <p:grpSpPr>
          <a:xfrm>
            <a:off x="1006560" y="2932200"/>
            <a:ext cx="225360" cy="231840"/>
            <a:chOff x="1006560" y="2932200"/>
            <a:chExt cx="225360" cy="231840"/>
          </a:xfrm>
        </p:grpSpPr>
        <p:pic>
          <p:nvPicPr>
            <p:cNvPr id="917" name="타원 35" descr=""/>
            <p:cNvPicPr/>
            <p:nvPr/>
          </p:nvPicPr>
          <p:blipFill>
            <a:blip r:embed="rId8"/>
            <a:stretch/>
          </p:blipFill>
          <p:spPr>
            <a:xfrm>
              <a:off x="1006560" y="293220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"/>
            <p:cNvSpPr/>
            <p:nvPr/>
          </p:nvSpPr>
          <p:spPr>
            <a:xfrm rot="10800000">
              <a:off x="1085760" y="29876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직사각형 38"/>
          <p:cNvSpPr/>
          <p:nvPr/>
        </p:nvSpPr>
        <p:spPr>
          <a:xfrm>
            <a:off x="1214280" y="27194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Veron –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상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일반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주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언어교육적 능력과 수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계적 능력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제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하위군집요인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/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수능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0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21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6E9A-EBE2-4C5C-B61E-537D8DEFCE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923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924" name="직사각형 16"/>
              <p:cNvSpPr/>
              <p:nvPr/>
            </p:nvSpPr>
            <p:spPr>
              <a:xfrm>
                <a:off x="1468440" y="138636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보처리론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6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927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8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92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0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1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2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33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34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35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attention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와 각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주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를 의식적으로 선택하는 과정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동시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imultaneous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다양한 정보를 한꺼번에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연속적 처리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ccessive process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들을 순서대로 처리하는 방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계획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plann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행위계획을 수립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·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실천하고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그 효과를 평가하는 과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-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특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적 결손을 나타내는 아동을 진단하여 교정할 수 있는 방식을 제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6" name="그룹 44"/>
            <p:cNvGrpSpPr/>
            <p:nvPr/>
          </p:nvGrpSpPr>
          <p:grpSpPr>
            <a:xfrm>
              <a:off x="856800" y="2071800"/>
              <a:ext cx="7574400" cy="551160"/>
              <a:chOff x="856800" y="2071800"/>
              <a:chExt cx="7574400" cy="551160"/>
            </a:xfrm>
          </p:grpSpPr>
          <p:grpSp>
            <p:nvGrpSpPr>
              <p:cNvPr id="937" name="그룹 91"/>
              <p:cNvGrpSpPr/>
              <p:nvPr/>
            </p:nvGrpSpPr>
            <p:grpSpPr>
              <a:xfrm>
                <a:off x="856800" y="2071800"/>
                <a:ext cx="1607760" cy="551160"/>
                <a:chOff x="856800" y="2071800"/>
                <a:chExt cx="1607760" cy="551160"/>
              </a:xfrm>
            </p:grpSpPr>
            <p:grpSp>
              <p:nvGrpSpPr>
                <p:cNvPr id="938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39" name="Picture 177" descr="bull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0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41" name="직사각형 26"/>
                <p:cNvSpPr/>
                <p:nvPr/>
              </p:nvSpPr>
              <p:spPr>
                <a:xfrm>
                  <a:off x="1254960" y="2071800"/>
                  <a:ext cx="120960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PASS </a:t>
                  </a: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이론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2" name="직선 연결선 24"/>
              <p:cNvSpPr/>
              <p:nvPr/>
            </p:nvSpPr>
            <p:spPr>
              <a:xfrm>
                <a:off x="4213080" y="2357640"/>
                <a:ext cx="421812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3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44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5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47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50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53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4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5" name="TextBox 9" descr=""/>
          <p:cNvPicPr/>
          <p:nvPr/>
        </p:nvPicPr>
        <p:blipFill>
          <a:blip r:embed="rId1"/>
          <a:stretch/>
        </p:blipFill>
        <p:spPr>
          <a:xfrm>
            <a:off x="5315040" y="506520"/>
            <a:ext cx="3579840" cy="590400"/>
          </a:xfrm>
          <a:prstGeom prst="rect">
            <a:avLst/>
          </a:prstGeom>
          <a:ln w="0">
            <a:noFill/>
          </a:ln>
        </p:spPr>
      </p:pic>
      <p:sp>
        <p:nvSpPr>
          <p:cNvPr id="956" name="슬라이드 번호 개체 틀 6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E686-4218-4570-9BD1-1BA0E7EA4B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그룹 37"/>
          <p:cNvGrpSpPr/>
          <p:nvPr/>
        </p:nvGrpSpPr>
        <p:grpSpPr>
          <a:xfrm>
            <a:off x="214200" y="2071800"/>
            <a:ext cx="8715600" cy="4643280"/>
            <a:chOff x="214200" y="2071800"/>
            <a:chExt cx="8715600" cy="4643280"/>
          </a:xfrm>
        </p:grpSpPr>
        <p:grpSp>
          <p:nvGrpSpPr>
            <p:cNvPr id="958" name="그룹 91"/>
            <p:cNvGrpSpPr/>
            <p:nvPr/>
          </p:nvGrpSpPr>
          <p:grpSpPr>
            <a:xfrm>
              <a:off x="214200" y="2286000"/>
              <a:ext cx="8715600" cy="4429080"/>
              <a:chOff x="214200" y="2286000"/>
              <a:chExt cx="8715600" cy="4429080"/>
            </a:xfrm>
          </p:grpSpPr>
          <p:pic>
            <p:nvPicPr>
              <p:cNvPr id="959" name="Picture 5" descr="233"/>
              <p:cNvPicPr/>
              <p:nvPr/>
            </p:nvPicPr>
            <p:blipFill>
              <a:blip r:embed="rId2"/>
              <a:srcRect l="0" t="0" r="24313" b="0"/>
              <a:stretch/>
            </p:blipFill>
            <p:spPr>
              <a:xfrm>
                <a:off x="214200" y="2286000"/>
                <a:ext cx="8501400" cy="442908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960" name="직사각형 30"/>
              <p:cNvSpPr/>
              <p:nvPr/>
            </p:nvSpPr>
            <p:spPr>
              <a:xfrm>
                <a:off x="1071360" y="2428560"/>
                <a:ext cx="7858440" cy="35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인지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지식기반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의미적 기억 등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이 풍부하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보처리 속도가 빠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작업기억 용량이 크다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메타인지 전략을 효과적으로 활용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1" name="그룹 44"/>
            <p:cNvGrpSpPr/>
            <p:nvPr/>
          </p:nvGrpSpPr>
          <p:grpSpPr>
            <a:xfrm>
              <a:off x="856800" y="2071800"/>
              <a:ext cx="7715520" cy="551160"/>
              <a:chOff x="856800" y="2071800"/>
              <a:chExt cx="7715520" cy="551160"/>
            </a:xfrm>
          </p:grpSpPr>
          <p:grpSp>
            <p:nvGrpSpPr>
              <p:cNvPr id="962" name="그룹 91"/>
              <p:cNvGrpSpPr/>
              <p:nvPr/>
            </p:nvGrpSpPr>
            <p:grpSpPr>
              <a:xfrm>
                <a:off x="856800" y="2071800"/>
                <a:ext cx="3527640" cy="551160"/>
                <a:chOff x="856800" y="2071800"/>
                <a:chExt cx="3527640" cy="551160"/>
              </a:xfrm>
            </p:grpSpPr>
            <p:grpSp>
              <p:nvGrpSpPr>
                <p:cNvPr id="963" name="그룹 34"/>
                <p:cNvGrpSpPr/>
                <p:nvPr/>
              </p:nvGrpSpPr>
              <p:grpSpPr>
                <a:xfrm>
                  <a:off x="856800" y="2181240"/>
                  <a:ext cx="349200" cy="361800"/>
                  <a:chOff x="856800" y="2181240"/>
                  <a:chExt cx="349200" cy="361800"/>
                </a:xfrm>
              </p:grpSpPr>
              <p:pic>
                <p:nvPicPr>
                  <p:cNvPr id="964" name="Picture 177" descr="bull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0" y="2188080"/>
                    <a:ext cx="349200" cy="3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5" name="TextBox 36"/>
                  <p:cNvSpPr/>
                  <p:nvPr/>
                </p:nvSpPr>
                <p:spPr>
                  <a:xfrm>
                    <a:off x="884880" y="218124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HY헤드라인M"/>
                        <a:ea typeface="HY헤드라인M"/>
                      </a:rPr>
                      <a:t>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66" name="직사각형 26"/>
                <p:cNvSpPr/>
                <p:nvPr/>
              </p:nvSpPr>
              <p:spPr>
                <a:xfrm>
                  <a:off x="1894680" y="2071800"/>
                  <a:ext cx="2489760" cy="551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5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휴먼엑스포"/>
                      <a:ea typeface="휴먼엑스포"/>
                    </a:rPr>
                    <a:t>지능 수준에 따른 인지과정 차이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7" name="직선 연결선 24"/>
              <p:cNvSpPr/>
              <p:nvPr/>
            </p:nvSpPr>
            <p:spPr>
              <a:xfrm>
                <a:off x="5213160" y="2357280"/>
                <a:ext cx="335916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8" name="그룹 97"/>
          <p:cNvGrpSpPr/>
          <p:nvPr/>
        </p:nvGrpSpPr>
        <p:grpSpPr>
          <a:xfrm>
            <a:off x="779040" y="2733840"/>
            <a:ext cx="295200" cy="338040"/>
            <a:chOff x="779040" y="2733840"/>
            <a:chExt cx="295200" cy="338040"/>
          </a:xfrm>
        </p:grpSpPr>
        <p:pic>
          <p:nvPicPr>
            <p:cNvPr id="969" name="Picture 177" descr="bull"/>
            <p:cNvPicPr/>
            <p:nvPr/>
          </p:nvPicPr>
          <p:blipFill>
            <a:blip r:embed="rId4"/>
            <a:stretch/>
          </p:blipFill>
          <p:spPr>
            <a:xfrm>
              <a:off x="786240" y="2790720"/>
              <a:ext cx="283680" cy="28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TextBox 146"/>
            <p:cNvSpPr/>
            <p:nvPr/>
          </p:nvSpPr>
          <p:spPr>
            <a:xfrm>
              <a:off x="779040" y="273384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1" name="그룹 97"/>
          <p:cNvGrpSpPr/>
          <p:nvPr/>
        </p:nvGrpSpPr>
        <p:grpSpPr>
          <a:xfrm>
            <a:off x="782280" y="3449520"/>
            <a:ext cx="305640" cy="337320"/>
            <a:chOff x="782280" y="3449520"/>
            <a:chExt cx="305640" cy="337320"/>
          </a:xfrm>
        </p:grpSpPr>
        <p:pic>
          <p:nvPicPr>
            <p:cNvPr id="972" name="Picture 177" descr="bull"/>
            <p:cNvPicPr/>
            <p:nvPr/>
          </p:nvPicPr>
          <p:blipFill>
            <a:blip r:embed="rId5"/>
            <a:stretch/>
          </p:blipFill>
          <p:spPr>
            <a:xfrm>
              <a:off x="786240" y="3480480"/>
              <a:ext cx="286560" cy="2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TextBox 146"/>
            <p:cNvSpPr/>
            <p:nvPr/>
          </p:nvSpPr>
          <p:spPr>
            <a:xfrm>
              <a:off x="782280" y="34495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그룹 97"/>
          <p:cNvGrpSpPr/>
          <p:nvPr/>
        </p:nvGrpSpPr>
        <p:grpSpPr>
          <a:xfrm>
            <a:off x="786240" y="4114800"/>
            <a:ext cx="283680" cy="338040"/>
            <a:chOff x="786240" y="4114800"/>
            <a:chExt cx="283680" cy="338040"/>
          </a:xfrm>
        </p:grpSpPr>
        <p:pic>
          <p:nvPicPr>
            <p:cNvPr id="975" name="Picture 177" descr="bull"/>
            <p:cNvPicPr/>
            <p:nvPr/>
          </p:nvPicPr>
          <p:blipFill>
            <a:blip r:embed="rId6"/>
            <a:stretch/>
          </p:blipFill>
          <p:spPr>
            <a:xfrm>
              <a:off x="786240" y="4169160"/>
              <a:ext cx="283680" cy="28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TextBox 146"/>
            <p:cNvSpPr/>
            <p:nvPr/>
          </p:nvSpPr>
          <p:spPr>
            <a:xfrm>
              <a:off x="787320" y="4114800"/>
              <a:ext cx="278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그룹 97"/>
          <p:cNvGrpSpPr/>
          <p:nvPr/>
        </p:nvGrpSpPr>
        <p:grpSpPr>
          <a:xfrm>
            <a:off x="781560" y="4818240"/>
            <a:ext cx="305640" cy="337320"/>
            <a:chOff x="781560" y="4818240"/>
            <a:chExt cx="305640" cy="337320"/>
          </a:xfrm>
        </p:grpSpPr>
        <p:pic>
          <p:nvPicPr>
            <p:cNvPr id="978" name="Picture 177" descr="bull"/>
            <p:cNvPicPr/>
            <p:nvPr/>
          </p:nvPicPr>
          <p:blipFill>
            <a:blip r:embed="rId7"/>
            <a:stretch/>
          </p:blipFill>
          <p:spPr>
            <a:xfrm>
              <a:off x="786240" y="4864680"/>
              <a:ext cx="28656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9" name="TextBox 146"/>
            <p:cNvSpPr/>
            <p:nvPr/>
          </p:nvSpPr>
          <p:spPr>
            <a:xfrm>
              <a:off x="781560" y="481824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0" name="그룹 97"/>
          <p:cNvGrpSpPr/>
          <p:nvPr/>
        </p:nvGrpSpPr>
        <p:grpSpPr>
          <a:xfrm>
            <a:off x="779040" y="5500800"/>
            <a:ext cx="295200" cy="337320"/>
            <a:chOff x="779040" y="5500800"/>
            <a:chExt cx="295200" cy="337320"/>
          </a:xfrm>
        </p:grpSpPr>
        <p:pic>
          <p:nvPicPr>
            <p:cNvPr id="981" name="Picture 177" descr="bull"/>
            <p:cNvPicPr/>
            <p:nvPr/>
          </p:nvPicPr>
          <p:blipFill>
            <a:blip r:embed="rId8"/>
            <a:stretch/>
          </p:blipFill>
          <p:spPr>
            <a:xfrm>
              <a:off x="786240" y="5547240"/>
              <a:ext cx="283680" cy="28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TextBox 146"/>
            <p:cNvSpPr/>
            <p:nvPr/>
          </p:nvSpPr>
          <p:spPr>
            <a:xfrm>
              <a:off x="779040" y="55008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984" name="그룹 45"/>
          <p:cNvGrpSpPr/>
          <p:nvPr/>
        </p:nvGrpSpPr>
        <p:grpSpPr>
          <a:xfrm>
            <a:off x="785880" y="3429000"/>
            <a:ext cx="7570800" cy="2970360"/>
            <a:chOff x="785880" y="3429000"/>
            <a:chExt cx="7570800" cy="2970360"/>
          </a:xfrm>
        </p:grpSpPr>
        <p:sp>
          <p:nvSpPr>
            <p:cNvPr id="985" name="Rectangle 76"/>
            <p:cNvSpPr/>
            <p:nvPr/>
          </p:nvSpPr>
          <p:spPr>
            <a:xfrm>
              <a:off x="785880" y="3429000"/>
              <a:ext cx="7570800" cy="2970360"/>
            </a:xfrm>
            <a:prstGeom prst="rect">
              <a:avLst/>
            </a:prstGeom>
            <a:gradFill rotWithShape="0">
              <a:gsLst>
                <a:gs pos="0">
                  <a:srgbClr val="fdfdfd"/>
                </a:gs>
                <a:gs pos="100000">
                  <a:srgbClr val="c9c5c4"/>
                </a:gs>
              </a:gsLst>
              <a:lin ang="5400000"/>
            </a:gradFill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9720" rIns="99720" tIns="50040" bIns="50040" anchor="ctr">
              <a:noAutofit/>
            </a:bodyPr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81080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6" name="그룹 37"/>
            <p:cNvGrpSpPr/>
            <p:nvPr/>
          </p:nvGrpSpPr>
          <p:grpSpPr>
            <a:xfrm>
              <a:off x="1129320" y="3523320"/>
              <a:ext cx="6919200" cy="2844720"/>
              <a:chOff x="1129320" y="3523320"/>
              <a:chExt cx="6919200" cy="2844720"/>
            </a:xfrm>
          </p:grpSpPr>
          <p:sp>
            <p:nvSpPr>
              <p:cNvPr id="987" name="Line 3"/>
              <p:cNvSpPr/>
              <p:nvPr/>
            </p:nvSpPr>
            <p:spPr>
              <a:xfrm>
                <a:off x="2151720" y="45082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"/>
              <p:cNvSpPr/>
              <p:nvPr/>
            </p:nvSpPr>
            <p:spPr>
              <a:xfrm>
                <a:off x="2151720" y="509148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5"/>
              <p:cNvSpPr/>
              <p:nvPr/>
            </p:nvSpPr>
            <p:spPr>
              <a:xfrm>
                <a:off x="2151720" y="564444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6"/>
              <p:cNvSpPr/>
              <p:nvPr/>
            </p:nvSpPr>
            <p:spPr>
              <a:xfrm>
                <a:off x="2151720" y="614520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7"/>
              <p:cNvSpPr/>
              <p:nvPr/>
            </p:nvSpPr>
            <p:spPr>
              <a:xfrm>
                <a:off x="2160360" y="3922920"/>
                <a:ext cx="5888160" cy="0"/>
              </a:xfrm>
              <a:prstGeom prst="line">
                <a:avLst/>
              </a:prstGeom>
              <a:ln cap="rnd" w="3240">
                <a:solidFill>
                  <a:srgbClr val="1c1c1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AutoShape 8"/>
              <p:cNvSpPr/>
              <p:nvPr/>
            </p:nvSpPr>
            <p:spPr>
              <a:xfrm>
                <a:off x="1293480" y="5345640"/>
                <a:ext cx="1361520" cy="1022400"/>
              </a:xfrm>
              <a:prstGeom prst="diamond">
                <a:avLst/>
              </a:prstGeom>
              <a:gradFill rotWithShape="0">
                <a:gsLst>
                  <a:gs pos="0">
                    <a:srgbClr val="767647"/>
                  </a:gs>
                  <a:gs pos="100000">
                    <a:srgbClr val="ff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AutoShape 9"/>
              <p:cNvSpPr/>
              <p:nvPr/>
            </p:nvSpPr>
            <p:spPr>
              <a:xfrm>
                <a:off x="1273320" y="4758840"/>
                <a:ext cx="1423440" cy="1160640"/>
              </a:xfrm>
              <a:prstGeom prst="diamond">
                <a:avLst/>
              </a:prstGeom>
              <a:gradFill rotWithShape="0">
                <a:gsLst>
                  <a:gs pos="0">
                    <a:srgbClr val="5e7647"/>
                  </a:gs>
                  <a:gs pos="100000">
                    <a:srgbClr val="ccff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AutoShape 10"/>
              <p:cNvSpPr/>
              <p:nvPr/>
            </p:nvSpPr>
            <p:spPr>
              <a:xfrm>
                <a:off x="1221480" y="4155840"/>
                <a:ext cx="1527480" cy="1190520"/>
              </a:xfrm>
              <a:prstGeom prst="diamond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99ffcc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AutoShape 11"/>
              <p:cNvSpPr/>
              <p:nvPr/>
            </p:nvSpPr>
            <p:spPr>
              <a:xfrm>
                <a:off x="1182600" y="3523320"/>
                <a:ext cx="1609560" cy="1254240"/>
              </a:xfrm>
              <a:prstGeom prst="diamond">
                <a:avLst/>
              </a:prstGeom>
              <a:gradFill rotWithShape="0">
                <a:gsLst>
                  <a:gs pos="0">
                    <a:srgbClr val="2f7676"/>
                  </a:gs>
                  <a:gs pos="100000">
                    <a:srgbClr val="66ffff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12"/>
              <p:cNvSpPr/>
              <p:nvPr/>
            </p:nvSpPr>
            <p:spPr>
              <a:xfrm>
                <a:off x="1129320" y="3614040"/>
                <a:ext cx="872640" cy="2696760"/>
              </a:xfrm>
              <a:prstGeom prst="pie">
                <a:avLst/>
              </a:prstGeom>
              <a:solidFill>
                <a:srgbClr val="c0c0c0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13"/>
              <p:cNvSpPr/>
              <p:nvPr/>
            </p:nvSpPr>
            <p:spPr>
              <a:xfrm>
                <a:off x="1978920" y="3614040"/>
                <a:ext cx="865440" cy="2696760"/>
              </a:xfrm>
              <a:prstGeom prst="pie">
                <a:avLst/>
              </a:prstGeom>
              <a:solidFill>
                <a:srgbClr val="c0c0c0">
                  <a:alpha val="1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Rectangle 22"/>
              <p:cNvSpPr/>
              <p:nvPr/>
            </p:nvSpPr>
            <p:spPr>
              <a:xfrm>
                <a:off x="3630240" y="3593880"/>
                <a:ext cx="372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들은 상호독립적이며 각 지능의 상대적 중요성은 같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Rectangle 23"/>
              <p:cNvSpPr/>
              <p:nvPr/>
            </p:nvSpPr>
            <p:spPr>
              <a:xfrm>
                <a:off x="3357000" y="4178160"/>
                <a:ext cx="2657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문화의존적이고 상황의존적이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Rectangle 24"/>
              <p:cNvSpPr/>
              <p:nvPr/>
            </p:nvSpPr>
            <p:spPr>
              <a:xfrm>
                <a:off x="3601080" y="4779720"/>
                <a:ext cx="3519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지능은 교육 및 훈련을 통해 상당 부분 촉진할 수 있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Rectangle 25"/>
              <p:cNvSpPr/>
              <p:nvPr/>
            </p:nvSpPr>
            <p:spPr>
              <a:xfrm>
                <a:off x="3445560" y="5322960"/>
                <a:ext cx="3968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육에서는 사회에서 중시되는 다양한 능력을 길러주어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Rectangle 26"/>
              <p:cNvSpPr/>
              <p:nvPr/>
            </p:nvSpPr>
            <p:spPr>
              <a:xfrm>
                <a:off x="3333960" y="5823720"/>
                <a:ext cx="2642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 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교과를 다양한 방식으로 가르쳐야 한다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맑은 고딕"/>
                    <a:ea typeface="맑은 고딕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3" name="슬라이드 번호 개체 틀 24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3A851-8F91-41C0-928B-5DEE559DFA09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05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06" name="직사각형 31"/>
              <p:cNvSpPr/>
              <p:nvPr/>
            </p:nvSpPr>
            <p:spPr>
              <a:xfrm>
                <a:off x="1566000" y="1386360"/>
                <a:ext cx="494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다중지능 이론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Multiple intelligences theory, Gardner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8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09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0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1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2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3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그룹 43"/>
          <p:cNvGrpSpPr/>
          <p:nvPr/>
        </p:nvGrpSpPr>
        <p:grpSpPr>
          <a:xfrm>
            <a:off x="571680" y="1811160"/>
            <a:ext cx="8072280" cy="1487520"/>
            <a:chOff x="571680" y="1811160"/>
            <a:chExt cx="8072280" cy="1487520"/>
          </a:xfrm>
        </p:grpSpPr>
        <p:pic>
          <p:nvPicPr>
            <p:cNvPr id="101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11160"/>
              <a:ext cx="8072280" cy="148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16" name="타원 3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17" name="타원 3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36"/>
            <p:cNvSpPr/>
            <p:nvPr/>
          </p:nvSpPr>
          <p:spPr>
            <a:xfrm>
              <a:off x="928800" y="1999800"/>
              <a:ext cx="766908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 상호독립적인 여러 지능들로 구성된다고 주장하는 이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언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논리수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공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신체운동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음악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인관계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내적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연관찰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/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존지능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AutoShape 4"/>
          <p:cNvSpPr/>
          <p:nvPr/>
        </p:nvSpPr>
        <p:spPr>
          <a:xfrm>
            <a:off x="428760" y="3857760"/>
            <a:ext cx="2692440" cy="2571480"/>
          </a:xfrm>
          <a:prstGeom prst="roundRect">
            <a:avLst>
              <a:gd name="adj" fmla="val 8500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0" tIns="468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분석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해결을 계획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가하는 고등정신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행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메타요소의 지시를 받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8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획득 요소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문제를 해결할 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있는 방법을 학습하는 과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22" name="AutoShape 4"/>
          <p:cNvSpPr/>
          <p:nvPr/>
        </p:nvSpPr>
        <p:spPr>
          <a:xfrm>
            <a:off x="6143760" y="4105440"/>
            <a:ext cx="2692440" cy="2323800"/>
          </a:xfrm>
          <a:prstGeom prst="roundRect">
            <a:avLst>
              <a:gd name="adj" fmla="val 6926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144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실용적 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 환경에 적응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존환경을 변형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새로운 환경을 선택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AutoShape 4"/>
          <p:cNvSpPr/>
          <p:nvPr/>
        </p:nvSpPr>
        <p:spPr>
          <a:xfrm>
            <a:off x="3286080" y="4786200"/>
            <a:ext cx="2692440" cy="1643040"/>
          </a:xfrm>
          <a:prstGeom prst="roundRect">
            <a:avLst>
              <a:gd name="adj" fmla="val 8009"/>
            </a:avLst>
          </a:prstGeom>
          <a:noFill/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288000" bIns="46800" anchor="ctr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창의적</a:t>
            </a:r>
            <a:r>
              <a:rPr b="0" lang="en-US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 </a:t>
            </a:r>
            <a:r>
              <a:rPr b="0" lang="ko-KR" sz="1600" spc="-1" strike="noStrike">
                <a:solidFill>
                  <a:srgbClr val="ff0000"/>
                </a:solidFill>
                <a:latin typeface="휴먼모음T"/>
                <a:ea typeface="휴먼모음T"/>
              </a:rPr>
              <a:t>능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비교적 새로운 문제를 해결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보처리를 자동화하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슬라이드 번호 개체 틀 27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1B0B-3EF2-43E5-B56C-7426A57191B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26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027" name="직사각형 34"/>
              <p:cNvSpPr/>
              <p:nvPr/>
            </p:nvSpPr>
            <p:spPr>
              <a:xfrm>
                <a:off x="1710720" y="1386360"/>
                <a:ext cx="328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공지능에 대한 삼원이론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Sternberg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9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030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1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032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34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036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37" name="타원 38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038" name="타원 3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9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0" name="직사각형 39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능이란 적합한 환경을 선택하거나 변형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환경에 적응하는 능력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공지능은 분석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창의적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실용적 능력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1" name="타원 40"/>
            <p:cNvGrpSpPr/>
            <p:nvPr/>
          </p:nvGrpSpPr>
          <p:grpSpPr>
            <a:xfrm>
              <a:off x="859680" y="2602800"/>
              <a:ext cx="225360" cy="231480"/>
              <a:chOff x="859680" y="2602800"/>
              <a:chExt cx="225360" cy="231480"/>
            </a:xfrm>
          </p:grpSpPr>
          <p:pic>
            <p:nvPicPr>
              <p:cNvPr id="1042" name="타원 40" descr=""/>
              <p:cNvPicPr/>
              <p:nvPr/>
            </p:nvPicPr>
            <p:blipFill>
              <a:blip r:embed="rId5"/>
              <a:stretch/>
            </p:blipFill>
            <p:spPr>
              <a:xfrm>
                <a:off x="859680" y="260280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3" name=""/>
              <p:cNvSpPr/>
              <p:nvPr/>
            </p:nvSpPr>
            <p:spPr>
              <a:xfrm rot="10800000">
                <a:off x="943200" y="26571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4" name="그룹 41"/>
          <p:cNvGrpSpPr/>
          <p:nvPr/>
        </p:nvGrpSpPr>
        <p:grpSpPr>
          <a:xfrm>
            <a:off x="2198520" y="3306600"/>
            <a:ext cx="4714920" cy="1622520"/>
            <a:chOff x="2198520" y="3306600"/>
            <a:chExt cx="4714920" cy="1622520"/>
          </a:xfrm>
        </p:grpSpPr>
        <p:sp>
          <p:nvSpPr>
            <p:cNvPr id="1045" name="AutoShape 21"/>
            <p:cNvSpPr/>
            <p:nvPr/>
          </p:nvSpPr>
          <p:spPr>
            <a:xfrm flipV="1">
              <a:off x="2694600" y="3718080"/>
              <a:ext cx="3722400" cy="988920"/>
            </a:xfrm>
            <a:prstGeom prst="triangle">
              <a:avLst>
                <a:gd name="adj" fmla="val 50000"/>
              </a:avLst>
            </a:prstGeom>
            <a:noFill/>
            <a:ln w="25560">
              <a:solidFill>
                <a:srgbClr val="9291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그룹 42"/>
            <p:cNvGrpSpPr/>
            <p:nvPr/>
          </p:nvGrpSpPr>
          <p:grpSpPr>
            <a:xfrm>
              <a:off x="4041720" y="4104000"/>
              <a:ext cx="1031400" cy="825120"/>
              <a:chOff x="4041720" y="4104000"/>
              <a:chExt cx="1031400" cy="825120"/>
            </a:xfrm>
          </p:grpSpPr>
          <p:grpSp>
            <p:nvGrpSpPr>
              <p:cNvPr id="1047" name="Group 5"/>
              <p:cNvGrpSpPr/>
              <p:nvPr/>
            </p:nvGrpSpPr>
            <p:grpSpPr>
              <a:xfrm>
                <a:off x="4041720" y="4104000"/>
                <a:ext cx="1031400" cy="825120"/>
                <a:chOff x="4041720" y="4104000"/>
                <a:chExt cx="1031400" cy="825120"/>
              </a:xfrm>
            </p:grpSpPr>
            <p:sp>
              <p:nvSpPr>
                <p:cNvPr id="1048" name="AutoShape 6"/>
                <p:cNvSpPr/>
                <p:nvPr/>
              </p:nvSpPr>
              <p:spPr>
                <a:xfrm>
                  <a:off x="4050000" y="413028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AutoShape 7"/>
                <p:cNvSpPr/>
                <p:nvPr/>
              </p:nvSpPr>
              <p:spPr>
                <a:xfrm>
                  <a:off x="4041720" y="4104000"/>
                  <a:ext cx="1023120" cy="798840"/>
                </a:xfrm>
                <a:prstGeom prst="hexagon">
                  <a:avLst>
                    <a:gd name="adj" fmla="val 3201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AutoShape 8"/>
                <p:cNvSpPr/>
                <p:nvPr/>
              </p:nvSpPr>
              <p:spPr>
                <a:xfrm>
                  <a:off x="4101480" y="41518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1" name="Text Box 17"/>
              <p:cNvSpPr/>
              <p:nvPr/>
            </p:nvSpPr>
            <p:spPr>
              <a:xfrm>
                <a:off x="4181760" y="424872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경험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2" name="그룹 43"/>
            <p:cNvGrpSpPr/>
            <p:nvPr/>
          </p:nvGrpSpPr>
          <p:grpSpPr>
            <a:xfrm>
              <a:off x="2198520" y="3306600"/>
              <a:ext cx="1031400" cy="812160"/>
              <a:chOff x="2198520" y="3306600"/>
              <a:chExt cx="1031400" cy="812160"/>
            </a:xfrm>
          </p:grpSpPr>
          <p:grpSp>
            <p:nvGrpSpPr>
              <p:cNvPr id="1053" name="Group 9"/>
              <p:cNvGrpSpPr/>
              <p:nvPr/>
            </p:nvGrpSpPr>
            <p:grpSpPr>
              <a:xfrm>
                <a:off x="2198520" y="3306600"/>
                <a:ext cx="1031400" cy="812160"/>
                <a:chOff x="2198520" y="3306600"/>
                <a:chExt cx="1031400" cy="812160"/>
              </a:xfrm>
            </p:grpSpPr>
            <p:sp>
              <p:nvSpPr>
                <p:cNvPr id="1054" name="AutoShape 10"/>
                <p:cNvSpPr/>
                <p:nvPr/>
              </p:nvSpPr>
              <p:spPr>
                <a:xfrm>
                  <a:off x="2206800" y="332028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AutoShape 11"/>
                <p:cNvSpPr/>
                <p:nvPr/>
              </p:nvSpPr>
              <p:spPr>
                <a:xfrm>
                  <a:off x="2198520" y="3306600"/>
                  <a:ext cx="1023120" cy="798480"/>
                </a:xfrm>
                <a:prstGeom prst="hexagon">
                  <a:avLst>
                    <a:gd name="adj" fmla="val 3203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AutoShape 12"/>
                <p:cNvSpPr/>
                <p:nvPr/>
              </p:nvSpPr>
              <p:spPr>
                <a:xfrm>
                  <a:off x="2258280" y="3354480"/>
                  <a:ext cx="899280" cy="702360"/>
                </a:xfrm>
                <a:prstGeom prst="hexagon">
                  <a:avLst>
                    <a:gd name="adj" fmla="val 32009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7" name="Text Box 18"/>
              <p:cNvSpPr/>
              <p:nvPr/>
            </p:nvSpPr>
            <p:spPr>
              <a:xfrm>
                <a:off x="2338560" y="343584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요소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8" name="그룹 41"/>
            <p:cNvGrpSpPr/>
            <p:nvPr/>
          </p:nvGrpSpPr>
          <p:grpSpPr>
            <a:xfrm>
              <a:off x="5883120" y="3306600"/>
              <a:ext cx="1030320" cy="812160"/>
              <a:chOff x="5883120" y="3306600"/>
              <a:chExt cx="1030320" cy="812160"/>
            </a:xfrm>
          </p:grpSpPr>
          <p:grpSp>
            <p:nvGrpSpPr>
              <p:cNvPr id="1059" name="Group 13"/>
              <p:cNvGrpSpPr/>
              <p:nvPr/>
            </p:nvGrpSpPr>
            <p:grpSpPr>
              <a:xfrm>
                <a:off x="5883120" y="3306600"/>
                <a:ext cx="1030320" cy="812160"/>
                <a:chOff x="5883120" y="3306600"/>
                <a:chExt cx="1030320" cy="812160"/>
              </a:xfrm>
            </p:grpSpPr>
            <p:sp>
              <p:nvSpPr>
                <p:cNvPr id="1060" name="AutoShape 14"/>
                <p:cNvSpPr/>
                <p:nvPr/>
              </p:nvSpPr>
              <p:spPr>
                <a:xfrm>
                  <a:off x="5891760" y="332028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AutoShape 15"/>
                <p:cNvSpPr/>
                <p:nvPr/>
              </p:nvSpPr>
              <p:spPr>
                <a:xfrm>
                  <a:off x="5883120" y="3306600"/>
                  <a:ext cx="1021680" cy="798480"/>
                </a:xfrm>
                <a:prstGeom prst="hexagon">
                  <a:avLst>
                    <a:gd name="adj" fmla="val 31988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AutoShape 16"/>
                <p:cNvSpPr/>
                <p:nvPr/>
              </p:nvSpPr>
              <p:spPr>
                <a:xfrm>
                  <a:off x="5942880" y="3354480"/>
                  <a:ext cx="897840" cy="702360"/>
                </a:xfrm>
                <a:prstGeom prst="hexagon">
                  <a:avLst>
                    <a:gd name="adj" fmla="val 31958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3" name="Text Box 19"/>
              <p:cNvSpPr/>
              <p:nvPr/>
            </p:nvSpPr>
            <p:spPr>
              <a:xfrm>
                <a:off x="6022440" y="3461400"/>
                <a:ext cx="729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맥락하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800" spc="-1" strike="noStrike">
                    <a:solidFill>
                      <a:srgbClr val="ffffff"/>
                    </a:solidFill>
                    <a:latin typeface="휴먼모음T"/>
                    <a:ea typeface="휴먼모음T"/>
                  </a:rPr>
                  <a:t>이론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TextBox 9" descr=""/>
          <p:cNvPicPr/>
          <p:nvPr/>
        </p:nvPicPr>
        <p:blipFill>
          <a:blip r:embed="rId1"/>
          <a:stretch/>
        </p:blipFill>
        <p:spPr>
          <a:xfrm>
            <a:off x="4370400" y="506520"/>
            <a:ext cx="4529160" cy="590400"/>
          </a:xfrm>
          <a:prstGeom prst="rect">
            <a:avLst/>
          </a:prstGeom>
          <a:ln w="0">
            <a:noFill/>
          </a:ln>
        </p:spPr>
      </p:pic>
      <p:sp>
        <p:nvSpPr>
          <p:cNvPr id="1065" name="AutoShape 3"/>
          <p:cNvSpPr/>
          <p:nvPr/>
        </p:nvSpPr>
        <p:spPr>
          <a:xfrm>
            <a:off x="231444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의 정확한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인식을 토대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적절하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환</a:t>
            </a: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·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절제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그룹 71"/>
          <p:cNvGrpSpPr/>
          <p:nvPr/>
        </p:nvGrpSpPr>
        <p:grpSpPr>
          <a:xfrm>
            <a:off x="792000" y="3458520"/>
            <a:ext cx="7259760" cy="1241280"/>
            <a:chOff x="792000" y="3458520"/>
            <a:chExt cx="7259760" cy="1241280"/>
          </a:xfrm>
        </p:grpSpPr>
        <p:sp>
          <p:nvSpPr>
            <p:cNvPr id="1067" name="Rectangle 6"/>
            <p:cNvSpPr/>
            <p:nvPr/>
          </p:nvSpPr>
          <p:spPr>
            <a:xfrm rot="3418800">
              <a:off x="979560" y="366372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62f00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8" name="Group 7"/>
            <p:cNvGrpSpPr/>
            <p:nvPr/>
          </p:nvGrpSpPr>
          <p:grpSpPr>
            <a:xfrm>
              <a:off x="1833480" y="3816720"/>
              <a:ext cx="828720" cy="117000"/>
              <a:chOff x="1833480" y="3816720"/>
              <a:chExt cx="828720" cy="117000"/>
            </a:xfrm>
          </p:grpSpPr>
          <p:sp>
            <p:nvSpPr>
              <p:cNvPr id="1069" name="Oval 8"/>
              <p:cNvSpPr/>
              <p:nvPr/>
            </p:nvSpPr>
            <p:spPr>
              <a:xfrm>
                <a:off x="183348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Rectangle 9"/>
              <p:cNvSpPr/>
              <p:nvPr/>
            </p:nvSpPr>
            <p:spPr>
              <a:xfrm>
                <a:off x="191304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Oval 10"/>
              <p:cNvSpPr/>
              <p:nvPr/>
            </p:nvSpPr>
            <p:spPr>
              <a:xfrm>
                <a:off x="253656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Oval 11"/>
              <p:cNvSpPr/>
              <p:nvPr/>
            </p:nvSpPr>
            <p:spPr>
              <a:xfrm>
                <a:off x="260424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3" name="Rectangle 12"/>
            <p:cNvSpPr/>
            <p:nvPr/>
          </p:nvSpPr>
          <p:spPr>
            <a:xfrm rot="3418800">
              <a:off x="2512800" y="3605040"/>
              <a:ext cx="823680" cy="894240"/>
            </a:xfrm>
            <a:prstGeom prst="rect">
              <a:avLst/>
            </a:prstGeom>
            <a:solidFill>
              <a:srgbClr val="5491d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4" name="Group 13"/>
            <p:cNvGrpSpPr/>
            <p:nvPr/>
          </p:nvGrpSpPr>
          <p:grpSpPr>
            <a:xfrm>
              <a:off x="3366720" y="3816720"/>
              <a:ext cx="828720" cy="117000"/>
              <a:chOff x="3366720" y="3816720"/>
              <a:chExt cx="828720" cy="117000"/>
            </a:xfrm>
          </p:grpSpPr>
          <p:sp>
            <p:nvSpPr>
              <p:cNvPr id="1075" name="Oval 14"/>
              <p:cNvSpPr/>
              <p:nvPr/>
            </p:nvSpPr>
            <p:spPr>
              <a:xfrm>
                <a:off x="3366720" y="3816720"/>
                <a:ext cx="13968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Rectangle 15"/>
              <p:cNvSpPr/>
              <p:nvPr/>
            </p:nvSpPr>
            <p:spPr>
              <a:xfrm>
                <a:off x="3446280" y="3817440"/>
                <a:ext cx="6872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Oval 16"/>
              <p:cNvSpPr/>
              <p:nvPr/>
            </p:nvSpPr>
            <p:spPr>
              <a:xfrm>
                <a:off x="4069800" y="3817440"/>
                <a:ext cx="12564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Oval 17"/>
              <p:cNvSpPr/>
              <p:nvPr/>
            </p:nvSpPr>
            <p:spPr>
              <a:xfrm>
                <a:off x="4137480" y="3855600"/>
                <a:ext cx="388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9" name="Rectangle 18"/>
            <p:cNvSpPr/>
            <p:nvPr/>
          </p:nvSpPr>
          <p:spPr>
            <a:xfrm rot="3418800">
              <a:off x="3982320" y="3605040"/>
              <a:ext cx="823680" cy="894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0" name="Group 19"/>
            <p:cNvGrpSpPr/>
            <p:nvPr/>
          </p:nvGrpSpPr>
          <p:grpSpPr>
            <a:xfrm>
              <a:off x="4912200" y="3816720"/>
              <a:ext cx="1086840" cy="117000"/>
              <a:chOff x="4912200" y="3816720"/>
              <a:chExt cx="1086840" cy="117000"/>
            </a:xfrm>
          </p:grpSpPr>
          <p:sp>
            <p:nvSpPr>
              <p:cNvPr id="1081" name="Oval 20"/>
              <p:cNvSpPr/>
              <p:nvPr/>
            </p:nvSpPr>
            <p:spPr>
              <a:xfrm>
                <a:off x="4912200" y="3816720"/>
                <a:ext cx="183240" cy="1162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640" bIns="35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Rectangle 21"/>
              <p:cNvSpPr/>
              <p:nvPr/>
            </p:nvSpPr>
            <p:spPr>
              <a:xfrm>
                <a:off x="5016240" y="3817440"/>
                <a:ext cx="901440" cy="1162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22"/>
              <p:cNvSpPr/>
              <p:nvPr/>
            </p:nvSpPr>
            <p:spPr>
              <a:xfrm>
                <a:off x="5834160" y="3817440"/>
                <a:ext cx="164880" cy="114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Oval 23"/>
              <p:cNvSpPr/>
              <p:nvPr/>
            </p:nvSpPr>
            <p:spPr>
              <a:xfrm>
                <a:off x="5922720" y="385560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5" name="Rectangle 24"/>
            <p:cNvSpPr/>
            <p:nvPr/>
          </p:nvSpPr>
          <p:spPr>
            <a:xfrm rot="3418800">
              <a:off x="5515920" y="3605040"/>
              <a:ext cx="823680" cy="894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747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Text Box 25"/>
            <p:cNvSpPr/>
            <p:nvPr/>
          </p:nvSpPr>
          <p:spPr>
            <a:xfrm>
              <a:off x="10026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26"/>
            <p:cNvSpPr/>
            <p:nvPr/>
          </p:nvSpPr>
          <p:spPr>
            <a:xfrm>
              <a:off x="254052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통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27"/>
            <p:cNvSpPr/>
            <p:nvPr/>
          </p:nvSpPr>
          <p:spPr>
            <a:xfrm>
              <a:off x="4015800" y="381096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동기부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능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Text Box 28"/>
            <p:cNvSpPr/>
            <p:nvPr/>
          </p:nvSpPr>
          <p:spPr>
            <a:xfrm>
              <a:off x="5521320" y="3781080"/>
              <a:ext cx="820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다른 사람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감정인식능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Group 19"/>
            <p:cNvGrpSpPr/>
            <p:nvPr/>
          </p:nvGrpSpPr>
          <p:grpSpPr>
            <a:xfrm>
              <a:off x="6430320" y="3811680"/>
              <a:ext cx="1085400" cy="117000"/>
              <a:chOff x="6430320" y="3811680"/>
              <a:chExt cx="1085400" cy="117000"/>
            </a:xfrm>
          </p:grpSpPr>
          <p:sp>
            <p:nvSpPr>
              <p:cNvPr id="1091" name="Oval 20"/>
              <p:cNvSpPr/>
              <p:nvPr/>
            </p:nvSpPr>
            <p:spPr>
              <a:xfrm>
                <a:off x="6430320" y="3811680"/>
                <a:ext cx="182880" cy="11592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Rectangle 21"/>
              <p:cNvSpPr/>
              <p:nvPr/>
            </p:nvSpPr>
            <p:spPr>
              <a:xfrm>
                <a:off x="6534360" y="3812760"/>
                <a:ext cx="902520" cy="11592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Oval 22"/>
              <p:cNvSpPr/>
              <p:nvPr/>
            </p:nvSpPr>
            <p:spPr>
              <a:xfrm>
                <a:off x="7351200" y="3812760"/>
                <a:ext cx="164520" cy="11304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1260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Oval 23"/>
              <p:cNvSpPr/>
              <p:nvPr/>
            </p:nvSpPr>
            <p:spPr>
              <a:xfrm>
                <a:off x="7439760" y="3849840"/>
                <a:ext cx="46080" cy="33120"/>
              </a:xfrm>
              <a:prstGeom prst="ellipse">
                <a:avLst/>
              </a:prstGeom>
              <a:gradFill rotWithShape="0">
                <a:gsLst>
                  <a:gs pos="0">
                    <a:srgbClr val="001847"/>
                  </a:gs>
                  <a:gs pos="50000">
                    <a:srgbClr val="003399"/>
                  </a:gs>
                  <a:gs pos="100000">
                    <a:srgbClr val="00184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5" name="Rectangle 24"/>
            <p:cNvSpPr/>
            <p:nvPr/>
          </p:nvSpPr>
          <p:spPr>
            <a:xfrm rot="3418800">
              <a:off x="7040520" y="3600360"/>
              <a:ext cx="824040" cy="893520"/>
            </a:xfrm>
            <a:prstGeom prst="rect">
              <a:avLst/>
            </a:prstGeom>
            <a:solidFill>
              <a:srgbClr val="dfb6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 Box 28"/>
            <p:cNvSpPr/>
            <p:nvPr/>
          </p:nvSpPr>
          <p:spPr>
            <a:xfrm>
              <a:off x="7101360" y="3752640"/>
              <a:ext cx="66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대인관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휴먼모음T"/>
                  <a:ea typeface="휴먼모음T"/>
                </a:rPr>
                <a:t>관리능력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슬라이드 번호 개체 틀 40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FC2E9-A19A-4057-8C09-37C7C87C8DA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그룹 35"/>
          <p:cNvGrpSpPr/>
          <p:nvPr/>
        </p:nvGrpSpPr>
        <p:grpSpPr>
          <a:xfrm>
            <a:off x="642960" y="1332000"/>
            <a:ext cx="8429760" cy="455400"/>
            <a:chOff x="642960" y="1332000"/>
            <a:chExt cx="8429760" cy="455400"/>
          </a:xfrm>
        </p:grpSpPr>
        <p:grpSp>
          <p:nvGrpSpPr>
            <p:cNvPr id="1099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1100" name="직사각형 51"/>
              <p:cNvSpPr/>
              <p:nvPr/>
            </p:nvSpPr>
            <p:spPr>
              <a:xfrm>
                <a:off x="1216800" y="1386360"/>
                <a:ext cx="1370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서지능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EQ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2" name="그룹 49"/>
            <p:cNvGrpSpPr/>
            <p:nvPr/>
          </p:nvGrpSpPr>
          <p:grpSpPr>
            <a:xfrm>
              <a:off x="671400" y="1395360"/>
              <a:ext cx="328320" cy="318960"/>
              <a:chOff x="671400" y="1395360"/>
              <a:chExt cx="328320" cy="318960"/>
            </a:xfrm>
          </p:grpSpPr>
          <p:sp>
            <p:nvSpPr>
              <p:cNvPr id="1103" name="AutoShape 4"/>
              <p:cNvSpPr/>
              <p:nvPr/>
            </p:nvSpPr>
            <p:spPr>
              <a:xfrm>
                <a:off x="671400" y="1395360"/>
                <a:ext cx="328320" cy="3189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4" name="Freeform 5"/>
              <p:cNvGrpSpPr/>
              <p:nvPr/>
            </p:nvGrpSpPr>
            <p:grpSpPr>
              <a:xfrm>
                <a:off x="688680" y="1407960"/>
                <a:ext cx="170640" cy="170640"/>
                <a:chOff x="688680" y="1407960"/>
                <a:chExt cx="170640" cy="170640"/>
              </a:xfrm>
            </p:grpSpPr>
            <p:pic>
              <p:nvPicPr>
                <p:cNvPr id="110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960"/>
                  <a:ext cx="170640" cy="17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"/>
                <p:cNvSpPr/>
                <p:nvPr/>
              </p:nvSpPr>
              <p:spPr>
                <a:xfrm>
                  <a:off x="691920" y="1415880"/>
                  <a:ext cx="163800" cy="15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7" name="TextBox 88"/>
            <p:cNvSpPr/>
            <p:nvPr/>
          </p:nvSpPr>
          <p:spPr>
            <a:xfrm>
              <a:off x="658080" y="1332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그룹 43"/>
          <p:cNvGrpSpPr/>
          <p:nvPr/>
        </p:nvGrpSpPr>
        <p:grpSpPr>
          <a:xfrm>
            <a:off x="571680" y="1876320"/>
            <a:ext cx="8072280" cy="1201680"/>
            <a:chOff x="571680" y="1876320"/>
            <a:chExt cx="8072280" cy="1201680"/>
          </a:xfrm>
        </p:grpSpPr>
        <p:pic>
          <p:nvPicPr>
            <p:cNvPr id="110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120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0" name="타원 55"/>
            <p:cNvGrpSpPr/>
            <p:nvPr/>
          </p:nvGrpSpPr>
          <p:grpSpPr>
            <a:xfrm>
              <a:off x="859680" y="2157840"/>
              <a:ext cx="225360" cy="231480"/>
              <a:chOff x="859680" y="2157840"/>
              <a:chExt cx="225360" cy="231480"/>
            </a:xfrm>
          </p:grpSpPr>
          <p:pic>
            <p:nvPicPr>
              <p:cNvPr id="1111" name="타원 55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57840"/>
                <a:ext cx="225360" cy="23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2" name=""/>
              <p:cNvSpPr/>
              <p:nvPr/>
            </p:nvSpPr>
            <p:spPr>
              <a:xfrm rot="10800000">
                <a:off x="943200" y="2214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3" name="직사각형 56"/>
            <p:cNvSpPr/>
            <p:nvPr/>
          </p:nvSpPr>
          <p:spPr>
            <a:xfrm>
              <a:off x="928800" y="200016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서지능 혹은 감성지능은‘자신과 타인에 대한 정서적 정보를 정확하고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효과적으로 처리할 수 있는 능력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4" name="AutoShape 3"/>
          <p:cNvSpPr/>
          <p:nvPr/>
        </p:nvSpPr>
        <p:spPr>
          <a:xfrm>
            <a:off x="77616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 자신이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경험하는 감정을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확하게 인식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AutoShape 3"/>
          <p:cNvSpPr/>
          <p:nvPr/>
        </p:nvSpPr>
        <p:spPr>
          <a:xfrm>
            <a:off x="385272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생의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적에 적합하도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렬시키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AutoShape 3"/>
          <p:cNvSpPr/>
          <p:nvPr/>
        </p:nvSpPr>
        <p:spPr>
          <a:xfrm>
            <a:off x="539100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8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을 이해하는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 혹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감정이입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3"/>
          <p:cNvSpPr/>
          <p:nvPr/>
        </p:nvSpPr>
        <p:spPr>
          <a:xfrm>
            <a:off x="6929280" y="4921200"/>
            <a:ext cx="1438560" cy="1365480"/>
          </a:xfrm>
          <a:prstGeom prst="roundRect">
            <a:avLst>
              <a:gd name="adj" fmla="val 13745"/>
            </a:avLst>
          </a:prstGeom>
          <a:solidFill>
            <a:srgbClr val="ffffff">
              <a:alpha val="31000"/>
            </a:srgbClr>
          </a:solidFill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46800" anchor="t">
            <a:noAutofit/>
          </a:bodyPr>
          <a:p>
            <a:pPr>
              <a:lnSpc>
                <a:spcPts val="1998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만한 대인관계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</a:t>
            </a:r>
            <a:r>
              <a:rPr b="0" lang="ko-KR" sz="14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형성하는 능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0-14T00:01:39Z</dcterms:modified>
  <cp:revision>356</cp:revision>
  <dc:subject/>
  <dc:title>PowerPoint Template</dc:title>
</cp:coreProperties>
</file>