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67.png" ContentType="image/png"/>
  <Override PartName="/ppt/media/image30.png" ContentType="image/png"/>
  <Override PartName="/ppt/media/image31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2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6E53-B016-4D9E-9E45-3859394D836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80D-430C-43AE-A4DD-6A10C9C3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D2D-3855-4D05-B378-E93069DC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723811-704E-42B0-8792-D6C5495B4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8328A-BC49-4B1F-A503-00E0D438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C6475-C81E-4F1D-AC70-E38377EB5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D73F5-8683-4A1E-AA26-FACE306E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84F2FA-D954-4329-BFB8-E5100B0F1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8BB5BE-25B0-4193-BAC2-3766584D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D60D6-5BAD-42C2-8ED5-2A7B90B0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A28EE-D571-4394-9846-05D76D9F7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5910C-48E2-40B2-8065-7DF607326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3083EE-4217-4300-A186-A21181F87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CCC-D318-4829-AE4E-FC62BB591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E6C16E-EDD9-4CD4-8E3B-78CC7F6D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D801C-7FEB-4134-8E54-F961E74BD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92F3B-FDE5-435D-A881-B81DC7AA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B2B36-A687-45FF-9716-2CD8B00B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4979C-66D1-46B1-9F35-853852F8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39FF8B-AE39-4105-938C-46A0BCDC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82DE0-0FB1-4C79-9D4E-D47471DF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07B477-0F22-4502-B77B-3F10E82E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F8FD36-3FB8-4DF2-AD74-E6FEE546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A68B71-33E1-463D-A872-41FC3D5F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878-2D20-41D3-B58F-01EB97EF5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07FF7-9618-401E-BBB0-C82BC0385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92D3D-4540-417A-8054-C61EAB5D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D54158-0923-49FF-9533-42830CEB1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9DD21-81BC-403D-A00A-040E8D4EB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EFF7A-2F58-4849-9DD9-C3BF9967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D2DD36-AB92-43E5-B8BE-8B3FF80A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68443-1242-4458-B127-D532EFE6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27BB6-ECB7-49A7-AD42-F4EDFDC5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D434C6-C21D-47F2-8CB8-7C82E097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05BED-997B-49D0-9D27-1A76D29B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B30F2-3AD5-4954-91CF-2C526201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B3253-239D-4DE0-91DA-ADBD7CF6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702A4-54ED-4083-90BC-2BAB4FBE5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B0F4B-4922-458E-BB57-5C0A2A73B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EF727C-381A-4C4E-A8CC-0F33397EB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707F71-B88F-4EB4-83BF-7B162046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352D0-20A0-42E7-814F-2B04C490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D1EE4-DE17-4E8D-A1F3-AC2163F5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385ACE-45F4-4AD8-ACC2-76A717B1C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3C43-51A1-47AF-AB96-BD2D64BC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EFB1F-8298-420F-BB12-8272548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C56C-435D-427A-BBD6-B03C7BB9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5B8659-49C2-45A5-BF92-94A1FA3B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5CC4B-A018-4E94-980C-D446771B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DB68F-C55B-4F40-8DC7-DC38250F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13169-060A-406D-B4AC-934E6320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759EF6-51B4-4BA4-9C98-8DAF785B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53B1FF-EE48-47F1-8D2F-568CE19AC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2A7543-423F-4375-A355-BE2FF05A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CC7D2D5-5DEB-406B-BF81-B499290A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09242D-EEFB-42D5-BB11-F8E49189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927A0D-13F8-49B8-89F6-74E4732D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39F4-D01F-44CC-A01C-CE359A3D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EC896C-1CE8-41FA-B12B-9DC8523C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A93287B-6211-4D30-A029-53FA8A2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3E5232-4D2B-4BAB-ACA9-A37A5C4B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46BA17-DC41-494F-B8A8-2567124F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3911B2-1CF6-4C30-936B-845AC534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C5DED5F-7AE2-40BE-951D-1BF05C896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0F8F99-3CCD-41CD-8BA9-84C3D508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0593-7491-47C5-ADA8-9D59A4B4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00F8C-F701-4BF7-8D6C-1B8DC875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072C-2125-4EA8-8023-C9E1F397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B0A3-6048-4720-BF1E-1C3B9F63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9BD9-8750-4714-B63E-1D693F912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0352-2BD5-4205-97D2-C63E0FCF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DD347-775A-42D2-BA75-72FA76A4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D744-A82E-4D0D-89D3-98D7B279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10AE-9409-46B7-A77B-4B4E94E51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2876C-4BE0-47A3-879B-D7CEA1B4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1204-4837-401A-B0DC-F88E3C4D9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12C9F-C03E-450D-9308-B9922B54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A6E5C-5142-4492-A366-6B668512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2BB18-4C14-4CEE-8264-CC3D40BB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E8FA4-EBAF-4FF5-A146-3FC27B76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F9D-EADF-4A30-AC1E-A01A33F6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102B6-33C6-4BE2-9154-69A2CF68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D920F-AFD8-4984-AEC6-A86A7F6E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63A73-2453-45CF-AE88-BF406AF4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6219-473C-4B88-A1CF-3FE7373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83D90-003B-4FCF-975C-6A3BEDF4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754AB-A538-4417-8FAD-12892A34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14A2-69B0-43D6-A870-125043A8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4BB32-595B-48C7-B776-2BDBEAAC1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9036F-BE1F-4E4F-B2A6-E057371D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03FEB-EA2D-4D6B-9A91-7A35D0651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7CAE-F5F6-4516-90C5-FC149B3E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93ED3-11E1-4CAE-97E7-EBE81813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D6A69-A511-4137-8CA1-A97B38B7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2521-19D4-4355-B013-83A5F1EC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A4A5D-41B1-4B6C-A0EF-F6F40C6E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DFF06-4E91-4EC0-9976-D7567E40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78C01-7DD9-47C7-9EBC-F7F700EA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883FD-1FFC-4EE6-A7A2-D6EFBAB4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A7BBB-19BD-4711-8CC0-F0C32CAD3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545BE-D5B4-49E1-BA9A-E9FF8E7C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35230-D616-45E7-B1BF-A38E4E05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D14F-B8AE-48FD-A72C-56101947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D700-3617-4DC7-B52C-845F605C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E42BF-145B-4FB9-B4BB-AB4BA6E6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0A7D4-8452-4E10-A054-F5E93AE2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5D888-F7BC-49B6-B890-9716CE4C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5AF8A-010E-422D-97F9-FB0AA708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70E3-C829-4122-909F-43465B8C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CDFB1-3054-4E62-976E-0715713C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6F2E6-8CE0-4AE2-B74D-115038AF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0325-E9D1-4A44-A7EC-E17BF62DA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68465D-38DE-477A-876F-D793B2F6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5F2F-D687-41B6-8FD6-F0FEA4A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F7C2B-5E51-4A39-A89F-1350F149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3FD02-CF8C-4BAD-AC09-D7C97EE71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78876B-BA84-4A3B-8A6B-E0FEB88B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4DCB65-ABB7-4173-A965-2C0D919F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866A21-CB54-480F-9EBC-B18ACEF8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AF35FC-4740-4EF5-BA3F-30485CD9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5B1F8A-A6B0-428A-99F0-400904A3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CB712B-3C59-4C98-9D96-5CDAFF74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56A2E-8752-46C5-B194-5A656E3A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81148-9D2D-49BA-8C80-9375EFC2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C89-A11A-45EE-B616-53841B9B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5962FC-A8E1-4E8F-8596-5E1F45AE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69EBF-6E25-4FE6-AF7E-BF513601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B05DD1-50F8-4B07-AB2D-509DD1E5D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EAB5F-8948-42FB-8885-24CA6F35A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5507F-4F3C-4B48-93C2-CE254D1F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FE383-3A30-498B-8A36-30DCF775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11E6D4-6DA4-43FA-B33B-B04A1DAC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92CF3-2B53-4C00-9C5C-4FD25A14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411C51-E7B2-4A70-B7C0-3FEF2A7B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9C8CBD-41E0-4532-9B3A-F9016BCC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9ED-6EAD-423A-9357-BDEA955D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821F0-9ACB-4210-BF13-B2E57CFC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082D6-B02A-4E76-BFF1-EACACB6F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8BB9A-B37D-4074-A227-181907C7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9883E-5C8B-47CA-B126-4BEACB9EE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E6949-9EF5-4054-9C3C-6A4FD285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DE276-C058-4C25-B78F-B2A2B2D22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8F1D7C-3AD1-432E-BEA7-DA23FDC7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24C17-1853-4209-A888-D642B085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F74E3-46B9-4266-9D54-551E6C73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842C3-FECA-40C2-B88D-137E236A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1449-7155-46AC-828F-DB774D58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0872B-3D75-43CE-872B-019F761B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F74AD-2737-4F19-9FBA-B2CB2BF0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19C46-2E81-4640-B4CB-01E73D33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B0A4C-853F-46B7-B9C9-8FFB3401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CC56C-2458-422E-8FB4-4B37B6FD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43FB4-F75F-43A2-84B3-809FF2476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B52DA-39E2-4BF1-BEFA-77435236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B2297-2EC6-47E2-BC8C-DAEAD5ED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B129D-013B-4CC0-8AFF-A57A13D8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3C774-D7E3-48BD-96F0-B80C0851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C7E8-1111-4C98-9209-F1FC49DA29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2F3C-611A-459D-8469-31CF300407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668D-5DAD-46E3-96DF-CCE9E67FC8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F883-4182-442A-8478-71FCE9E9AB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280C-7B95-4B9A-9848-D67DA8C854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1BC8-1477-447A-A59B-B6C447841D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758D-F2D0-481B-A45F-2E49782885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37B2-82FB-4383-8168-4A22DFFA72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0FCC-5CB4-40C6-97E6-BD04E9371F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C4C0-2008-4811-8A4B-E054D805BA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9E20-5F6F-40C9-A69A-F6619AF5612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C81E-A5E9-48C9-BEE4-914E47FFC9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96BA-10ED-43B4-AE99-09264BDFA1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7.png"/><Relationship Id="rId6" Type="http://schemas.openxmlformats.org/officeDocument/2006/relationships/image" Target="../media/image10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0.png"/><Relationship Id="rId6" Type="http://schemas.openxmlformats.org/officeDocument/2006/relationships/image" Target="../media/image10.png"/><Relationship Id="rId7" Type="http://schemas.openxmlformats.org/officeDocument/2006/relationships/image" Target="../media/image41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2.png"/><Relationship Id="rId6" Type="http://schemas.openxmlformats.org/officeDocument/2006/relationships/image" Target="../media/image42.png"/><Relationship Id="rId7" Type="http://schemas.openxmlformats.org/officeDocument/2006/relationships/image" Target="../media/image42.png"/><Relationship Id="rId8" Type="http://schemas.openxmlformats.org/officeDocument/2006/relationships/image" Target="../media/image42.png"/><Relationship Id="rId9" Type="http://schemas.openxmlformats.org/officeDocument/2006/relationships/image" Target="../media/image43.png"/><Relationship Id="rId10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7.png"/><Relationship Id="rId11" Type="http://schemas.openxmlformats.org/officeDocument/2006/relationships/image" Target="../media/image39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39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7.png"/><Relationship Id="rId8" Type="http://schemas.openxmlformats.org/officeDocument/2006/relationships/image" Target="../media/image56.png"/><Relationship Id="rId9" Type="http://schemas.openxmlformats.org/officeDocument/2006/relationships/image" Target="../media/image57.png"/><Relationship Id="rId10" Type="http://schemas.openxmlformats.org/officeDocument/2006/relationships/image" Target="../media/image58.png"/><Relationship Id="rId11" Type="http://schemas.openxmlformats.org/officeDocument/2006/relationships/image" Target="../media/image47.png"/><Relationship Id="rId12" Type="http://schemas.openxmlformats.org/officeDocument/2006/relationships/image" Target="../media/image39.png"/><Relationship Id="rId1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47.png"/><Relationship Id="rId10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8.png"/><Relationship Id="rId6" Type="http://schemas.openxmlformats.org/officeDocument/2006/relationships/image" Target="../media/image7.png"/><Relationship Id="rId7" Type="http://schemas.openxmlformats.org/officeDocument/2006/relationships/image" Target="../media/image20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0.png"/><Relationship Id="rId11" Type="http://schemas.openxmlformats.org/officeDocument/2006/relationships/image" Target="../media/image30.png"/><Relationship Id="rId1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8268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93840" y="185724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학습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840560" y="250020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구성주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13A5D-303E-4496-950C-6B7BB995D0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AutoShape 3"/>
          <p:cNvSpPr/>
          <p:nvPr/>
        </p:nvSpPr>
        <p:spPr>
          <a:xfrm>
            <a:off x="6443640" y="3476520"/>
            <a:ext cx="2521080" cy="3024360"/>
          </a:xfrm>
          <a:custGeom>
            <a:avLst/>
            <a:gdLst>
              <a:gd name="textAreaLeft" fmla="*/ 101160 w 2521080"/>
              <a:gd name="textAreaRight" fmla="*/ 2419920 w 2521080"/>
              <a:gd name="textAreaTop" fmla="*/ 101160 h 3024360"/>
              <a:gd name="textAreaBottom" fmla="*/ 2923200 h 3024360"/>
            </a:gdLst>
            <a:ahLst/>
            <a:rect l="textAreaLeft" t="textAreaTop" r="textAreaRight" b="textAreaBottom"/>
            <a:pathLst>
              <a:path w="21600" h="25911">
                <a:moveTo>
                  <a:pt x="2969" y="0"/>
                </a:moveTo>
                <a:arcTo wR="2969" hR="2969" stAng="16200000" swAng="-5400000"/>
                <a:lnTo>
                  <a:pt x="0" y="22942"/>
                </a:lnTo>
                <a:arcTo wR="2969" hR="2969" stAng="10800000" swAng="-5400000"/>
                <a:lnTo>
                  <a:pt x="18631" y="2591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학생들의 사고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실제적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활동과 관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공교사의 지렛대수업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“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톰 아저씨의 오두막집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utoShape 4"/>
          <p:cNvSpPr/>
          <p:nvPr/>
        </p:nvSpPr>
        <p:spPr>
          <a:xfrm>
            <a:off x="4500720" y="3468600"/>
            <a:ext cx="1942920" cy="3032280"/>
          </a:xfrm>
          <a:custGeom>
            <a:avLst/>
            <a:gdLst>
              <a:gd name="textAreaLeft" fmla="*/ 78120 w 1942920"/>
              <a:gd name="textAreaRight" fmla="*/ 1864800 w 1942920"/>
              <a:gd name="textAreaTop" fmla="*/ 78120 h 3032280"/>
              <a:gd name="textAreaBottom" fmla="*/ 2954160 h 3032280"/>
            </a:gdLst>
            <a:ahLst/>
            <a:rect l="textAreaLeft" t="textAreaTop" r="textAreaRight" b="textAreaBottom"/>
            <a:pathLst>
              <a:path w="21600" h="33708">
                <a:moveTo>
                  <a:pt x="2969" y="0"/>
                </a:moveTo>
                <a:arcTo wR="2969" hR="2969" stAng="16200000" swAng="-5400000"/>
                <a:lnTo>
                  <a:pt x="0" y="30739"/>
                </a:lnTo>
                <a:arcTo wR="2969" hR="2969" stAng="10800000" swAng="-5400000"/>
                <a:lnTo>
                  <a:pt x="18631" y="3370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상호작용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중요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최교사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토론수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AutoShape 5"/>
          <p:cNvSpPr/>
          <p:nvPr/>
        </p:nvSpPr>
        <p:spPr>
          <a:xfrm>
            <a:off x="2411280" y="3476520"/>
            <a:ext cx="2089440" cy="3024360"/>
          </a:xfrm>
          <a:custGeom>
            <a:avLst/>
            <a:gdLst>
              <a:gd name="textAreaLeft" fmla="*/ 83880 w 2089440"/>
              <a:gd name="textAreaRight" fmla="*/ 2005560 w 2089440"/>
              <a:gd name="textAreaTop" fmla="*/ 83880 h 3024360"/>
              <a:gd name="textAreaBottom" fmla="*/ 2940480 h 3024360"/>
            </a:gdLst>
            <a:ahLst/>
            <a:rect l="textAreaLeft" t="textAreaTop" r="textAreaRight" b="textAreaBottom"/>
            <a:pathLst>
              <a:path w="21600" h="31263">
                <a:moveTo>
                  <a:pt x="2969" y="0"/>
                </a:moveTo>
                <a:arcTo wR="2969" hR="2969" stAng="16200000" swAng="-5400000"/>
                <a:lnTo>
                  <a:pt x="0" y="28294"/>
                </a:lnTo>
                <a:arcTo wR="2969" hR="2969" stAng="10800000" swAng="-5400000"/>
                <a:lnTo>
                  <a:pt x="18631" y="31263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새로운 학습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현재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맥락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배경지식</a:t>
            </a:r>
            <a:r>
              <a:rPr b="1" lang="en-US" sz="2000" spc="-1" strike="noStrike">
                <a:solidFill>
                  <a:srgbClr val="08090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에서 해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지구와 태양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거리에 따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기온 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AutoShape 6"/>
          <p:cNvSpPr/>
          <p:nvPr/>
        </p:nvSpPr>
        <p:spPr>
          <a:xfrm>
            <a:off x="250920" y="3468600"/>
            <a:ext cx="2160360" cy="3032280"/>
          </a:xfrm>
          <a:custGeom>
            <a:avLst/>
            <a:gdLst>
              <a:gd name="textAreaLeft" fmla="*/ 86760 w 2160360"/>
              <a:gd name="textAreaRight" fmla="*/ 2073600 w 2160360"/>
              <a:gd name="textAreaTop" fmla="*/ 86760 h 3032280"/>
              <a:gd name="textAreaBottom" fmla="*/ 2945520 h 3032280"/>
            </a:gdLst>
            <a:ahLst/>
            <a:rect l="textAreaLeft" t="textAreaTop" r="textAreaRight" b="textAreaBottom"/>
            <a:pathLst>
              <a:path w="21600" h="30316">
                <a:moveTo>
                  <a:pt x="2969" y="0"/>
                </a:moveTo>
                <a:arcTo wR="2969" hR="2969" stAng="16200000" swAng="-5400000"/>
                <a:lnTo>
                  <a:pt x="0" y="27347"/>
                </a:lnTo>
                <a:arcTo wR="2969" hR="2969" stAng="10800000" swAng="-5400000"/>
                <a:lnTo>
                  <a:pt x="18631" y="3031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dede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인지적 갈등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통한 이해의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80903"/>
                </a:solidFill>
                <a:latin typeface="Arial"/>
              </a:rPr>
              <a:t>재구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  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예</a:t>
            </a:r>
            <a:r>
              <a:rPr b="1" lang="en-US" sz="1800" spc="-1" strike="noStrike">
                <a:solidFill>
                  <a:srgbClr val="080903"/>
                </a:solidFill>
                <a:latin typeface="Arial"/>
              </a:rPr>
              <a:t>)</a:t>
            </a: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수진이와 태우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80903"/>
                </a:solidFill>
                <a:latin typeface="Arial"/>
              </a:rPr>
              <a:t>사고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Group 9"/>
          <p:cNvGrpSpPr/>
          <p:nvPr/>
        </p:nvGrpSpPr>
        <p:grpSpPr>
          <a:xfrm>
            <a:off x="2374920" y="2179800"/>
            <a:ext cx="933120" cy="131760"/>
            <a:chOff x="2374920" y="2179800"/>
            <a:chExt cx="933120" cy="131760"/>
          </a:xfrm>
        </p:grpSpPr>
        <p:sp>
          <p:nvSpPr>
            <p:cNvPr id="1142" name="Oval 10"/>
            <p:cNvSpPr/>
            <p:nvPr/>
          </p:nvSpPr>
          <p:spPr>
            <a:xfrm>
              <a:off x="2374920" y="2179800"/>
              <a:ext cx="15732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Rectangle 11"/>
            <p:cNvSpPr/>
            <p:nvPr/>
          </p:nvSpPr>
          <p:spPr>
            <a:xfrm>
              <a:off x="2464200" y="2180880"/>
              <a:ext cx="77400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12"/>
            <p:cNvSpPr/>
            <p:nvPr/>
          </p:nvSpPr>
          <p:spPr>
            <a:xfrm>
              <a:off x="3166560" y="2181960"/>
              <a:ext cx="1414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Oval 13"/>
            <p:cNvSpPr/>
            <p:nvPr/>
          </p:nvSpPr>
          <p:spPr>
            <a:xfrm>
              <a:off x="3242520" y="222300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Rectangle 8"/>
          <p:cNvSpPr/>
          <p:nvPr/>
        </p:nvSpPr>
        <p:spPr>
          <a:xfrm rot="3851400">
            <a:off x="528120" y="1299960"/>
            <a:ext cx="1465200" cy="214812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15"/>
          <p:cNvGrpSpPr/>
          <p:nvPr/>
        </p:nvGrpSpPr>
        <p:grpSpPr>
          <a:xfrm>
            <a:off x="4356000" y="2133720"/>
            <a:ext cx="931320" cy="131760"/>
            <a:chOff x="4356000" y="2133720"/>
            <a:chExt cx="931320" cy="131760"/>
          </a:xfrm>
        </p:grpSpPr>
        <p:sp>
          <p:nvSpPr>
            <p:cNvPr id="1148" name="Oval 16"/>
            <p:cNvSpPr/>
            <p:nvPr/>
          </p:nvSpPr>
          <p:spPr>
            <a:xfrm>
              <a:off x="4356000" y="2133720"/>
              <a:ext cx="1569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17"/>
            <p:cNvSpPr/>
            <p:nvPr/>
          </p:nvSpPr>
          <p:spPr>
            <a:xfrm>
              <a:off x="4445280" y="2134800"/>
              <a:ext cx="7729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Oval 18"/>
            <p:cNvSpPr/>
            <p:nvPr/>
          </p:nvSpPr>
          <p:spPr>
            <a:xfrm>
              <a:off x="5146200" y="2135880"/>
              <a:ext cx="14112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Oval 19"/>
            <p:cNvSpPr/>
            <p:nvPr/>
          </p:nvSpPr>
          <p:spPr>
            <a:xfrm>
              <a:off x="5222160" y="2176920"/>
              <a:ext cx="3960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2" name="Rectangle 14"/>
          <p:cNvSpPr/>
          <p:nvPr/>
        </p:nvSpPr>
        <p:spPr>
          <a:xfrm rot="3949800">
            <a:off x="2638080" y="1346040"/>
            <a:ext cx="1503360" cy="208440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Group 21"/>
          <p:cNvGrpSpPr/>
          <p:nvPr/>
        </p:nvGrpSpPr>
        <p:grpSpPr>
          <a:xfrm>
            <a:off x="6372360" y="2205000"/>
            <a:ext cx="1218240" cy="131760"/>
            <a:chOff x="6372360" y="2205000"/>
            <a:chExt cx="1218240" cy="131760"/>
          </a:xfrm>
        </p:grpSpPr>
        <p:sp>
          <p:nvSpPr>
            <p:cNvPr id="1154" name="Oval 22"/>
            <p:cNvSpPr/>
            <p:nvPr/>
          </p:nvSpPr>
          <p:spPr>
            <a:xfrm>
              <a:off x="6372360" y="2205000"/>
              <a:ext cx="205560" cy="1306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23"/>
            <p:cNvSpPr/>
            <p:nvPr/>
          </p:nvSpPr>
          <p:spPr>
            <a:xfrm>
              <a:off x="6489000" y="2206080"/>
              <a:ext cx="1010520" cy="13068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Oval 24"/>
            <p:cNvSpPr/>
            <p:nvPr/>
          </p:nvSpPr>
          <p:spPr>
            <a:xfrm>
              <a:off x="7405920" y="2207160"/>
              <a:ext cx="184680" cy="1263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25"/>
            <p:cNvSpPr/>
            <p:nvPr/>
          </p:nvSpPr>
          <p:spPr>
            <a:xfrm>
              <a:off x="7505280" y="2248200"/>
              <a:ext cx="51840" cy="3708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Rectangle 20"/>
          <p:cNvSpPr/>
          <p:nvPr/>
        </p:nvSpPr>
        <p:spPr>
          <a:xfrm rot="3837000">
            <a:off x="4868640" y="1330200"/>
            <a:ext cx="1446120" cy="2014560"/>
          </a:xfrm>
          <a:prstGeom prst="rect">
            <a:avLst/>
          </a:prstGeom>
          <a:solidFill>
            <a:srgbClr val="c2a87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 rot="3765600">
            <a:off x="6829200" y="1392120"/>
            <a:ext cx="1496880" cy="1979640"/>
          </a:xfrm>
          <a:prstGeom prst="rect">
            <a:avLst/>
          </a:prstGeom>
          <a:solidFill>
            <a:srgbClr val="53548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27"/>
          <p:cNvSpPr/>
          <p:nvPr/>
        </p:nvSpPr>
        <p:spPr>
          <a:xfrm>
            <a:off x="307800" y="1969200"/>
            <a:ext cx="187992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자주도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이해의 구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28"/>
          <p:cNvSpPr/>
          <p:nvPr/>
        </p:nvSpPr>
        <p:spPr>
          <a:xfrm>
            <a:off x="2411280" y="1909800"/>
            <a:ext cx="223200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현재의 이해에 의존하는 새로운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29"/>
          <p:cNvSpPr/>
          <p:nvPr/>
        </p:nvSpPr>
        <p:spPr>
          <a:xfrm>
            <a:off x="4429080" y="1948680"/>
            <a:ext cx="2359080" cy="9082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학습을 촉진하는 사회적 상호작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AutoShape 30"/>
          <p:cNvSpPr/>
          <p:nvPr/>
        </p:nvSpPr>
        <p:spPr>
          <a:xfrm>
            <a:off x="6681960" y="2034000"/>
            <a:ext cx="2319120" cy="12178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Arial"/>
              </a:rPr>
              <a:t>실제세계 과제를 이용한 유의미 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TextBox 3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65" name="그룹 35"/>
          <p:cNvGrpSpPr/>
          <p:nvPr/>
        </p:nvGrpSpPr>
        <p:grpSpPr>
          <a:xfrm>
            <a:off x="357120" y="642960"/>
            <a:ext cx="8429760" cy="399960"/>
            <a:chOff x="357120" y="642960"/>
            <a:chExt cx="8429760" cy="399960"/>
          </a:xfrm>
        </p:grpSpPr>
        <p:grpSp>
          <p:nvGrpSpPr>
            <p:cNvPr id="1166" name="그룹 48"/>
            <p:cNvGrpSpPr/>
            <p:nvPr/>
          </p:nvGrpSpPr>
          <p:grpSpPr>
            <a:xfrm>
              <a:off x="357120" y="642960"/>
              <a:ext cx="8429760" cy="399960"/>
              <a:chOff x="357120" y="642960"/>
              <a:chExt cx="8429760" cy="399960"/>
            </a:xfrm>
          </p:grpSpPr>
          <p:sp>
            <p:nvSpPr>
              <p:cNvPr id="1167" name="직사각형 13"/>
              <p:cNvSpPr/>
              <p:nvPr/>
            </p:nvSpPr>
            <p:spPr>
              <a:xfrm>
                <a:off x="766080" y="642960"/>
                <a:ext cx="244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 특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직선 연결선 18"/>
              <p:cNvSpPr/>
              <p:nvPr/>
            </p:nvSpPr>
            <p:spPr>
              <a:xfrm>
                <a:off x="357120" y="1041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9" name="그룹 49"/>
            <p:cNvGrpSpPr/>
            <p:nvPr/>
          </p:nvGrpSpPr>
          <p:grpSpPr>
            <a:xfrm>
              <a:off x="385560" y="651960"/>
              <a:ext cx="328320" cy="318600"/>
              <a:chOff x="385560" y="651960"/>
              <a:chExt cx="328320" cy="318600"/>
            </a:xfrm>
          </p:grpSpPr>
          <p:sp>
            <p:nvSpPr>
              <p:cNvPr id="1170" name="AutoShape 4"/>
              <p:cNvSpPr/>
              <p:nvPr/>
            </p:nvSpPr>
            <p:spPr>
              <a:xfrm>
                <a:off x="385560" y="65196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Freeform 5"/>
              <p:cNvGrpSpPr/>
              <p:nvPr/>
            </p:nvGrpSpPr>
            <p:grpSpPr>
              <a:xfrm>
                <a:off x="402120" y="664200"/>
                <a:ext cx="170640" cy="176400"/>
                <a:chOff x="402120" y="664200"/>
                <a:chExt cx="170640" cy="176400"/>
              </a:xfrm>
            </p:grpSpPr>
            <p:pic>
              <p:nvPicPr>
                <p:cNvPr id="11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02120" y="66420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3" name=""/>
                <p:cNvSpPr/>
                <p:nvPr/>
              </p:nvSpPr>
              <p:spPr>
                <a:xfrm>
                  <a:off x="406080" y="67248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4" name="TextBox 88"/>
            <p:cNvSpPr/>
            <p:nvPr/>
          </p:nvSpPr>
          <p:spPr>
            <a:xfrm>
              <a:off x="379080" y="6850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17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78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8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8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8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그룹 32"/>
          <p:cNvGrpSpPr/>
          <p:nvPr/>
        </p:nvGrpSpPr>
        <p:grpSpPr>
          <a:xfrm>
            <a:off x="285840" y="2000160"/>
            <a:ext cx="9215280" cy="4000680"/>
            <a:chOff x="285840" y="2000160"/>
            <a:chExt cx="9215280" cy="4000680"/>
          </a:xfrm>
        </p:grpSpPr>
        <p:grpSp>
          <p:nvGrpSpPr>
            <p:cNvPr id="1187" name="그룹 37"/>
            <p:cNvGrpSpPr/>
            <p:nvPr/>
          </p:nvGrpSpPr>
          <p:grpSpPr>
            <a:xfrm>
              <a:off x="285840" y="2000160"/>
              <a:ext cx="8501040" cy="4000680"/>
              <a:chOff x="285840" y="2000160"/>
              <a:chExt cx="8501040" cy="4000680"/>
            </a:xfrm>
          </p:grpSpPr>
          <p:grpSp>
            <p:nvGrpSpPr>
              <p:cNvPr id="1188" name="그룹 91"/>
              <p:cNvGrpSpPr/>
              <p:nvPr/>
            </p:nvGrpSpPr>
            <p:grpSpPr>
              <a:xfrm>
                <a:off x="285840" y="2214360"/>
                <a:ext cx="8501040" cy="3786480"/>
                <a:chOff x="285840" y="2214360"/>
                <a:chExt cx="8501040" cy="3786480"/>
              </a:xfrm>
            </p:grpSpPr>
            <p:pic>
              <p:nvPicPr>
                <p:cNvPr id="118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3786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0" name="직사각형 24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1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192" name="그룹 91"/>
                <p:cNvGrpSpPr/>
                <p:nvPr/>
              </p:nvGrpSpPr>
              <p:grpSpPr>
                <a:xfrm>
                  <a:off x="928440" y="2000160"/>
                  <a:ext cx="4552200" cy="551160"/>
                  <a:chOff x="928440" y="2000160"/>
                  <a:chExt cx="4552200" cy="551160"/>
                </a:xfrm>
              </p:grpSpPr>
              <p:grpSp>
                <p:nvGrpSpPr>
                  <p:cNvPr id="1193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19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5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직사각형 20"/>
                  <p:cNvSpPr/>
                  <p:nvPr/>
                </p:nvSpPr>
                <p:spPr>
                  <a:xfrm>
                    <a:off x="1679040" y="2000160"/>
                    <a:ext cx="3801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7" name="직선 연결선 17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98" name="직사각형 26"/>
            <p:cNvSpPr/>
            <p:nvPr/>
          </p:nvSpPr>
          <p:spPr>
            <a:xfrm>
              <a:off x="1000080" y="2536560"/>
              <a:ext cx="8501040" cy="29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인의 인지활동을 통해 전적으로 구성된다는 관점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을 변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조직하는 과정을 통해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선행지식에 대한 추상화 과정을 통해 발달하며 보편적인 발달계열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따른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9" name="타원 27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00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2" name="오른쪽 화살표 28"/>
            <p:cNvGrpSpPr/>
            <p:nvPr/>
          </p:nvGrpSpPr>
          <p:grpSpPr>
            <a:xfrm>
              <a:off x="1170360" y="3212640"/>
              <a:ext cx="353520" cy="304560"/>
              <a:chOff x="1170360" y="3212640"/>
              <a:chExt cx="353520" cy="304560"/>
            </a:xfrm>
          </p:grpSpPr>
          <p:pic>
            <p:nvPicPr>
              <p:cNvPr id="1203" name="오른쪽 화살표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64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4" name=""/>
              <p:cNvSpPr/>
              <p:nvPr/>
            </p:nvSpPr>
            <p:spPr>
              <a:xfrm>
                <a:off x="1214280" y="330192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5" name="타원 29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06" name="타원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7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타원 3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09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0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1" name="타원 31"/>
            <p:cNvGrpSpPr/>
            <p:nvPr/>
          </p:nvGrpSpPr>
          <p:grpSpPr>
            <a:xfrm>
              <a:off x="1261800" y="4876920"/>
              <a:ext cx="231480" cy="231480"/>
              <a:chOff x="1261800" y="4876920"/>
              <a:chExt cx="231480" cy="231480"/>
            </a:xfrm>
          </p:grpSpPr>
          <p:pic>
            <p:nvPicPr>
              <p:cNvPr id="1212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4876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3" name=""/>
              <p:cNvSpPr/>
              <p:nvPr/>
            </p:nvSpPr>
            <p:spPr>
              <a:xfrm rot="10800000">
                <a:off x="1344240" y="4930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7" name="직사각형 13"/>
              <p:cNvSpPr/>
              <p:nvPr/>
            </p:nvSpPr>
            <p:spPr>
              <a:xfrm>
                <a:off x="1419120" y="138564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그룹 13"/>
          <p:cNvGrpSpPr/>
          <p:nvPr/>
        </p:nvGrpSpPr>
        <p:grpSpPr>
          <a:xfrm>
            <a:off x="285840" y="2000160"/>
            <a:ext cx="9215280" cy="4357800"/>
            <a:chOff x="285840" y="2000160"/>
            <a:chExt cx="9215280" cy="4357800"/>
          </a:xfrm>
        </p:grpSpPr>
        <p:grpSp>
          <p:nvGrpSpPr>
            <p:cNvPr id="1226" name="그룹 37"/>
            <p:cNvGrpSpPr/>
            <p:nvPr/>
          </p:nvGrpSpPr>
          <p:grpSpPr>
            <a:xfrm>
              <a:off x="285840" y="2000160"/>
              <a:ext cx="8501040" cy="4357800"/>
              <a:chOff x="285840" y="2000160"/>
              <a:chExt cx="8501040" cy="4357800"/>
            </a:xfrm>
          </p:grpSpPr>
          <p:grpSp>
            <p:nvGrpSpPr>
              <p:cNvPr id="1227" name="그룹 91"/>
              <p:cNvGrpSpPr/>
              <p:nvPr/>
            </p:nvGrpSpPr>
            <p:grpSpPr>
              <a:xfrm>
                <a:off x="285840" y="2214360"/>
                <a:ext cx="8501040" cy="4143600"/>
                <a:chOff x="285840" y="2214360"/>
                <a:chExt cx="8501040" cy="4143600"/>
              </a:xfrm>
            </p:grpSpPr>
            <p:pic>
              <p:nvPicPr>
                <p:cNvPr id="12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29" name="직사각형 31"/>
                <p:cNvSpPr/>
                <p:nvPr/>
              </p:nvSpPr>
              <p:spPr>
                <a:xfrm>
                  <a:off x="1285920" y="245556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231" name="그룹 91"/>
                <p:cNvGrpSpPr/>
                <p:nvPr/>
              </p:nvGrpSpPr>
              <p:grpSpPr>
                <a:xfrm>
                  <a:off x="928440" y="2000160"/>
                  <a:ext cx="4199400" cy="551160"/>
                  <a:chOff x="928440" y="2000160"/>
                  <a:chExt cx="4199400" cy="551160"/>
                </a:xfrm>
              </p:grpSpPr>
              <p:grpSp>
                <p:nvGrpSpPr>
                  <p:cNvPr id="12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2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5" name="직사각형 27"/>
                  <p:cNvSpPr/>
                  <p:nvPr/>
                </p:nvSpPr>
                <p:spPr>
                  <a:xfrm>
                    <a:off x="1655640" y="2000160"/>
                    <a:ext cx="3472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사회적 구성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ocial constructivism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6" name="직선 연결선 25"/>
                <p:cNvSpPr/>
                <p:nvPr/>
              </p:nvSpPr>
              <p:spPr>
                <a:xfrm>
                  <a:off x="6143400" y="228600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37" name="직사각형 15"/>
            <p:cNvSpPr/>
            <p:nvPr/>
          </p:nvSpPr>
          <p:spPr>
            <a:xfrm>
              <a:off x="1000080" y="253656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개채와 환경의 상호작용을 통해 도출된다는 입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은 개체가 다른 사람들과 상호작용을 하는 과정에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구성주의는 맥락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ntextualism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에 기반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8" name="타원 16"/>
            <p:cNvGrpSpPr/>
            <p:nvPr/>
          </p:nvGrpSpPr>
          <p:grpSpPr>
            <a:xfrm>
              <a:off x="1048320" y="2785680"/>
              <a:ext cx="225360" cy="231480"/>
              <a:chOff x="1048320" y="2785680"/>
              <a:chExt cx="225360" cy="231480"/>
            </a:xfrm>
          </p:grpSpPr>
          <p:pic>
            <p:nvPicPr>
              <p:cNvPr id="123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8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0" name=""/>
              <p:cNvSpPr/>
              <p:nvPr/>
            </p:nvSpPr>
            <p:spPr>
              <a:xfrm rot="10800000">
                <a:off x="1130400" y="284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1" name="오른쪽 화살표 17"/>
            <p:cNvGrpSpPr/>
            <p:nvPr/>
          </p:nvGrpSpPr>
          <p:grpSpPr>
            <a:xfrm>
              <a:off x="1170360" y="3212280"/>
              <a:ext cx="353520" cy="304560"/>
              <a:chOff x="1170360" y="3212280"/>
              <a:chExt cx="353520" cy="304560"/>
            </a:xfrm>
          </p:grpSpPr>
          <p:pic>
            <p:nvPicPr>
              <p:cNvPr id="1242" name="오른쪽 화살표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70360" y="3212280"/>
                <a:ext cx="353520" cy="30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3" name=""/>
              <p:cNvSpPr/>
              <p:nvPr/>
            </p:nvSpPr>
            <p:spPr>
              <a:xfrm>
                <a:off x="1214280" y="3301560"/>
                <a:ext cx="17604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타원 18"/>
            <p:cNvGrpSpPr/>
            <p:nvPr/>
          </p:nvGrpSpPr>
          <p:grpSpPr>
            <a:xfrm>
              <a:off x="1048320" y="3755160"/>
              <a:ext cx="225360" cy="231480"/>
              <a:chOff x="1048320" y="3755160"/>
              <a:chExt cx="225360" cy="231480"/>
            </a:xfrm>
          </p:grpSpPr>
          <p:pic>
            <p:nvPicPr>
              <p:cNvPr id="124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7551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"/>
              <p:cNvSpPr/>
              <p:nvPr/>
            </p:nvSpPr>
            <p:spPr>
              <a:xfrm rot="10800000">
                <a:off x="1130400" y="3809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타원 20"/>
            <p:cNvGrpSpPr/>
            <p:nvPr/>
          </p:nvGrpSpPr>
          <p:grpSpPr>
            <a:xfrm>
              <a:off x="1261800" y="4303800"/>
              <a:ext cx="231480" cy="231480"/>
              <a:chOff x="1261800" y="4303800"/>
              <a:chExt cx="231480" cy="231480"/>
            </a:xfrm>
          </p:grpSpPr>
          <p:pic>
            <p:nvPicPr>
              <p:cNvPr id="1248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1800" y="430380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9" name=""/>
              <p:cNvSpPr/>
              <p:nvPr/>
            </p:nvSpPr>
            <p:spPr>
              <a:xfrm rot="10800000">
                <a:off x="1344240" y="43588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타원 21"/>
            <p:cNvGrpSpPr/>
            <p:nvPr/>
          </p:nvGrpSpPr>
          <p:grpSpPr>
            <a:xfrm>
              <a:off x="1261800" y="5004720"/>
              <a:ext cx="231480" cy="231480"/>
              <a:chOff x="1261800" y="5004720"/>
              <a:chExt cx="231480" cy="231480"/>
            </a:xfrm>
          </p:grpSpPr>
          <p:pic>
            <p:nvPicPr>
              <p:cNvPr id="1251" name="타원 21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1800" y="5004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2" name=""/>
              <p:cNvSpPr/>
              <p:nvPr/>
            </p:nvSpPr>
            <p:spPr>
              <a:xfrm rot="10800000">
                <a:off x="1344240" y="50587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3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54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25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56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6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3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4" name="그룹 37"/>
          <p:cNvGrpSpPr/>
          <p:nvPr/>
        </p:nvGrpSpPr>
        <p:grpSpPr>
          <a:xfrm>
            <a:off x="285840" y="2000160"/>
            <a:ext cx="8501040" cy="4214880"/>
            <a:chOff x="285840" y="2000160"/>
            <a:chExt cx="8501040" cy="4214880"/>
          </a:xfrm>
        </p:grpSpPr>
        <p:grpSp>
          <p:nvGrpSpPr>
            <p:cNvPr id="1265" name="그룹 91"/>
            <p:cNvGrpSpPr/>
            <p:nvPr/>
          </p:nvGrpSpPr>
          <p:grpSpPr>
            <a:xfrm>
              <a:off x="285840" y="2214360"/>
              <a:ext cx="8501040" cy="4000680"/>
              <a:chOff x="285840" y="2214360"/>
              <a:chExt cx="8501040" cy="4000680"/>
            </a:xfrm>
          </p:grpSpPr>
          <p:pic>
            <p:nvPicPr>
              <p:cNvPr id="126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67" name="직사각형 30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8" name="그룹 44"/>
            <p:cNvGrpSpPr/>
            <p:nvPr/>
          </p:nvGrpSpPr>
          <p:grpSpPr>
            <a:xfrm>
              <a:off x="920160" y="2000160"/>
              <a:ext cx="7582320" cy="551160"/>
              <a:chOff x="920160" y="2000160"/>
              <a:chExt cx="7582320" cy="551160"/>
            </a:xfrm>
          </p:grpSpPr>
          <p:grpSp>
            <p:nvGrpSpPr>
              <p:cNvPr id="1269" name="그룹 91"/>
              <p:cNvGrpSpPr/>
              <p:nvPr/>
            </p:nvGrpSpPr>
            <p:grpSpPr>
              <a:xfrm>
                <a:off x="920160" y="2000160"/>
                <a:ext cx="4257000" cy="551160"/>
                <a:chOff x="920160" y="2000160"/>
                <a:chExt cx="4257000" cy="551160"/>
              </a:xfrm>
            </p:grpSpPr>
            <p:grpSp>
              <p:nvGrpSpPr>
                <p:cNvPr id="1270" name="그룹 34"/>
                <p:cNvGrpSpPr/>
                <p:nvPr/>
              </p:nvGrpSpPr>
              <p:grpSpPr>
                <a:xfrm>
                  <a:off x="920160" y="2096640"/>
                  <a:ext cx="371520" cy="374400"/>
                  <a:chOff x="920160" y="2096640"/>
                  <a:chExt cx="371520" cy="374400"/>
                </a:xfrm>
              </p:grpSpPr>
              <p:pic>
                <p:nvPicPr>
                  <p:cNvPr id="127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0160" y="2114640"/>
                    <a:ext cx="36576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72" name="TextBox 36"/>
                  <p:cNvSpPr/>
                  <p:nvPr/>
                </p:nvSpPr>
                <p:spPr>
                  <a:xfrm>
                    <a:off x="929520" y="2096640"/>
                    <a:ext cx="36216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★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73" name="직사각형 26"/>
                <p:cNvSpPr/>
                <p:nvPr/>
              </p:nvSpPr>
              <p:spPr>
                <a:xfrm>
                  <a:off x="2143440" y="2000160"/>
                  <a:ext cx="30337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구성주의 학습을 촉진하는 일반적인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4" name="직선 연결선 24"/>
              <p:cNvSpPr/>
              <p:nvPr/>
            </p:nvSpPr>
            <p:spPr>
              <a:xfrm>
                <a:off x="6143400" y="2286000"/>
                <a:ext cx="2359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5" name="그룹 142"/>
          <p:cNvGrpSpPr/>
          <p:nvPr/>
        </p:nvGrpSpPr>
        <p:grpSpPr>
          <a:xfrm>
            <a:off x="1238040" y="2674800"/>
            <a:ext cx="2746080" cy="505440"/>
            <a:chOff x="1238040" y="2674800"/>
            <a:chExt cx="2746080" cy="505440"/>
          </a:xfrm>
        </p:grpSpPr>
        <p:grpSp>
          <p:nvGrpSpPr>
            <p:cNvPr id="1276" name="그룹 97"/>
            <p:cNvGrpSpPr/>
            <p:nvPr/>
          </p:nvGrpSpPr>
          <p:grpSpPr>
            <a:xfrm>
              <a:off x="1238040" y="2739960"/>
              <a:ext cx="295200" cy="338400"/>
              <a:chOff x="1238040" y="2739960"/>
              <a:chExt cx="295200" cy="338400"/>
            </a:xfrm>
          </p:grpSpPr>
          <p:pic>
            <p:nvPicPr>
              <p:cNvPr id="1277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1249560" y="2791800"/>
                <a:ext cx="2808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8" name="TextBox 146"/>
              <p:cNvSpPr/>
              <p:nvPr/>
            </p:nvSpPr>
            <p:spPr>
              <a:xfrm>
                <a:off x="1238040" y="273996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9" name="직사각형 38"/>
            <p:cNvSpPr/>
            <p:nvPr/>
          </p:nvSpPr>
          <p:spPr>
            <a:xfrm>
              <a:off x="1535760" y="2674800"/>
              <a:ext cx="2448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 과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authentic tas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0" name="그룹 142"/>
          <p:cNvGrpSpPr/>
          <p:nvPr/>
        </p:nvGrpSpPr>
        <p:grpSpPr>
          <a:xfrm>
            <a:off x="1242720" y="3282840"/>
            <a:ext cx="3189960" cy="505440"/>
            <a:chOff x="1242720" y="3282840"/>
            <a:chExt cx="3189960" cy="505440"/>
          </a:xfrm>
        </p:grpSpPr>
        <p:grpSp>
          <p:nvGrpSpPr>
            <p:cNvPr id="1281" name="그룹 97"/>
            <p:cNvGrpSpPr/>
            <p:nvPr/>
          </p:nvGrpSpPr>
          <p:grpSpPr>
            <a:xfrm>
              <a:off x="1242720" y="3347640"/>
              <a:ext cx="305640" cy="337320"/>
              <a:chOff x="1242720" y="3347640"/>
              <a:chExt cx="305640" cy="337320"/>
            </a:xfrm>
          </p:grpSpPr>
          <p:pic>
            <p:nvPicPr>
              <p:cNvPr id="1282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1249560" y="339516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3" name="TextBox 146"/>
              <p:cNvSpPr/>
              <p:nvPr/>
            </p:nvSpPr>
            <p:spPr>
              <a:xfrm>
                <a:off x="1242720" y="334764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4" name="직사각형 48"/>
            <p:cNvSpPr/>
            <p:nvPr/>
          </p:nvSpPr>
          <p:spPr>
            <a:xfrm>
              <a:off x="1456920" y="3282840"/>
              <a:ext cx="29757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collaborative learning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그룹 142"/>
          <p:cNvGrpSpPr/>
          <p:nvPr/>
        </p:nvGrpSpPr>
        <p:grpSpPr>
          <a:xfrm>
            <a:off x="1247760" y="3889440"/>
            <a:ext cx="2422800" cy="505440"/>
            <a:chOff x="1247760" y="3889440"/>
            <a:chExt cx="2422800" cy="505440"/>
          </a:xfrm>
        </p:grpSpPr>
        <p:grpSp>
          <p:nvGrpSpPr>
            <p:cNvPr id="1286" name="그룹 97"/>
            <p:cNvGrpSpPr/>
            <p:nvPr/>
          </p:nvGrpSpPr>
          <p:grpSpPr>
            <a:xfrm>
              <a:off x="1247760" y="3954240"/>
              <a:ext cx="284040" cy="337320"/>
              <a:chOff x="1247760" y="3954240"/>
              <a:chExt cx="284040" cy="337320"/>
            </a:xfrm>
          </p:grpSpPr>
          <p:pic>
            <p:nvPicPr>
              <p:cNvPr id="128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1249560" y="4004640"/>
                <a:ext cx="2822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8" name="TextBox 146"/>
              <p:cNvSpPr/>
              <p:nvPr/>
            </p:nvSpPr>
            <p:spPr>
              <a:xfrm>
                <a:off x="1247760" y="3954240"/>
                <a:ext cx="27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9" name="직사각형 58"/>
            <p:cNvSpPr/>
            <p:nvPr/>
          </p:nvSpPr>
          <p:spPr>
            <a:xfrm>
              <a:off x="1461600" y="3889440"/>
              <a:ext cx="2208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lf-reflection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142"/>
          <p:cNvGrpSpPr/>
          <p:nvPr/>
        </p:nvGrpSpPr>
        <p:grpSpPr>
          <a:xfrm>
            <a:off x="1242000" y="4537080"/>
            <a:ext cx="2136240" cy="505440"/>
            <a:chOff x="1242000" y="4537080"/>
            <a:chExt cx="2136240" cy="505440"/>
          </a:xfrm>
        </p:grpSpPr>
        <p:grpSp>
          <p:nvGrpSpPr>
            <p:cNvPr id="1291" name="그룹 97"/>
            <p:cNvGrpSpPr/>
            <p:nvPr/>
          </p:nvGrpSpPr>
          <p:grpSpPr>
            <a:xfrm>
              <a:off x="1242000" y="4601880"/>
              <a:ext cx="305640" cy="337320"/>
              <a:chOff x="1242000" y="4601880"/>
              <a:chExt cx="305640" cy="337320"/>
            </a:xfrm>
          </p:grpSpPr>
          <p:pic>
            <p:nvPicPr>
              <p:cNvPr id="1292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1249560" y="4650840"/>
                <a:ext cx="28656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TextBox 146"/>
              <p:cNvSpPr/>
              <p:nvPr/>
            </p:nvSpPr>
            <p:spPr>
              <a:xfrm>
                <a:off x="1242000" y="4601880"/>
                <a:ext cx="30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직사각형 55"/>
            <p:cNvSpPr/>
            <p:nvPr/>
          </p:nvSpPr>
          <p:spPr>
            <a:xfrm>
              <a:off x="1468080" y="4537080"/>
              <a:ext cx="1910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인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ownershi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그룹 142"/>
          <p:cNvGrpSpPr/>
          <p:nvPr/>
        </p:nvGrpSpPr>
        <p:grpSpPr>
          <a:xfrm>
            <a:off x="1255680" y="5143680"/>
            <a:ext cx="5809320" cy="505440"/>
            <a:chOff x="1255680" y="5143680"/>
            <a:chExt cx="5809320" cy="505440"/>
          </a:xfrm>
        </p:grpSpPr>
        <p:grpSp>
          <p:nvGrpSpPr>
            <p:cNvPr id="1296" name="그룹 97"/>
            <p:cNvGrpSpPr/>
            <p:nvPr/>
          </p:nvGrpSpPr>
          <p:grpSpPr>
            <a:xfrm>
              <a:off x="1255680" y="5208840"/>
              <a:ext cx="506520" cy="339120"/>
              <a:chOff x="1255680" y="5208840"/>
              <a:chExt cx="506520" cy="339120"/>
            </a:xfrm>
          </p:grpSpPr>
          <p:pic>
            <p:nvPicPr>
              <p:cNvPr id="1297" name="Picture 177" descr="bull"/>
              <p:cNvPicPr/>
              <p:nvPr/>
            </p:nvPicPr>
            <p:blipFill>
              <a:blip r:embed="rId9"/>
              <a:stretch/>
            </p:blipFill>
            <p:spPr>
              <a:xfrm>
                <a:off x="1255680" y="5261040"/>
                <a:ext cx="506520" cy="28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8" name="TextBox 146"/>
              <p:cNvSpPr/>
              <p:nvPr/>
            </p:nvSpPr>
            <p:spPr>
              <a:xfrm>
                <a:off x="1353960" y="5208840"/>
                <a:ext cx="295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9" name="직사각형 63"/>
            <p:cNvSpPr/>
            <p:nvPr/>
          </p:nvSpPr>
          <p:spPr>
            <a:xfrm>
              <a:off x="2033640" y="5143680"/>
              <a:ext cx="5031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다 관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ultiple perspective) 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자료를 다양한 관점에서 표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0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0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03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0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1" name="그룹 13"/>
          <p:cNvGrpSpPr/>
          <p:nvPr/>
        </p:nvGrpSpPr>
        <p:grpSpPr>
          <a:xfrm>
            <a:off x="285840" y="1928880"/>
            <a:ext cx="9215280" cy="4357800"/>
            <a:chOff x="285840" y="1928880"/>
            <a:chExt cx="9215280" cy="4357800"/>
          </a:xfrm>
        </p:grpSpPr>
        <p:grpSp>
          <p:nvGrpSpPr>
            <p:cNvPr id="1312" name="그룹 37"/>
            <p:cNvGrpSpPr/>
            <p:nvPr/>
          </p:nvGrpSpPr>
          <p:grpSpPr>
            <a:xfrm>
              <a:off x="285840" y="1928880"/>
              <a:ext cx="8501040" cy="4357800"/>
              <a:chOff x="285840" y="1928880"/>
              <a:chExt cx="8501040" cy="4357800"/>
            </a:xfrm>
          </p:grpSpPr>
          <p:grpSp>
            <p:nvGrpSpPr>
              <p:cNvPr id="1313" name="그룹 91"/>
              <p:cNvGrpSpPr/>
              <p:nvPr/>
            </p:nvGrpSpPr>
            <p:grpSpPr>
              <a:xfrm>
                <a:off x="285840" y="2143080"/>
                <a:ext cx="8501040" cy="4143600"/>
                <a:chOff x="285840" y="2143080"/>
                <a:chExt cx="8501040" cy="4143600"/>
              </a:xfrm>
            </p:grpSpPr>
            <p:pic>
              <p:nvPicPr>
                <p:cNvPr id="1314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01040" cy="4143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15" name="직사각형 32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6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17" name="그룹 91"/>
                <p:cNvGrpSpPr/>
                <p:nvPr/>
              </p:nvGrpSpPr>
              <p:grpSpPr>
                <a:xfrm>
                  <a:off x="928440" y="1928880"/>
                  <a:ext cx="4197240" cy="551160"/>
                  <a:chOff x="928440" y="1928880"/>
                  <a:chExt cx="4197240" cy="551160"/>
                </a:xfrm>
              </p:grpSpPr>
              <p:grpSp>
                <p:nvGrpSpPr>
                  <p:cNvPr id="1318" name="그룹 34"/>
                  <p:cNvGrpSpPr/>
                  <p:nvPr/>
                </p:nvGrpSpPr>
                <p:grpSpPr>
                  <a:xfrm>
                    <a:off x="928440" y="2038320"/>
                    <a:ext cx="349200" cy="362160"/>
                    <a:chOff x="928440" y="2038320"/>
                    <a:chExt cx="349200" cy="362160"/>
                  </a:xfrm>
                </p:grpSpPr>
                <p:pic>
                  <p:nvPicPr>
                    <p:cNvPr id="1319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20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1" name="직사각형 28"/>
                  <p:cNvSpPr/>
                  <p:nvPr/>
                </p:nvSpPr>
                <p:spPr>
                  <a:xfrm>
                    <a:off x="1593720" y="1928880"/>
                    <a:ext cx="35319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적 도제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gnitive apprenticeship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2" name="직선 연결선 26"/>
                <p:cNvSpPr/>
                <p:nvPr/>
              </p:nvSpPr>
              <p:spPr>
                <a:xfrm>
                  <a:off x="6143400" y="221472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3" name="직사각형 15"/>
            <p:cNvSpPr/>
            <p:nvPr/>
          </p:nvSpPr>
          <p:spPr>
            <a:xfrm>
              <a:off x="1000080" y="2465280"/>
              <a:ext cx="850104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초보자가 유능한 사람의 지도를 받아 지식과 기능을 습득하는 과정을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제방법을 이용하여 고등정신기능을 개발하기 위한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복잡한 문제를 해결하는 과정을 가르치는 데 주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인지 및 메타인지 기능을 가르치는 데 주안을 둔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에서 문제와 과제는 교육적인 관심사를 반영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는 다양한 맥락에서 활용될 수 있는 탈맥락적 지식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4" name="타원 16"/>
            <p:cNvGrpSpPr/>
            <p:nvPr/>
          </p:nvGrpSpPr>
          <p:grpSpPr>
            <a:xfrm>
              <a:off x="1048320" y="2718720"/>
              <a:ext cx="225360" cy="231480"/>
              <a:chOff x="1048320" y="2718720"/>
              <a:chExt cx="225360" cy="231480"/>
            </a:xfrm>
          </p:grpSpPr>
          <p:pic>
            <p:nvPicPr>
              <p:cNvPr id="1325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18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6" name=""/>
              <p:cNvSpPr/>
              <p:nvPr/>
            </p:nvSpPr>
            <p:spPr>
              <a:xfrm rot="10800000">
                <a:off x="1130400" y="2773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7" name="타원 20"/>
            <p:cNvGrpSpPr/>
            <p:nvPr/>
          </p:nvGrpSpPr>
          <p:grpSpPr>
            <a:xfrm>
              <a:off x="1048320" y="3285720"/>
              <a:ext cx="225360" cy="231480"/>
              <a:chOff x="1048320" y="3285720"/>
              <a:chExt cx="225360" cy="231480"/>
            </a:xfrm>
          </p:grpSpPr>
          <p:pic>
            <p:nvPicPr>
              <p:cNvPr id="1328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2857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"/>
              <p:cNvSpPr/>
              <p:nvPr/>
            </p:nvSpPr>
            <p:spPr>
              <a:xfrm rot="10800000">
                <a:off x="1130400" y="3345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0" name="타원 33"/>
            <p:cNvGrpSpPr/>
            <p:nvPr/>
          </p:nvGrpSpPr>
          <p:grpSpPr>
            <a:xfrm>
              <a:off x="1048320" y="3858840"/>
              <a:ext cx="225360" cy="231480"/>
              <a:chOff x="1048320" y="3858840"/>
              <a:chExt cx="225360" cy="231480"/>
            </a:xfrm>
          </p:grpSpPr>
          <p:pic>
            <p:nvPicPr>
              <p:cNvPr id="1331" name="타원 33" descr=""/>
              <p:cNvPicPr/>
              <p:nvPr/>
            </p:nvPicPr>
            <p:blipFill>
              <a:blip r:embed="rId7"/>
              <a:stretch/>
            </p:blipFill>
            <p:spPr>
              <a:xfrm>
                <a:off x="1048320" y="3858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2" name=""/>
              <p:cNvSpPr/>
              <p:nvPr/>
            </p:nvSpPr>
            <p:spPr>
              <a:xfrm rot="10800000">
                <a:off x="1130400" y="3916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3" name="타원 34"/>
            <p:cNvGrpSpPr/>
            <p:nvPr/>
          </p:nvGrpSpPr>
          <p:grpSpPr>
            <a:xfrm>
              <a:off x="1267920" y="4273560"/>
              <a:ext cx="231480" cy="231480"/>
              <a:chOff x="1267920" y="4273560"/>
              <a:chExt cx="231480" cy="231480"/>
            </a:xfrm>
          </p:grpSpPr>
          <p:pic>
            <p:nvPicPr>
              <p:cNvPr id="1334" name="타원 34" descr=""/>
              <p:cNvPicPr/>
              <p:nvPr/>
            </p:nvPicPr>
            <p:blipFill>
              <a:blip r:embed="rId8"/>
              <a:stretch/>
            </p:blipFill>
            <p:spPr>
              <a:xfrm>
                <a:off x="1267920" y="42735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"/>
              <p:cNvSpPr/>
              <p:nvPr/>
            </p:nvSpPr>
            <p:spPr>
              <a:xfrm rot="10800000">
                <a:off x="1348920" y="43290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타원 35"/>
            <p:cNvGrpSpPr/>
            <p:nvPr/>
          </p:nvGrpSpPr>
          <p:grpSpPr>
            <a:xfrm>
              <a:off x="1267920" y="4687920"/>
              <a:ext cx="231480" cy="231480"/>
              <a:chOff x="1267920" y="4687920"/>
              <a:chExt cx="231480" cy="231480"/>
            </a:xfrm>
          </p:grpSpPr>
          <p:pic>
            <p:nvPicPr>
              <p:cNvPr id="1337" name="타원 35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6879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8" name=""/>
              <p:cNvSpPr/>
              <p:nvPr/>
            </p:nvSpPr>
            <p:spPr>
              <a:xfrm rot="10800000">
                <a:off x="1348920" y="47415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9" name="타원 36"/>
            <p:cNvGrpSpPr/>
            <p:nvPr/>
          </p:nvGrpSpPr>
          <p:grpSpPr>
            <a:xfrm>
              <a:off x="1267920" y="5078160"/>
              <a:ext cx="231480" cy="237600"/>
              <a:chOff x="1267920" y="5078160"/>
              <a:chExt cx="231480" cy="237600"/>
            </a:xfrm>
          </p:grpSpPr>
          <p:pic>
            <p:nvPicPr>
              <p:cNvPr id="1340" name="타원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1267920" y="50781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1" name=""/>
              <p:cNvSpPr/>
              <p:nvPr/>
            </p:nvSpPr>
            <p:spPr>
              <a:xfrm rot="10800000">
                <a:off x="1348920" y="513684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2" name="타원 37"/>
            <p:cNvGrpSpPr/>
            <p:nvPr/>
          </p:nvGrpSpPr>
          <p:grpSpPr>
            <a:xfrm>
              <a:off x="1267920" y="5541480"/>
              <a:ext cx="231480" cy="231480"/>
              <a:chOff x="1267920" y="5541480"/>
              <a:chExt cx="231480" cy="231480"/>
            </a:xfrm>
          </p:grpSpPr>
          <p:pic>
            <p:nvPicPr>
              <p:cNvPr id="1343" name="타원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1267920" y="55414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4" name=""/>
              <p:cNvSpPr/>
              <p:nvPr/>
            </p:nvSpPr>
            <p:spPr>
              <a:xfrm rot="10800000">
                <a:off x="1348920" y="559908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5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48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그룹 13"/>
          <p:cNvGrpSpPr/>
          <p:nvPr/>
        </p:nvGrpSpPr>
        <p:grpSpPr>
          <a:xfrm>
            <a:off x="285840" y="1928880"/>
            <a:ext cx="9215280" cy="4500360"/>
            <a:chOff x="285840" y="1928880"/>
            <a:chExt cx="9215280" cy="4500360"/>
          </a:xfrm>
        </p:grpSpPr>
        <p:grpSp>
          <p:nvGrpSpPr>
            <p:cNvPr id="1357" name="그룹 37"/>
            <p:cNvGrpSpPr/>
            <p:nvPr/>
          </p:nvGrpSpPr>
          <p:grpSpPr>
            <a:xfrm>
              <a:off x="285840" y="1928880"/>
              <a:ext cx="8715240" cy="4500360"/>
              <a:chOff x="285840" y="1928880"/>
              <a:chExt cx="8715240" cy="4500360"/>
            </a:xfrm>
          </p:grpSpPr>
          <p:grpSp>
            <p:nvGrpSpPr>
              <p:cNvPr id="1358" name="그룹 91"/>
              <p:cNvGrpSpPr/>
              <p:nvPr/>
            </p:nvGrpSpPr>
            <p:grpSpPr>
              <a:xfrm>
                <a:off x="285840" y="2143080"/>
                <a:ext cx="8715240" cy="4286160"/>
                <a:chOff x="285840" y="2143080"/>
                <a:chExt cx="8715240" cy="4286160"/>
              </a:xfrm>
            </p:grpSpPr>
            <p:pic>
              <p:nvPicPr>
                <p:cNvPr id="13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861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60" name="직사각형 26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1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362" name="그룹 91"/>
                <p:cNvGrpSpPr/>
                <p:nvPr/>
              </p:nvGrpSpPr>
              <p:grpSpPr>
                <a:xfrm>
                  <a:off x="928440" y="1928880"/>
                  <a:ext cx="4711320" cy="551160"/>
                  <a:chOff x="928440" y="1928880"/>
                  <a:chExt cx="4711320" cy="551160"/>
                </a:xfrm>
              </p:grpSpPr>
              <p:grpSp>
                <p:nvGrpSpPr>
                  <p:cNvPr id="1363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3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5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6" name="직사각형 22"/>
                  <p:cNvSpPr/>
                  <p:nvPr/>
                </p:nvSpPr>
                <p:spPr>
                  <a:xfrm>
                    <a:off x="1758960" y="1928880"/>
                    <a:ext cx="38808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보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ciprocal teach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호적 교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7" name="직선 연결선 20"/>
                <p:cNvSpPr/>
                <p:nvPr/>
              </p:nvSpPr>
              <p:spPr>
                <a:xfrm>
                  <a:off x="6143400" y="2214360"/>
                  <a:ext cx="235908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8" name="직사각형 15"/>
            <p:cNvSpPr/>
            <p:nvPr/>
          </p:nvSpPr>
          <p:spPr>
            <a:xfrm>
              <a:off x="1000080" y="2357280"/>
              <a:ext cx="8501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에서 상호작용을 통해 독해에 필요한 인지전략을 가르치기 위한 교수전략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 적용방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9" name="타원 16"/>
            <p:cNvGrpSpPr/>
            <p:nvPr/>
          </p:nvGrpSpPr>
          <p:grpSpPr>
            <a:xfrm>
              <a:off x="1048320" y="2608920"/>
              <a:ext cx="225360" cy="231480"/>
              <a:chOff x="1048320" y="2608920"/>
              <a:chExt cx="225360" cy="231480"/>
            </a:xfrm>
          </p:grpSpPr>
          <p:pic>
            <p:nvPicPr>
              <p:cNvPr id="1370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089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1" name=""/>
              <p:cNvSpPr/>
              <p:nvPr/>
            </p:nvSpPr>
            <p:spPr>
              <a:xfrm rot="10800000">
                <a:off x="1130400" y="266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2" name="타원 27"/>
            <p:cNvGrpSpPr/>
            <p:nvPr/>
          </p:nvGrpSpPr>
          <p:grpSpPr>
            <a:xfrm>
              <a:off x="1048320" y="3169800"/>
              <a:ext cx="225360" cy="231480"/>
              <a:chOff x="1048320" y="3169800"/>
              <a:chExt cx="225360" cy="231480"/>
            </a:xfrm>
          </p:grpSpPr>
          <p:pic>
            <p:nvPicPr>
              <p:cNvPr id="1373" name="타원 2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16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4" name=""/>
              <p:cNvSpPr/>
              <p:nvPr/>
            </p:nvSpPr>
            <p:spPr>
              <a:xfrm rot="10800000">
                <a:off x="1130400" y="3228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5" name="이등변 삼각형 29"/>
          <p:cNvGrpSpPr/>
          <p:nvPr/>
        </p:nvGrpSpPr>
        <p:grpSpPr>
          <a:xfrm>
            <a:off x="1798560" y="3822840"/>
            <a:ext cx="5834160" cy="2047680"/>
            <a:chOff x="1798560" y="3822840"/>
            <a:chExt cx="5834160" cy="2047680"/>
          </a:xfrm>
        </p:grpSpPr>
        <p:pic>
          <p:nvPicPr>
            <p:cNvPr id="1376" name="이등변 삼각형 29" descr=""/>
            <p:cNvPicPr/>
            <p:nvPr/>
          </p:nvPicPr>
          <p:blipFill>
            <a:blip r:embed="rId7"/>
            <a:stretch/>
          </p:blipFill>
          <p:spPr>
            <a:xfrm>
              <a:off x="1798560" y="3822840"/>
              <a:ext cx="5834160" cy="204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 rot="10800000">
              <a:off x="3286080" y="3857400"/>
              <a:ext cx="285768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모서리가 둥근 직사각형 30"/>
          <p:cNvSpPr/>
          <p:nvPr/>
        </p:nvSpPr>
        <p:spPr>
          <a:xfrm>
            <a:off x="1076400" y="3643200"/>
            <a:ext cx="763884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와 몇몇 학생들로 소집단을 구성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모서리가 둥근 직사각형 31"/>
          <p:cNvSpPr/>
          <p:nvPr/>
        </p:nvSpPr>
        <p:spPr>
          <a:xfrm>
            <a:off x="1071720" y="428616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가 학생들에게 인지전략에 대해 설명을 하고 시범을 보인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모서리가 둥근 직사각형 32"/>
          <p:cNvSpPr/>
          <p:nvPr/>
        </p:nvSpPr>
        <p:spPr>
          <a:xfrm>
            <a:off x="1071720" y="4929120"/>
            <a:ext cx="764352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차 교사는 학습자에게 교사역할을 하도록 유도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1" name="그룹 35"/>
          <p:cNvGrpSpPr/>
          <p:nvPr/>
        </p:nvGrpSpPr>
        <p:grpSpPr>
          <a:xfrm>
            <a:off x="1071720" y="5572080"/>
            <a:ext cx="8001000" cy="357120"/>
            <a:chOff x="1071720" y="5572080"/>
            <a:chExt cx="8001000" cy="357120"/>
          </a:xfrm>
        </p:grpSpPr>
        <p:sp>
          <p:nvSpPr>
            <p:cNvPr id="1382" name="모서리가 둥근 직사각형 33"/>
            <p:cNvSpPr/>
            <p:nvPr/>
          </p:nvSpPr>
          <p:spPr>
            <a:xfrm>
              <a:off x="1071720" y="5572080"/>
              <a:ext cx="7643880" cy="357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4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직사각형 34"/>
            <p:cNvSpPr/>
            <p:nvPr/>
          </p:nvSpPr>
          <p:spPr>
            <a:xfrm>
              <a:off x="1285920" y="5590800"/>
              <a:ext cx="778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는 교사의 시범을 보고 학습한 기능을 다른 학습자들에게 시범을 보이고 설명한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4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5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38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7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9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4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그룹 13"/>
          <p:cNvGrpSpPr/>
          <p:nvPr/>
        </p:nvGrpSpPr>
        <p:grpSpPr>
          <a:xfrm>
            <a:off x="285840" y="1928880"/>
            <a:ext cx="9215280" cy="4429080"/>
            <a:chOff x="285840" y="1928880"/>
            <a:chExt cx="9215280" cy="4429080"/>
          </a:xfrm>
        </p:grpSpPr>
        <p:grpSp>
          <p:nvGrpSpPr>
            <p:cNvPr id="1396" name="그룹 37"/>
            <p:cNvGrpSpPr/>
            <p:nvPr/>
          </p:nvGrpSpPr>
          <p:grpSpPr>
            <a:xfrm>
              <a:off x="285840" y="1928880"/>
              <a:ext cx="8715240" cy="4429080"/>
              <a:chOff x="285840" y="1928880"/>
              <a:chExt cx="8715240" cy="4429080"/>
            </a:xfrm>
          </p:grpSpPr>
          <p:grpSp>
            <p:nvGrpSpPr>
              <p:cNvPr id="1397" name="그룹 91"/>
              <p:cNvGrpSpPr/>
              <p:nvPr/>
            </p:nvGrpSpPr>
            <p:grpSpPr>
              <a:xfrm>
                <a:off x="285840" y="2143080"/>
                <a:ext cx="8715240" cy="4214880"/>
                <a:chOff x="285840" y="2143080"/>
                <a:chExt cx="8715240" cy="4214880"/>
              </a:xfrm>
            </p:grpSpPr>
            <p:pic>
              <p:nvPicPr>
                <p:cNvPr id="139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715240" cy="4214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99" name="직사각형 28"/>
                <p:cNvSpPr/>
                <p:nvPr/>
              </p:nvSpPr>
              <p:spPr>
                <a:xfrm>
                  <a:off x="1285920" y="2384280"/>
                  <a:ext cx="750096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01" name="그룹 91"/>
                <p:cNvGrpSpPr/>
                <p:nvPr/>
              </p:nvGrpSpPr>
              <p:grpSpPr>
                <a:xfrm>
                  <a:off x="928440" y="1928880"/>
                  <a:ext cx="5418720" cy="551160"/>
                  <a:chOff x="928440" y="1928880"/>
                  <a:chExt cx="5418720" cy="551160"/>
                </a:xfrm>
              </p:grpSpPr>
              <p:grpSp>
                <p:nvGrpSpPr>
                  <p:cNvPr id="1402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40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04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5" name="직사각형 24"/>
                  <p:cNvSpPr/>
                  <p:nvPr/>
                </p:nvSpPr>
                <p:spPr>
                  <a:xfrm>
                    <a:off x="1835640" y="1928880"/>
                    <a:ext cx="45115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중심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problem-bas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문제기반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06" name="직선 연결선 22"/>
                <p:cNvSpPr/>
                <p:nvPr/>
              </p:nvSpPr>
              <p:spPr>
                <a:xfrm>
                  <a:off x="7215120" y="2214360"/>
                  <a:ext cx="12873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7" name="직사각형 15"/>
            <p:cNvSpPr/>
            <p:nvPr/>
          </p:nvSpPr>
          <p:spPr>
            <a:xfrm>
              <a:off x="1000080" y="2357280"/>
              <a:ext cx="850104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생활 문제를 해결하도록 하는 교수방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능력을 함양하는 데 목적이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중심의 자기주도학습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이고 비구조화된 과제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사는 안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원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촉진자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타원 16"/>
            <p:cNvGrpSpPr/>
            <p:nvPr/>
          </p:nvGrpSpPr>
          <p:grpSpPr>
            <a:xfrm>
              <a:off x="1048320" y="2743200"/>
              <a:ext cx="225360" cy="231480"/>
              <a:chOff x="1048320" y="2743200"/>
              <a:chExt cx="225360" cy="231480"/>
            </a:xfrm>
          </p:grpSpPr>
          <p:pic>
            <p:nvPicPr>
              <p:cNvPr id="1409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743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0" name=""/>
              <p:cNvSpPr/>
              <p:nvPr/>
            </p:nvSpPr>
            <p:spPr>
              <a:xfrm rot="10800000">
                <a:off x="1130400" y="2800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타원 17"/>
            <p:cNvGrpSpPr/>
            <p:nvPr/>
          </p:nvGrpSpPr>
          <p:grpSpPr>
            <a:xfrm>
              <a:off x="1048320" y="3316320"/>
              <a:ext cx="225360" cy="231480"/>
              <a:chOff x="1048320" y="3316320"/>
              <a:chExt cx="225360" cy="231480"/>
            </a:xfrm>
          </p:grpSpPr>
          <p:pic>
            <p:nvPicPr>
              <p:cNvPr id="141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31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3" name=""/>
              <p:cNvSpPr/>
              <p:nvPr/>
            </p:nvSpPr>
            <p:spPr>
              <a:xfrm rot="10800000">
                <a:off x="1130400" y="3371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타원 18"/>
            <p:cNvGrpSpPr/>
            <p:nvPr/>
          </p:nvGrpSpPr>
          <p:grpSpPr>
            <a:xfrm>
              <a:off x="1121760" y="3852720"/>
              <a:ext cx="231480" cy="231480"/>
              <a:chOff x="1121760" y="3852720"/>
              <a:chExt cx="231480" cy="231480"/>
            </a:xfrm>
          </p:grpSpPr>
          <p:pic>
            <p:nvPicPr>
              <p:cNvPr id="1415" name="타원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1121760" y="3852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6" name=""/>
              <p:cNvSpPr/>
              <p:nvPr/>
            </p:nvSpPr>
            <p:spPr>
              <a:xfrm rot="10800000">
                <a:off x="1201320" y="3911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타원 30"/>
            <p:cNvGrpSpPr/>
            <p:nvPr/>
          </p:nvGrpSpPr>
          <p:grpSpPr>
            <a:xfrm>
              <a:off x="1121760" y="4419720"/>
              <a:ext cx="231480" cy="231480"/>
              <a:chOff x="1121760" y="4419720"/>
              <a:chExt cx="231480" cy="231480"/>
            </a:xfrm>
          </p:grpSpPr>
          <p:pic>
            <p:nvPicPr>
              <p:cNvPr id="1418" name="타원 3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21760" y="44197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"/>
              <p:cNvSpPr/>
              <p:nvPr/>
            </p:nvSpPr>
            <p:spPr>
              <a:xfrm rot="10800000">
                <a:off x="1201320" y="44766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타원 31"/>
            <p:cNvGrpSpPr/>
            <p:nvPr/>
          </p:nvGrpSpPr>
          <p:grpSpPr>
            <a:xfrm>
              <a:off x="1121760" y="4956120"/>
              <a:ext cx="231480" cy="231480"/>
              <a:chOff x="1121760" y="4956120"/>
              <a:chExt cx="231480" cy="231480"/>
            </a:xfrm>
          </p:grpSpPr>
          <p:pic>
            <p:nvPicPr>
              <p:cNvPr id="1421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21760" y="4956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2" name=""/>
              <p:cNvSpPr/>
              <p:nvPr/>
            </p:nvSpPr>
            <p:spPr>
              <a:xfrm rot="10800000">
                <a:off x="1201320" y="50148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타원 32"/>
            <p:cNvGrpSpPr/>
            <p:nvPr/>
          </p:nvGrpSpPr>
          <p:grpSpPr>
            <a:xfrm>
              <a:off x="1121760" y="5523120"/>
              <a:ext cx="231480" cy="231480"/>
              <a:chOff x="1121760" y="5523120"/>
              <a:chExt cx="231480" cy="231480"/>
            </a:xfrm>
          </p:grpSpPr>
          <p:pic>
            <p:nvPicPr>
              <p:cNvPr id="1424" name="타원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1121760" y="5523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5" name=""/>
              <p:cNvSpPr/>
              <p:nvPr/>
            </p:nvSpPr>
            <p:spPr>
              <a:xfrm rot="10800000">
                <a:off x="1201320" y="5580000"/>
                <a:ext cx="69480" cy="6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6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sp>
        <p:nvSpPr>
          <p:cNvPr id="1427" name="TextBox 19"/>
          <p:cNvSpPr/>
          <p:nvPr/>
        </p:nvSpPr>
        <p:spPr>
          <a:xfrm>
            <a:off x="3143160" y="-285840"/>
            <a:ext cx="75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30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그룹 13"/>
          <p:cNvGrpSpPr/>
          <p:nvPr/>
        </p:nvGrpSpPr>
        <p:grpSpPr>
          <a:xfrm>
            <a:off x="285840" y="1857240"/>
            <a:ext cx="9215280" cy="1643040"/>
            <a:chOff x="285840" y="1857240"/>
            <a:chExt cx="9215280" cy="1643040"/>
          </a:xfrm>
        </p:grpSpPr>
        <p:grpSp>
          <p:nvGrpSpPr>
            <p:cNvPr id="1439" name="그룹 37"/>
            <p:cNvGrpSpPr/>
            <p:nvPr/>
          </p:nvGrpSpPr>
          <p:grpSpPr>
            <a:xfrm>
              <a:off x="285840" y="1857240"/>
              <a:ext cx="8572680" cy="1643040"/>
              <a:chOff x="285840" y="1857240"/>
              <a:chExt cx="8572680" cy="1643040"/>
            </a:xfrm>
          </p:grpSpPr>
          <p:grpSp>
            <p:nvGrpSpPr>
              <p:cNvPr id="1440" name="그룹 91"/>
              <p:cNvGrpSpPr/>
              <p:nvPr/>
            </p:nvGrpSpPr>
            <p:grpSpPr>
              <a:xfrm>
                <a:off x="285840" y="2071440"/>
                <a:ext cx="8572680" cy="1428840"/>
                <a:chOff x="285840" y="2071440"/>
                <a:chExt cx="8572680" cy="1428840"/>
              </a:xfrm>
            </p:grpSpPr>
            <p:pic>
              <p:nvPicPr>
                <p:cNvPr id="144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7268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42" name="직사각형 29"/>
                <p:cNvSpPr/>
                <p:nvPr/>
              </p:nvSpPr>
              <p:spPr>
                <a:xfrm>
                  <a:off x="1285920" y="231264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그룹 44"/>
              <p:cNvGrpSpPr/>
              <p:nvPr/>
            </p:nvGrpSpPr>
            <p:grpSpPr>
              <a:xfrm>
                <a:off x="928440" y="1857240"/>
                <a:ext cx="7574400" cy="551160"/>
                <a:chOff x="928440" y="1857240"/>
                <a:chExt cx="7574400" cy="551160"/>
              </a:xfrm>
            </p:grpSpPr>
            <p:grpSp>
              <p:nvGrpSpPr>
                <p:cNvPr id="1444" name="그룹 91"/>
                <p:cNvGrpSpPr/>
                <p:nvPr/>
              </p:nvGrpSpPr>
              <p:grpSpPr>
                <a:xfrm>
                  <a:off x="928440" y="1857240"/>
                  <a:ext cx="3947760" cy="551160"/>
                  <a:chOff x="928440" y="1857240"/>
                  <a:chExt cx="3947760" cy="551160"/>
                </a:xfrm>
              </p:grpSpPr>
              <p:grpSp>
                <p:nvGrpSpPr>
                  <p:cNvPr id="1445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44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7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8" name="직사각형 25"/>
                  <p:cNvSpPr/>
                  <p:nvPr/>
                </p:nvSpPr>
                <p:spPr>
                  <a:xfrm>
                    <a:off x="1591560" y="1857240"/>
                    <a:ext cx="3284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학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ituated learning, 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상황인지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9" name="직선 연결선 23"/>
                <p:cNvSpPr/>
                <p:nvPr/>
              </p:nvSpPr>
              <p:spPr>
                <a:xfrm>
                  <a:off x="5715000" y="214128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직사각형 15"/>
            <p:cNvSpPr/>
            <p:nvPr/>
          </p:nvSpPr>
          <p:spPr>
            <a:xfrm>
              <a:off x="1000080" y="2433600"/>
              <a:ext cx="850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이 물리 및 사회 상황과 맥락에 존재한다는 것을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황학습은 학습과제를 현실적인 맥락에서 제시할 것을 강조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독도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1" name="타원 16"/>
            <p:cNvGrpSpPr/>
            <p:nvPr/>
          </p:nvGrpSpPr>
          <p:grpSpPr>
            <a:xfrm>
              <a:off x="1048320" y="2572200"/>
              <a:ext cx="225360" cy="231480"/>
              <a:chOff x="1048320" y="2572200"/>
              <a:chExt cx="225360" cy="231480"/>
            </a:xfrm>
          </p:grpSpPr>
          <p:pic>
            <p:nvPicPr>
              <p:cNvPr id="1452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572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130400" y="2630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타원 18"/>
            <p:cNvGrpSpPr/>
            <p:nvPr/>
          </p:nvGrpSpPr>
          <p:grpSpPr>
            <a:xfrm>
              <a:off x="1048320" y="3029760"/>
              <a:ext cx="225360" cy="231480"/>
              <a:chOff x="1048320" y="3029760"/>
              <a:chExt cx="225360" cy="231480"/>
            </a:xfrm>
          </p:grpSpPr>
          <p:pic>
            <p:nvPicPr>
              <p:cNvPr id="1455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6" name=""/>
              <p:cNvSpPr/>
              <p:nvPr/>
            </p:nvSpPr>
            <p:spPr>
              <a:xfrm rot="10800000">
                <a:off x="113040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7" name="그룹 13"/>
          <p:cNvGrpSpPr/>
          <p:nvPr/>
        </p:nvGrpSpPr>
        <p:grpSpPr>
          <a:xfrm>
            <a:off x="285840" y="3701880"/>
            <a:ext cx="9215280" cy="3156120"/>
            <a:chOff x="285840" y="3701880"/>
            <a:chExt cx="9215280" cy="3156120"/>
          </a:xfrm>
        </p:grpSpPr>
        <p:grpSp>
          <p:nvGrpSpPr>
            <p:cNvPr id="1458" name="그룹 37"/>
            <p:cNvGrpSpPr/>
            <p:nvPr/>
          </p:nvGrpSpPr>
          <p:grpSpPr>
            <a:xfrm>
              <a:off x="285840" y="3701880"/>
              <a:ext cx="8572680" cy="3156120"/>
              <a:chOff x="285840" y="3701880"/>
              <a:chExt cx="8572680" cy="3156120"/>
            </a:xfrm>
          </p:grpSpPr>
          <p:grpSp>
            <p:nvGrpSpPr>
              <p:cNvPr id="1459" name="그룹 91"/>
              <p:cNvGrpSpPr/>
              <p:nvPr/>
            </p:nvGrpSpPr>
            <p:grpSpPr>
              <a:xfrm>
                <a:off x="285840" y="3916080"/>
                <a:ext cx="8572680" cy="2941920"/>
                <a:chOff x="285840" y="3916080"/>
                <a:chExt cx="8572680" cy="2941920"/>
              </a:xfrm>
            </p:grpSpPr>
            <p:pic>
              <p:nvPicPr>
                <p:cNvPr id="1460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3916080"/>
                  <a:ext cx="8572680" cy="2941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61" name="직사각형 45"/>
                <p:cNvSpPr/>
                <p:nvPr/>
              </p:nvSpPr>
              <p:spPr>
                <a:xfrm>
                  <a:off x="1285920" y="4157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2" name="그룹 44"/>
              <p:cNvGrpSpPr/>
              <p:nvPr/>
            </p:nvGrpSpPr>
            <p:grpSpPr>
              <a:xfrm>
                <a:off x="928440" y="3701880"/>
                <a:ext cx="7574400" cy="551160"/>
                <a:chOff x="928440" y="3701880"/>
                <a:chExt cx="7574400" cy="551160"/>
              </a:xfrm>
            </p:grpSpPr>
            <p:grpSp>
              <p:nvGrpSpPr>
                <p:cNvPr id="1463" name="그룹 91"/>
                <p:cNvGrpSpPr/>
                <p:nvPr/>
              </p:nvGrpSpPr>
              <p:grpSpPr>
                <a:xfrm>
                  <a:off x="928440" y="3701880"/>
                  <a:ext cx="3803400" cy="551160"/>
                  <a:chOff x="928440" y="3701880"/>
                  <a:chExt cx="3803400" cy="551160"/>
                </a:xfrm>
              </p:grpSpPr>
              <p:grpSp>
                <p:nvGrpSpPr>
                  <p:cNvPr id="1464" name="그룹 34"/>
                  <p:cNvGrpSpPr/>
                  <p:nvPr/>
                </p:nvGrpSpPr>
                <p:grpSpPr>
                  <a:xfrm>
                    <a:off x="928440" y="3811320"/>
                    <a:ext cx="349200" cy="361800"/>
                    <a:chOff x="928440" y="3811320"/>
                    <a:chExt cx="349200" cy="361800"/>
                  </a:xfrm>
                </p:grpSpPr>
                <p:pic>
                  <p:nvPicPr>
                    <p:cNvPr id="1465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381564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66" name="TextBox 36"/>
                    <p:cNvSpPr/>
                    <p:nvPr/>
                  </p:nvSpPr>
                  <p:spPr>
                    <a:xfrm>
                      <a:off x="957960" y="3811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7" name="직사각형 41"/>
                  <p:cNvSpPr/>
                  <p:nvPr/>
                </p:nvSpPr>
                <p:spPr>
                  <a:xfrm>
                    <a:off x="1498680" y="3701880"/>
                    <a:ext cx="32331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착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nchored instruction)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8" name="직선 연결선 39"/>
                <p:cNvSpPr/>
                <p:nvPr/>
              </p:nvSpPr>
              <p:spPr>
                <a:xfrm>
                  <a:off x="5715000" y="3985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직사각형 31"/>
            <p:cNvSpPr/>
            <p:nvPr/>
          </p:nvSpPr>
          <p:spPr>
            <a:xfrm>
              <a:off x="1000080" y="4259160"/>
              <a:ext cx="8501040" cy="24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실제 문제해결상황에 정착시켜 학습자들이 적극적으로 학습에 참여하도록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하는 방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황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앵커드 수업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제적인 맥락을 중시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디오 테크놀로지를 활용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 공학을 사용하여 실제와 유사한 상황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밴더빌트 대학교 인지공학 연구팀이 개발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스터의 모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0" name="타원 32"/>
            <p:cNvGrpSpPr/>
            <p:nvPr/>
          </p:nvGrpSpPr>
          <p:grpSpPr>
            <a:xfrm>
              <a:off x="1048320" y="4419360"/>
              <a:ext cx="225360" cy="231480"/>
              <a:chOff x="1048320" y="4419360"/>
              <a:chExt cx="225360" cy="231480"/>
            </a:xfrm>
          </p:grpSpPr>
          <p:pic>
            <p:nvPicPr>
              <p:cNvPr id="1471" name="타원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48320" y="4419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2" name=""/>
              <p:cNvSpPr/>
              <p:nvPr/>
            </p:nvSpPr>
            <p:spPr>
              <a:xfrm rot="10800000">
                <a:off x="1130400" y="4476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3" name="타원 33"/>
            <p:cNvGrpSpPr/>
            <p:nvPr/>
          </p:nvGrpSpPr>
          <p:grpSpPr>
            <a:xfrm>
              <a:off x="1048320" y="5230440"/>
              <a:ext cx="225360" cy="231480"/>
              <a:chOff x="1048320" y="5230440"/>
              <a:chExt cx="225360" cy="231480"/>
            </a:xfrm>
          </p:grpSpPr>
          <p:pic>
            <p:nvPicPr>
              <p:cNvPr id="1474" name="타원 33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48320" y="5230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5" name=""/>
              <p:cNvSpPr/>
              <p:nvPr/>
            </p:nvSpPr>
            <p:spPr>
              <a:xfrm rot="10800000">
                <a:off x="1130400" y="5288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6" name="타원 34"/>
            <p:cNvGrpSpPr/>
            <p:nvPr/>
          </p:nvGrpSpPr>
          <p:grpSpPr>
            <a:xfrm>
              <a:off x="1145880" y="5571720"/>
              <a:ext cx="231480" cy="237600"/>
              <a:chOff x="1145880" y="5571720"/>
              <a:chExt cx="231480" cy="237600"/>
            </a:xfrm>
          </p:grpSpPr>
          <p:pic>
            <p:nvPicPr>
              <p:cNvPr id="1477" name="타원 34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45880" y="557172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8" name=""/>
              <p:cNvSpPr/>
              <p:nvPr/>
            </p:nvSpPr>
            <p:spPr>
              <a:xfrm rot="10800000">
                <a:off x="1228320" y="5630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타원 35"/>
            <p:cNvGrpSpPr/>
            <p:nvPr/>
          </p:nvGrpSpPr>
          <p:grpSpPr>
            <a:xfrm>
              <a:off x="1145880" y="5931360"/>
              <a:ext cx="231480" cy="231480"/>
              <a:chOff x="1145880" y="5931360"/>
              <a:chExt cx="231480" cy="231480"/>
            </a:xfrm>
          </p:grpSpPr>
          <p:pic>
            <p:nvPicPr>
              <p:cNvPr id="1480" name="타원 35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45880" y="59313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81" name=""/>
              <p:cNvSpPr/>
              <p:nvPr/>
            </p:nvSpPr>
            <p:spPr>
              <a:xfrm rot="10800000">
                <a:off x="1228320" y="59875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83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4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8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교육적 적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2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3" name="그룹 13"/>
          <p:cNvGrpSpPr/>
          <p:nvPr/>
        </p:nvGrpSpPr>
        <p:grpSpPr>
          <a:xfrm>
            <a:off x="285840" y="1928880"/>
            <a:ext cx="9215280" cy="3857400"/>
            <a:chOff x="285840" y="1928880"/>
            <a:chExt cx="9215280" cy="3857400"/>
          </a:xfrm>
        </p:grpSpPr>
        <p:grpSp>
          <p:nvGrpSpPr>
            <p:cNvPr id="1494" name="그룹 37"/>
            <p:cNvGrpSpPr/>
            <p:nvPr/>
          </p:nvGrpSpPr>
          <p:grpSpPr>
            <a:xfrm>
              <a:off x="285840" y="1928880"/>
              <a:ext cx="8572680" cy="3857400"/>
              <a:chOff x="285840" y="1928880"/>
              <a:chExt cx="8572680" cy="3857400"/>
            </a:xfrm>
          </p:grpSpPr>
          <p:grpSp>
            <p:nvGrpSpPr>
              <p:cNvPr id="1495" name="그룹 91"/>
              <p:cNvGrpSpPr/>
              <p:nvPr/>
            </p:nvGrpSpPr>
            <p:grpSpPr>
              <a:xfrm>
                <a:off x="285840" y="2143080"/>
                <a:ext cx="8572680" cy="3643200"/>
                <a:chOff x="285840" y="2143080"/>
                <a:chExt cx="8572680" cy="3643200"/>
              </a:xfrm>
            </p:grpSpPr>
            <p:pic>
              <p:nvPicPr>
                <p:cNvPr id="1496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43080"/>
                  <a:ext cx="8572680" cy="36432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97" name="직사각형 30"/>
                <p:cNvSpPr/>
                <p:nvPr/>
              </p:nvSpPr>
              <p:spPr>
                <a:xfrm>
                  <a:off x="1285920" y="238428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8" name="그룹 44"/>
              <p:cNvGrpSpPr/>
              <p:nvPr/>
            </p:nvGrpSpPr>
            <p:grpSpPr>
              <a:xfrm>
                <a:off x="928440" y="1928880"/>
                <a:ext cx="7574400" cy="551160"/>
                <a:chOff x="928440" y="1928880"/>
                <a:chExt cx="7574400" cy="551160"/>
              </a:xfrm>
            </p:grpSpPr>
            <p:grpSp>
              <p:nvGrpSpPr>
                <p:cNvPr id="1499" name="그룹 91"/>
                <p:cNvGrpSpPr/>
                <p:nvPr/>
              </p:nvGrpSpPr>
              <p:grpSpPr>
                <a:xfrm>
                  <a:off x="928440" y="1928880"/>
                  <a:ext cx="3868200" cy="551160"/>
                  <a:chOff x="928440" y="1928880"/>
                  <a:chExt cx="3868200" cy="551160"/>
                </a:xfrm>
              </p:grpSpPr>
              <p:grpSp>
                <p:nvGrpSpPr>
                  <p:cNvPr id="1500" name="그룹 34"/>
                  <p:cNvGrpSpPr/>
                  <p:nvPr/>
                </p:nvGrpSpPr>
                <p:grpSpPr>
                  <a:xfrm>
                    <a:off x="928440" y="2038320"/>
                    <a:ext cx="349200" cy="361800"/>
                    <a:chOff x="928440" y="2038320"/>
                    <a:chExt cx="349200" cy="361800"/>
                  </a:xfrm>
                </p:grpSpPr>
                <p:pic>
                  <p:nvPicPr>
                    <p:cNvPr id="1501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7680"/>
                      <a:ext cx="34920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502" name="TextBox 36"/>
                    <p:cNvSpPr/>
                    <p:nvPr/>
                  </p:nvSpPr>
                  <p:spPr>
                    <a:xfrm>
                      <a:off x="957960" y="20383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03" name="직사각형 26"/>
                  <p:cNvSpPr/>
                  <p:nvPr/>
                </p:nvSpPr>
                <p:spPr>
                  <a:xfrm>
                    <a:off x="1528560" y="1928880"/>
                    <a:ext cx="3268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협동수업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operative learning)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4" name="직선 연결선 24"/>
                <p:cNvSpPr/>
                <p:nvPr/>
              </p:nvSpPr>
              <p:spPr>
                <a:xfrm>
                  <a:off x="5715000" y="2212920"/>
                  <a:ext cx="2787840" cy="28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직사각형 15"/>
            <p:cNvSpPr/>
            <p:nvPr/>
          </p:nvSpPr>
          <p:spPr>
            <a:xfrm>
              <a:off x="1000080" y="2485800"/>
              <a:ext cx="850104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소집단 구성원들이 공동으로 학습과제를 해결하거나 학습목표에 도달하도록 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법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질적인 구성원으로 소집단을 구성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동목표를 달성하기 위해 적극적으로 상호작용을 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구성원들에게 집단목표를 달성하는 데 기여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6" name="타원 16"/>
            <p:cNvGrpSpPr/>
            <p:nvPr/>
          </p:nvGrpSpPr>
          <p:grpSpPr>
            <a:xfrm>
              <a:off x="1048320" y="2645640"/>
              <a:ext cx="225360" cy="231480"/>
              <a:chOff x="1048320" y="2645640"/>
              <a:chExt cx="225360" cy="231480"/>
            </a:xfrm>
          </p:grpSpPr>
          <p:pic>
            <p:nvPicPr>
              <p:cNvPr id="1507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8" name=""/>
              <p:cNvSpPr/>
              <p:nvPr/>
            </p:nvSpPr>
            <p:spPr>
              <a:xfrm rot="10800000">
                <a:off x="1130400" y="2703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타원 18"/>
            <p:cNvGrpSpPr/>
            <p:nvPr/>
          </p:nvGrpSpPr>
          <p:grpSpPr>
            <a:xfrm>
              <a:off x="1048320" y="3785400"/>
              <a:ext cx="225360" cy="237600"/>
              <a:chOff x="1048320" y="3785400"/>
              <a:chExt cx="225360" cy="237600"/>
            </a:xfrm>
          </p:grpSpPr>
          <p:pic>
            <p:nvPicPr>
              <p:cNvPr id="1510" name="타원 1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48320" y="378540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1" name=""/>
              <p:cNvSpPr/>
              <p:nvPr/>
            </p:nvSpPr>
            <p:spPr>
              <a:xfrm rot="10800000">
                <a:off x="1130400" y="384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타원 19"/>
            <p:cNvGrpSpPr/>
            <p:nvPr/>
          </p:nvGrpSpPr>
          <p:grpSpPr>
            <a:xfrm>
              <a:off x="1145880" y="4157280"/>
              <a:ext cx="231480" cy="231480"/>
              <a:chOff x="1145880" y="4157280"/>
              <a:chExt cx="231480" cy="231480"/>
            </a:xfrm>
          </p:grpSpPr>
          <p:pic>
            <p:nvPicPr>
              <p:cNvPr id="1513" name="타원 1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45880" y="415728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4" name=""/>
              <p:cNvSpPr/>
              <p:nvPr/>
            </p:nvSpPr>
            <p:spPr>
              <a:xfrm rot="10800000">
                <a:off x="1228320" y="421596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타원 20"/>
            <p:cNvGrpSpPr/>
            <p:nvPr/>
          </p:nvGrpSpPr>
          <p:grpSpPr>
            <a:xfrm>
              <a:off x="1145880" y="4578120"/>
              <a:ext cx="231480" cy="231480"/>
              <a:chOff x="1145880" y="4578120"/>
              <a:chExt cx="231480" cy="231480"/>
            </a:xfrm>
          </p:grpSpPr>
          <p:pic>
            <p:nvPicPr>
              <p:cNvPr id="1516" name="타원 20" descr=""/>
              <p:cNvPicPr/>
              <p:nvPr/>
            </p:nvPicPr>
            <p:blipFill>
              <a:blip r:embed="rId8"/>
              <a:stretch/>
            </p:blipFill>
            <p:spPr>
              <a:xfrm>
                <a:off x="1145880" y="457812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7" name=""/>
              <p:cNvSpPr/>
              <p:nvPr/>
            </p:nvSpPr>
            <p:spPr>
              <a:xfrm rot="10800000">
                <a:off x="1228320" y="463212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타원 31"/>
            <p:cNvGrpSpPr/>
            <p:nvPr/>
          </p:nvGrpSpPr>
          <p:grpSpPr>
            <a:xfrm>
              <a:off x="1145880" y="4968360"/>
              <a:ext cx="231480" cy="237600"/>
              <a:chOff x="1145880" y="4968360"/>
              <a:chExt cx="231480" cy="237600"/>
            </a:xfrm>
          </p:grpSpPr>
          <p:pic>
            <p:nvPicPr>
              <p:cNvPr id="1519" name="타원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1145880" y="4968360"/>
                <a:ext cx="23148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0" name=""/>
              <p:cNvSpPr/>
              <p:nvPr/>
            </p:nvSpPr>
            <p:spPr>
              <a:xfrm rot="10800000">
                <a:off x="1228320" y="5027400"/>
                <a:ext cx="6948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2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52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24" name="직사각형 13"/>
              <p:cNvSpPr/>
              <p:nvPr/>
            </p:nvSpPr>
            <p:spPr>
              <a:xfrm>
                <a:off x="1454400" y="1385640"/>
                <a:ext cx="144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의  문제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31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그룹 13"/>
          <p:cNvGrpSpPr/>
          <p:nvPr/>
        </p:nvGrpSpPr>
        <p:grpSpPr>
          <a:xfrm>
            <a:off x="285840" y="1500120"/>
            <a:ext cx="9215280" cy="5429160"/>
            <a:chOff x="285840" y="1500120"/>
            <a:chExt cx="9215280" cy="5429160"/>
          </a:xfrm>
        </p:grpSpPr>
        <p:grpSp>
          <p:nvGrpSpPr>
            <p:cNvPr id="1533" name="그룹 37"/>
            <p:cNvGrpSpPr/>
            <p:nvPr/>
          </p:nvGrpSpPr>
          <p:grpSpPr>
            <a:xfrm>
              <a:off x="285840" y="1500120"/>
              <a:ext cx="8572680" cy="5429160"/>
              <a:chOff x="285840" y="1500120"/>
              <a:chExt cx="8572680" cy="5429160"/>
            </a:xfrm>
          </p:grpSpPr>
          <p:grpSp>
            <p:nvGrpSpPr>
              <p:cNvPr id="1534" name="그룹 91"/>
              <p:cNvGrpSpPr/>
              <p:nvPr/>
            </p:nvGrpSpPr>
            <p:grpSpPr>
              <a:xfrm>
                <a:off x="285840" y="2214360"/>
                <a:ext cx="8572680" cy="4714920"/>
                <a:chOff x="285840" y="2214360"/>
                <a:chExt cx="8572680" cy="4714920"/>
              </a:xfrm>
            </p:grpSpPr>
            <p:pic>
              <p:nvPicPr>
                <p:cNvPr id="153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72680" cy="4714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536" name="직사각형 30"/>
                <p:cNvSpPr/>
                <p:nvPr/>
              </p:nvSpPr>
              <p:spPr>
                <a:xfrm>
                  <a:off x="1285920" y="2455560"/>
                  <a:ext cx="7501320" cy="46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7" name="직선 연결선 24"/>
              <p:cNvSpPr/>
              <p:nvPr/>
            </p:nvSpPr>
            <p:spPr>
              <a:xfrm>
                <a:off x="5715360" y="1500120"/>
                <a:ext cx="2787480" cy="288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8" name="직사각형 15"/>
            <p:cNvSpPr/>
            <p:nvPr/>
          </p:nvSpPr>
          <p:spPr>
            <a:xfrm>
              <a:off x="1000080" y="2181960"/>
              <a:ext cx="8501040" cy="42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 합의를 반영하는 한 모든 형태의 지식이 타당하다고 주장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적으로 합의와 관계없이 전수해야 할 지식이나 가치가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가 인지적 성숙의 영향을 받는다는 점을 감안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주의는 본질적으로 수업이론이 아니라 학습철학이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이 어떻게 일어나는지 기술할 뿐 구체적인 지침을 제공하지 못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학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 도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협동학습 등의 학습자 중심의 교육과정의 효과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ewey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진보주의 교육과 유사한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이 상대적이라는 견해와 달리 보편적인 지식도 존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구성주의적 관점에 따라 교육현장에 혼란을 야기할 수 있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9" name="타원 16"/>
            <p:cNvGrpSpPr/>
            <p:nvPr/>
          </p:nvGrpSpPr>
          <p:grpSpPr>
            <a:xfrm>
              <a:off x="1048320" y="2285640"/>
              <a:ext cx="225360" cy="231480"/>
              <a:chOff x="1048320" y="2285640"/>
              <a:chExt cx="225360" cy="231480"/>
            </a:xfrm>
          </p:grpSpPr>
          <p:pic>
            <p:nvPicPr>
              <p:cNvPr id="1540" name="타원 1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48320" y="228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1" name=""/>
              <p:cNvSpPr/>
              <p:nvPr/>
            </p:nvSpPr>
            <p:spPr>
              <a:xfrm rot="10800000">
                <a:off x="1130400" y="234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2" name="타원 18"/>
            <p:cNvGrpSpPr/>
            <p:nvPr/>
          </p:nvGrpSpPr>
          <p:grpSpPr>
            <a:xfrm>
              <a:off x="1048320" y="3102840"/>
              <a:ext cx="225360" cy="231480"/>
              <a:chOff x="1048320" y="3102840"/>
              <a:chExt cx="225360" cy="231480"/>
            </a:xfrm>
          </p:grpSpPr>
          <p:pic>
            <p:nvPicPr>
              <p:cNvPr id="1543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4832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4" name=""/>
              <p:cNvSpPr/>
              <p:nvPr/>
            </p:nvSpPr>
            <p:spPr>
              <a:xfrm rot="10800000">
                <a:off x="113040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5" name="타원 28"/>
          <p:cNvGrpSpPr/>
          <p:nvPr/>
        </p:nvGrpSpPr>
        <p:grpSpPr>
          <a:xfrm>
            <a:off x="1047600" y="3645000"/>
            <a:ext cx="227160" cy="231840"/>
            <a:chOff x="1047600" y="3645000"/>
            <a:chExt cx="227160" cy="231840"/>
          </a:xfrm>
        </p:grpSpPr>
        <p:pic>
          <p:nvPicPr>
            <p:cNvPr id="1546" name="타원 28" descr=""/>
            <p:cNvPicPr/>
            <p:nvPr/>
          </p:nvPicPr>
          <p:blipFill>
            <a:blip r:embed="rId6"/>
            <a:stretch/>
          </p:blipFill>
          <p:spPr>
            <a:xfrm>
              <a:off x="1047600" y="364500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7" name=""/>
            <p:cNvSpPr/>
            <p:nvPr/>
          </p:nvSpPr>
          <p:spPr>
            <a:xfrm rot="10800000">
              <a:off x="1130400" y="3701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8" name="타원 32"/>
          <p:cNvGrpSpPr/>
          <p:nvPr/>
        </p:nvGrpSpPr>
        <p:grpSpPr>
          <a:xfrm>
            <a:off x="1047600" y="4432320"/>
            <a:ext cx="227160" cy="231840"/>
            <a:chOff x="1047600" y="4432320"/>
            <a:chExt cx="227160" cy="231840"/>
          </a:xfrm>
        </p:grpSpPr>
        <p:pic>
          <p:nvPicPr>
            <p:cNvPr id="1549" name="타원 32" descr=""/>
            <p:cNvPicPr/>
            <p:nvPr/>
          </p:nvPicPr>
          <p:blipFill>
            <a:blip r:embed="rId7"/>
            <a:stretch/>
          </p:blipFill>
          <p:spPr>
            <a:xfrm>
              <a:off x="1047600" y="4432320"/>
              <a:ext cx="2271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0" name=""/>
            <p:cNvSpPr/>
            <p:nvPr/>
          </p:nvSpPr>
          <p:spPr>
            <a:xfrm rot="10800000">
              <a:off x="1130400" y="4487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1" name="타원 33"/>
          <p:cNvGrpSpPr/>
          <p:nvPr/>
        </p:nvGrpSpPr>
        <p:grpSpPr>
          <a:xfrm>
            <a:off x="1073160" y="5029200"/>
            <a:ext cx="231840" cy="231840"/>
            <a:chOff x="1073160" y="5029200"/>
            <a:chExt cx="231840" cy="231840"/>
          </a:xfrm>
        </p:grpSpPr>
        <p:pic>
          <p:nvPicPr>
            <p:cNvPr id="1552" name="타원 33" descr=""/>
            <p:cNvPicPr/>
            <p:nvPr/>
          </p:nvPicPr>
          <p:blipFill>
            <a:blip r:embed="rId8"/>
            <a:stretch/>
          </p:blipFill>
          <p:spPr>
            <a:xfrm>
              <a:off x="1073160" y="5029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3" name=""/>
            <p:cNvSpPr/>
            <p:nvPr/>
          </p:nvSpPr>
          <p:spPr>
            <a:xfrm rot="10800000">
              <a:off x="115740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4" name="타원 34"/>
          <p:cNvGrpSpPr/>
          <p:nvPr/>
        </p:nvGrpSpPr>
        <p:grpSpPr>
          <a:xfrm>
            <a:off x="1073160" y="5572080"/>
            <a:ext cx="231840" cy="231840"/>
            <a:chOff x="1073160" y="5572080"/>
            <a:chExt cx="231840" cy="231840"/>
          </a:xfrm>
        </p:grpSpPr>
        <p:pic>
          <p:nvPicPr>
            <p:cNvPr id="1555" name="타원 34" descr=""/>
            <p:cNvPicPr/>
            <p:nvPr/>
          </p:nvPicPr>
          <p:blipFill>
            <a:blip r:embed="rId9"/>
            <a:stretch/>
          </p:blipFill>
          <p:spPr>
            <a:xfrm>
              <a:off x="1073160" y="557208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6" name=""/>
            <p:cNvSpPr/>
            <p:nvPr/>
          </p:nvSpPr>
          <p:spPr>
            <a:xfrm rot="10800000">
              <a:off x="1157400" y="5630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타원 35"/>
          <p:cNvGrpSpPr/>
          <p:nvPr/>
        </p:nvGrpSpPr>
        <p:grpSpPr>
          <a:xfrm>
            <a:off x="1073160" y="6145200"/>
            <a:ext cx="231840" cy="231840"/>
            <a:chOff x="1073160" y="6145200"/>
            <a:chExt cx="231840" cy="231840"/>
          </a:xfrm>
        </p:grpSpPr>
        <p:pic>
          <p:nvPicPr>
            <p:cNvPr id="1558" name="타원 35" descr=""/>
            <p:cNvPicPr/>
            <p:nvPr/>
          </p:nvPicPr>
          <p:blipFill>
            <a:blip r:embed="rId10"/>
            <a:stretch/>
          </p:blipFill>
          <p:spPr>
            <a:xfrm>
              <a:off x="1073160" y="6145200"/>
              <a:ext cx="23184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9" name=""/>
            <p:cNvSpPr/>
            <p:nvPr/>
          </p:nvSpPr>
          <p:spPr>
            <a:xfrm rot="10800000">
              <a:off x="1157400" y="6202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2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78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4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8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1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2" name="그룹 37"/>
          <p:cNvGrpSpPr/>
          <p:nvPr/>
        </p:nvGrpSpPr>
        <p:grpSpPr>
          <a:xfrm>
            <a:off x="285840" y="2143080"/>
            <a:ext cx="8858160" cy="4214880"/>
            <a:chOff x="285840" y="2143080"/>
            <a:chExt cx="8858160" cy="4214880"/>
          </a:xfrm>
        </p:grpSpPr>
        <p:grpSp>
          <p:nvGrpSpPr>
            <p:cNvPr id="793" name="그룹 37"/>
            <p:cNvGrpSpPr/>
            <p:nvPr/>
          </p:nvGrpSpPr>
          <p:grpSpPr>
            <a:xfrm>
              <a:off x="285840" y="2143080"/>
              <a:ext cx="8858160" cy="4214880"/>
              <a:chOff x="285840" y="2143080"/>
              <a:chExt cx="8858160" cy="4214880"/>
            </a:xfrm>
          </p:grpSpPr>
          <p:grpSp>
            <p:nvGrpSpPr>
              <p:cNvPr id="794" name="그룹 91"/>
              <p:cNvGrpSpPr/>
              <p:nvPr/>
            </p:nvGrpSpPr>
            <p:grpSpPr>
              <a:xfrm>
                <a:off x="285840" y="2357280"/>
                <a:ext cx="8858160" cy="4000680"/>
                <a:chOff x="285840" y="2357280"/>
                <a:chExt cx="8858160" cy="4000680"/>
              </a:xfrm>
            </p:grpSpPr>
            <p:pic>
              <p:nvPicPr>
                <p:cNvPr id="79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357280"/>
                  <a:ext cx="8858160" cy="40006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796" name="직사각형 27"/>
                <p:cNvSpPr/>
                <p:nvPr/>
              </p:nvSpPr>
              <p:spPr>
                <a:xfrm>
                  <a:off x="1327680" y="2598480"/>
                  <a:ext cx="7816320" cy="32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법칙 등을 장기기억에 저장되어 있는 선행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구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과 관련짓는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포섭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료를 유의미한 형태로 제시하는 설명식 수업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수용 학습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은 자료를 인지구조에 능동적으로 관련시켜야 하므로 수동적인 학습을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칭하는 것이 아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개념을 먼저 제시하고 구체적 사실을 뒤에 제시하는 연역적 추리를 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7" name="그룹 44"/>
              <p:cNvGrpSpPr/>
              <p:nvPr/>
            </p:nvGrpSpPr>
            <p:grpSpPr>
              <a:xfrm>
                <a:off x="955440" y="2143080"/>
                <a:ext cx="7892280" cy="551160"/>
                <a:chOff x="955440" y="2143080"/>
                <a:chExt cx="7892280" cy="551160"/>
              </a:xfrm>
            </p:grpSpPr>
            <p:grpSp>
              <p:nvGrpSpPr>
                <p:cNvPr id="798" name="그룹 91"/>
                <p:cNvGrpSpPr/>
                <p:nvPr/>
              </p:nvGrpSpPr>
              <p:grpSpPr>
                <a:xfrm>
                  <a:off x="955440" y="2143080"/>
                  <a:ext cx="870840" cy="551160"/>
                  <a:chOff x="955440" y="2143080"/>
                  <a:chExt cx="870840" cy="551160"/>
                </a:xfrm>
              </p:grpSpPr>
              <p:grpSp>
                <p:nvGrpSpPr>
                  <p:cNvPr id="799" name="그룹 34"/>
                  <p:cNvGrpSpPr/>
                  <p:nvPr/>
                </p:nvGrpSpPr>
                <p:grpSpPr>
                  <a:xfrm>
                    <a:off x="955440" y="2252520"/>
                    <a:ext cx="363600" cy="361800"/>
                    <a:chOff x="955440" y="2252520"/>
                    <a:chExt cx="363600" cy="361800"/>
                  </a:xfrm>
                </p:grpSpPr>
                <p:pic>
                  <p:nvPicPr>
                    <p:cNvPr id="800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55440" y="2261160"/>
                      <a:ext cx="3636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01" name="TextBox 36"/>
                    <p:cNvSpPr/>
                    <p:nvPr/>
                  </p:nvSpPr>
                  <p:spPr>
                    <a:xfrm>
                      <a:off x="992520" y="2252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2" name="직사각형 23"/>
                  <p:cNvSpPr/>
                  <p:nvPr/>
                </p:nvSpPr>
                <p:spPr>
                  <a:xfrm>
                    <a:off x="1340640" y="2143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3" name="직선 연결선 21"/>
                <p:cNvSpPr/>
                <p:nvPr/>
              </p:nvSpPr>
              <p:spPr>
                <a:xfrm>
                  <a:off x="3337560" y="2428920"/>
                  <a:ext cx="55101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타원 15"/>
            <p:cNvGrpSpPr/>
            <p:nvPr/>
          </p:nvGrpSpPr>
          <p:grpSpPr>
            <a:xfrm>
              <a:off x="1097280" y="3864960"/>
              <a:ext cx="231480" cy="231480"/>
              <a:chOff x="1097280" y="3864960"/>
              <a:chExt cx="231480" cy="231480"/>
            </a:xfrm>
          </p:grpSpPr>
          <p:pic>
            <p:nvPicPr>
              <p:cNvPr id="805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97280" y="3864960"/>
                <a:ext cx="23148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6" name=""/>
              <p:cNvSpPr/>
              <p:nvPr/>
            </p:nvSpPr>
            <p:spPr>
              <a:xfrm rot="10800000">
                <a:off x="1181160" y="3923640"/>
                <a:ext cx="7236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7" name="오른쪽 화살표 28"/>
          <p:cNvGrpSpPr/>
          <p:nvPr/>
        </p:nvGrpSpPr>
        <p:grpSpPr>
          <a:xfrm>
            <a:off x="1030320" y="2736720"/>
            <a:ext cx="353880" cy="304920"/>
            <a:chOff x="1030320" y="2736720"/>
            <a:chExt cx="353880" cy="304920"/>
          </a:xfrm>
        </p:grpSpPr>
        <p:pic>
          <p:nvPicPr>
            <p:cNvPr id="808" name="오른쪽 화살표 28" descr=""/>
            <p:cNvPicPr/>
            <p:nvPr/>
          </p:nvPicPr>
          <p:blipFill>
            <a:blip r:embed="rId6"/>
            <a:stretch/>
          </p:blipFill>
          <p:spPr>
            <a:xfrm>
              <a:off x="1030320" y="27367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>
              <a:off x="1071720" y="2824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11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13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20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그룹 37"/>
          <p:cNvGrpSpPr/>
          <p:nvPr/>
        </p:nvGrpSpPr>
        <p:grpSpPr>
          <a:xfrm>
            <a:off x="285840" y="1928880"/>
            <a:ext cx="8501040" cy="4929120"/>
            <a:chOff x="285840" y="1928880"/>
            <a:chExt cx="8501040" cy="4929120"/>
          </a:xfrm>
        </p:grpSpPr>
        <p:grpSp>
          <p:nvGrpSpPr>
            <p:cNvPr id="822" name="그룹 91"/>
            <p:cNvGrpSpPr/>
            <p:nvPr/>
          </p:nvGrpSpPr>
          <p:grpSpPr>
            <a:xfrm>
              <a:off x="285840" y="2160720"/>
              <a:ext cx="8501040" cy="4697280"/>
              <a:chOff x="285840" y="2160720"/>
              <a:chExt cx="8501040" cy="4697280"/>
            </a:xfrm>
          </p:grpSpPr>
          <p:pic>
            <p:nvPicPr>
              <p:cNvPr id="82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60720"/>
                <a:ext cx="8501040" cy="46972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24" name="직사각형 83"/>
              <p:cNvSpPr/>
              <p:nvPr/>
            </p:nvSpPr>
            <p:spPr>
              <a:xfrm>
                <a:off x="1285920" y="2422080"/>
                <a:ext cx="75009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5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826" name="그룹 91"/>
              <p:cNvGrpSpPr/>
              <p:nvPr/>
            </p:nvGrpSpPr>
            <p:grpSpPr>
              <a:xfrm>
                <a:off x="928440" y="1928880"/>
                <a:ext cx="3198960" cy="551160"/>
                <a:chOff x="928440" y="1928880"/>
                <a:chExt cx="3198960" cy="551160"/>
              </a:xfrm>
            </p:grpSpPr>
            <p:grpSp>
              <p:nvGrpSpPr>
                <p:cNvPr id="827" name="그룹 34"/>
                <p:cNvGrpSpPr/>
                <p:nvPr/>
              </p:nvGrpSpPr>
              <p:grpSpPr>
                <a:xfrm>
                  <a:off x="928440" y="2047320"/>
                  <a:ext cx="349200" cy="392040"/>
                  <a:chOff x="928440" y="2047320"/>
                  <a:chExt cx="349200" cy="392040"/>
                </a:xfrm>
              </p:grpSpPr>
              <p:pic>
                <p:nvPicPr>
                  <p:cNvPr id="828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53800"/>
                    <a:ext cx="349200" cy="38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9" name="TextBox 36"/>
                  <p:cNvSpPr/>
                  <p:nvPr/>
                </p:nvSpPr>
                <p:spPr>
                  <a:xfrm>
                    <a:off x="957960" y="2047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사각형 79"/>
                <p:cNvSpPr/>
                <p:nvPr/>
              </p:nvSpPr>
              <p:spPr>
                <a:xfrm>
                  <a:off x="1090080" y="1928880"/>
                  <a:ext cx="30373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유의미수용학습의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1" name="직선 연결선 77"/>
              <p:cNvSpPr/>
              <p:nvPr/>
            </p:nvSpPr>
            <p:spPr>
              <a:xfrm>
                <a:off x="4643280" y="223812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2" name="그룹 65"/>
          <p:cNvGrpSpPr/>
          <p:nvPr/>
        </p:nvGrpSpPr>
        <p:grpSpPr>
          <a:xfrm>
            <a:off x="928800" y="2571840"/>
            <a:ext cx="7429320" cy="3214440"/>
            <a:chOff x="928800" y="2571840"/>
            <a:chExt cx="7429320" cy="3214440"/>
          </a:xfrm>
        </p:grpSpPr>
        <p:grpSp>
          <p:nvGrpSpPr>
            <p:cNvPr id="833" name="모서리가 둥근 직사각형 15"/>
            <p:cNvGrpSpPr/>
            <p:nvPr/>
          </p:nvGrpSpPr>
          <p:grpSpPr>
            <a:xfrm>
              <a:off x="6801480" y="3629880"/>
              <a:ext cx="1556640" cy="1029960"/>
              <a:chOff x="6801480" y="3629880"/>
              <a:chExt cx="1556640" cy="1029960"/>
            </a:xfrm>
          </p:grpSpPr>
          <p:pic>
            <p:nvPicPr>
              <p:cNvPr id="834" name="모서리가 둥근 직사각형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6801480" y="3629880"/>
                <a:ext cx="1556640" cy="102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5" name=""/>
              <p:cNvSpPr/>
              <p:nvPr/>
            </p:nvSpPr>
            <p:spPr>
              <a:xfrm>
                <a:off x="6968160" y="3778200"/>
                <a:ext cx="123192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용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6" name="모서리가 둥근 직사각형 16"/>
            <p:cNvGrpSpPr/>
            <p:nvPr/>
          </p:nvGrpSpPr>
          <p:grpSpPr>
            <a:xfrm>
              <a:off x="928800" y="2934000"/>
              <a:ext cx="1420920" cy="695880"/>
              <a:chOff x="928800" y="2934000"/>
              <a:chExt cx="1420920" cy="695880"/>
            </a:xfrm>
          </p:grpSpPr>
          <p:pic>
            <p:nvPicPr>
              <p:cNvPr id="837" name="모서리가 둥근 직사각형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28800" y="293400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8" name=""/>
              <p:cNvSpPr/>
              <p:nvPr/>
            </p:nvSpPr>
            <p:spPr>
              <a:xfrm>
                <a:off x="1078200" y="306360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모서리가 둥근 직사각형 17"/>
            <p:cNvGrpSpPr/>
            <p:nvPr/>
          </p:nvGrpSpPr>
          <p:grpSpPr>
            <a:xfrm>
              <a:off x="3210480" y="2571840"/>
              <a:ext cx="2594160" cy="695880"/>
              <a:chOff x="3210480" y="2571840"/>
              <a:chExt cx="2594160" cy="695880"/>
            </a:xfrm>
          </p:grpSpPr>
          <p:pic>
            <p:nvPicPr>
              <p:cNvPr id="840" name="모서리가 둥근 직사각형 17" descr=""/>
              <p:cNvPicPr/>
              <p:nvPr/>
            </p:nvPicPr>
            <p:blipFill>
              <a:blip r:embed="rId7"/>
              <a:stretch/>
            </p:blipFill>
            <p:spPr>
              <a:xfrm>
                <a:off x="3210480" y="257184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1" name=""/>
              <p:cNvSpPr/>
              <p:nvPr/>
            </p:nvSpPr>
            <p:spPr>
              <a:xfrm>
                <a:off x="3358080" y="270108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구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관련정착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2" name="모서리가 둥근 직사각형 18"/>
            <p:cNvGrpSpPr/>
            <p:nvPr/>
          </p:nvGrpSpPr>
          <p:grpSpPr>
            <a:xfrm>
              <a:off x="3210480" y="3233880"/>
              <a:ext cx="2594160" cy="695880"/>
              <a:chOff x="3210480" y="3233880"/>
              <a:chExt cx="2594160" cy="695880"/>
            </a:xfrm>
          </p:grpSpPr>
          <p:pic>
            <p:nvPicPr>
              <p:cNvPr id="843" name="모서리가 둥근 직사각형 18" descr=""/>
              <p:cNvPicPr/>
              <p:nvPr/>
            </p:nvPicPr>
            <p:blipFill>
              <a:blip r:embed="rId8"/>
              <a:stretch/>
            </p:blipFill>
            <p:spPr>
              <a:xfrm>
                <a:off x="3210480" y="3233880"/>
                <a:ext cx="259416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4" name=""/>
              <p:cNvSpPr/>
              <p:nvPr/>
            </p:nvSpPr>
            <p:spPr>
              <a:xfrm>
                <a:off x="3358080" y="3364200"/>
                <a:ext cx="230220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학습태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5" name="모서리가 둥근 직사각형 20"/>
            <p:cNvGrpSpPr/>
            <p:nvPr/>
          </p:nvGrpSpPr>
          <p:grpSpPr>
            <a:xfrm>
              <a:off x="3210480" y="4496040"/>
              <a:ext cx="1485720" cy="695880"/>
              <a:chOff x="3210480" y="4496040"/>
              <a:chExt cx="1485720" cy="695880"/>
            </a:xfrm>
          </p:grpSpPr>
          <p:pic>
            <p:nvPicPr>
              <p:cNvPr id="846" name="모서리가 둥근 직사각형 20" descr=""/>
              <p:cNvPicPr/>
              <p:nvPr/>
            </p:nvPicPr>
            <p:blipFill>
              <a:blip r:embed="rId9"/>
              <a:stretch/>
            </p:blipFill>
            <p:spPr>
              <a:xfrm>
                <a:off x="3210480" y="449604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7" name=""/>
              <p:cNvSpPr/>
              <p:nvPr/>
            </p:nvSpPr>
            <p:spPr>
              <a:xfrm>
                <a:off x="3358080" y="462456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사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모서리가 둥근 직사각형 21"/>
            <p:cNvGrpSpPr/>
            <p:nvPr/>
          </p:nvGrpSpPr>
          <p:grpSpPr>
            <a:xfrm>
              <a:off x="3210480" y="5090400"/>
              <a:ext cx="1485720" cy="695880"/>
              <a:chOff x="3210480" y="5090400"/>
              <a:chExt cx="1485720" cy="695880"/>
            </a:xfrm>
          </p:grpSpPr>
          <p:pic>
            <p:nvPicPr>
              <p:cNvPr id="849" name="모서리가 둥근 직사각형 21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0480" y="509040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0" name=""/>
              <p:cNvSpPr/>
              <p:nvPr/>
            </p:nvSpPr>
            <p:spPr>
              <a:xfrm>
                <a:off x="3358080" y="522144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속성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모서리가 둥근 직사각형 22"/>
            <p:cNvGrpSpPr/>
            <p:nvPr/>
          </p:nvGrpSpPr>
          <p:grpSpPr>
            <a:xfrm>
              <a:off x="5286240" y="4795920"/>
              <a:ext cx="1485720" cy="695880"/>
              <a:chOff x="5286240" y="4795920"/>
              <a:chExt cx="1485720" cy="695880"/>
            </a:xfrm>
          </p:grpSpPr>
          <p:pic>
            <p:nvPicPr>
              <p:cNvPr id="852" name="모서리가 둥근 직사각형 22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86240" y="4795920"/>
                <a:ext cx="14857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"/>
              <p:cNvSpPr/>
              <p:nvPr/>
            </p:nvSpPr>
            <p:spPr>
              <a:xfrm>
                <a:off x="5431320" y="4926600"/>
                <a:ext cx="1196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의미성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4" name="모서리가 둥근 직사각형 23"/>
            <p:cNvGrpSpPr/>
            <p:nvPr/>
          </p:nvGrpSpPr>
          <p:grpSpPr>
            <a:xfrm>
              <a:off x="928800" y="4801680"/>
              <a:ext cx="1420920" cy="695880"/>
              <a:chOff x="928800" y="4801680"/>
              <a:chExt cx="1420920" cy="695880"/>
            </a:xfrm>
          </p:grpSpPr>
          <p:pic>
            <p:nvPicPr>
              <p:cNvPr id="855" name="모서리가 둥근 직사각형 23" descr=""/>
              <p:cNvPicPr/>
              <p:nvPr/>
            </p:nvPicPr>
            <p:blipFill>
              <a:blip r:embed="rId12"/>
              <a:stretch/>
            </p:blipFill>
            <p:spPr>
              <a:xfrm>
                <a:off x="928800" y="4801680"/>
                <a:ext cx="1420920" cy="69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6" name=""/>
              <p:cNvSpPr/>
              <p:nvPr/>
            </p:nvSpPr>
            <p:spPr>
              <a:xfrm>
                <a:off x="1078200" y="4932360"/>
                <a:ext cx="11275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과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57" name="Shape 27"/>
            <p:cNvCxnSpPr/>
            <p:nvPr/>
          </p:nvCxnSpPr>
          <p:spPr>
            <a:xfrm flipV="1" rot="10800000">
              <a:off x="3333960" y="2910240"/>
              <a:ext cx="2160" cy="66384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cxnSp>
          <p:nvCxnSpPr>
            <p:cNvPr id="858" name="Shape 27"/>
            <p:cNvCxnSpPr/>
            <p:nvPr/>
          </p:nvCxnSpPr>
          <p:spPr>
            <a:xfrm flipV="1" rot="10800000">
              <a:off x="3333960" y="4833720"/>
              <a:ext cx="2160" cy="597600"/>
            </a:xfrm>
            <a:prstGeom prst="bentConnector3">
              <a:avLst>
                <a:gd name="adj1" fmla="val 27980000"/>
              </a:avLst>
            </a:prstGeom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</p:cxnSp>
        <p:sp>
          <p:nvSpPr>
            <p:cNvPr id="859" name="직선 연결선 41"/>
            <p:cNvSpPr/>
            <p:nvPr/>
          </p:nvSpPr>
          <p:spPr>
            <a:xfrm>
              <a:off x="2229120" y="5142240"/>
              <a:ext cx="6771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직선 연결선 47"/>
            <p:cNvSpPr/>
            <p:nvPr/>
          </p:nvSpPr>
          <p:spPr>
            <a:xfrm>
              <a:off x="2229120" y="3275280"/>
              <a:ext cx="677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1" name="꺾인 연결선 49"/>
            <p:cNvCxnSpPr/>
            <p:nvPr/>
          </p:nvCxnSpPr>
          <p:spPr>
            <a:xfrm>
              <a:off x="4578480" y="4834080"/>
              <a:ext cx="2160" cy="597600"/>
            </a:xfrm>
            <a:prstGeom prst="bentConnector3">
              <a:avLst>
                <a:gd name="adj1" fmla="val 2314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2" name="꺾인 연결선 51"/>
            <p:cNvCxnSpPr/>
            <p:nvPr/>
          </p:nvCxnSpPr>
          <p:spPr>
            <a:xfrm>
              <a:off x="5684040" y="2910600"/>
              <a:ext cx="2160" cy="663840"/>
            </a:xfrm>
            <a:prstGeom prst="bentConnector3">
              <a:avLst>
                <a:gd name="adj1" fmla="val 26280000"/>
              </a:avLst>
            </a:prstGeom>
            <a:ln w="9360">
              <a:solidFill>
                <a:srgbClr val="000000"/>
              </a:solidFill>
              <a:round/>
            </a:ln>
          </p:spPr>
        </p:cxnSp>
        <p:cxnSp>
          <p:nvCxnSpPr>
            <p:cNvPr id="863" name="Shape 57"/>
            <p:cNvCxnSpPr/>
            <p:nvPr/>
          </p:nvCxnSpPr>
          <p:spPr>
            <a:xfrm>
              <a:off x="6098760" y="3274920"/>
              <a:ext cx="1486080" cy="46476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64" name="직선 연결선 62"/>
            <p:cNvSpPr/>
            <p:nvPr/>
          </p:nvSpPr>
          <p:spPr>
            <a:xfrm flipV="1">
              <a:off x="4924080" y="5136480"/>
              <a:ext cx="483480" cy="1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65" name="Shape 64"/>
            <p:cNvCxnSpPr/>
            <p:nvPr/>
          </p:nvCxnSpPr>
          <p:spPr>
            <a:xfrm flipV="1">
              <a:off x="6651360" y="4535280"/>
              <a:ext cx="933480" cy="601200"/>
            </a:xfrm>
            <a:prstGeom prst="bentConnector2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</p:grpSp>
      <p:sp>
        <p:nvSpPr>
          <p:cNvPr id="866" name="직사각형 39"/>
          <p:cNvSpPr/>
          <p:nvPr/>
        </p:nvSpPr>
        <p:spPr>
          <a:xfrm>
            <a:off x="571680" y="6072120"/>
            <a:ext cx="8001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실사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개념이나 이론을 다양한 방식으로 표현하더라도 의미가 변하지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휴먼모음T"/>
              </a:rPr>
              <a:t>않는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 속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*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구속성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Georgia"/>
                <a:ea typeface="맑은 고딕"/>
              </a:rPr>
              <a:t>특정 개념이나 법칙 등의 임의를 임의로 변경할 수 없음을 의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6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6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70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7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그룹 37"/>
          <p:cNvGrpSpPr/>
          <p:nvPr/>
        </p:nvGrpSpPr>
        <p:grpSpPr>
          <a:xfrm>
            <a:off x="285840" y="2000160"/>
            <a:ext cx="8501040" cy="4000680"/>
            <a:chOff x="285840" y="2000160"/>
            <a:chExt cx="8501040" cy="4000680"/>
          </a:xfrm>
        </p:grpSpPr>
        <p:grpSp>
          <p:nvGrpSpPr>
            <p:cNvPr id="879" name="그룹 91"/>
            <p:cNvGrpSpPr/>
            <p:nvPr/>
          </p:nvGrpSpPr>
          <p:grpSpPr>
            <a:xfrm>
              <a:off x="285840" y="2214360"/>
              <a:ext cx="8501040" cy="3786480"/>
              <a:chOff x="285840" y="2214360"/>
              <a:chExt cx="8501040" cy="3786480"/>
            </a:xfrm>
          </p:grpSpPr>
          <p:pic>
            <p:nvPicPr>
              <p:cNvPr id="880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3786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881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2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83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884" name="그룹 34"/>
                <p:cNvGrpSpPr/>
                <p:nvPr/>
              </p:nvGrpSpPr>
              <p:grpSpPr>
                <a:xfrm>
                  <a:off x="928440" y="2109600"/>
                  <a:ext cx="349200" cy="362160"/>
                  <a:chOff x="928440" y="2109600"/>
                  <a:chExt cx="349200" cy="362160"/>
                </a:xfrm>
              </p:grpSpPr>
              <p:pic>
                <p:nvPicPr>
                  <p:cNvPr id="885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86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87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직선 연결선 17"/>
              <p:cNvSpPr/>
              <p:nvPr/>
            </p:nvSpPr>
            <p:spPr>
              <a:xfrm>
                <a:off x="4643280" y="228600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9" name="직사각형 25"/>
          <p:cNvSpPr/>
          <p:nvPr/>
        </p:nvSpPr>
        <p:spPr>
          <a:xfrm>
            <a:off x="1285920" y="2700360"/>
            <a:ext cx="7500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를 선행지식에 관련짓는 데 도움을 주기 위해 학습하기 전에 제시하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포괄성과 일반성이 높은 아이디어나 개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학습정보를 기존의 지식구조에 유의미하게 관련짓는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자료의 회상을 촉진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오른쪽 화살표 26"/>
          <p:cNvGrpSpPr/>
          <p:nvPr/>
        </p:nvGrpSpPr>
        <p:grpSpPr>
          <a:xfrm>
            <a:off x="1030320" y="2809800"/>
            <a:ext cx="353880" cy="304920"/>
            <a:chOff x="1030320" y="2809800"/>
            <a:chExt cx="353880" cy="304920"/>
          </a:xfrm>
        </p:grpSpPr>
        <p:pic>
          <p:nvPicPr>
            <p:cNvPr id="891" name="오른쪽 화살표 26" descr=""/>
            <p:cNvPicPr/>
            <p:nvPr/>
          </p:nvPicPr>
          <p:blipFill>
            <a:blip r:embed="rId5"/>
            <a:stretch/>
          </p:blipFill>
          <p:spPr>
            <a:xfrm>
              <a:off x="1030320" y="280980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1071720" y="289548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3" name="타원 27"/>
          <p:cNvGrpSpPr/>
          <p:nvPr/>
        </p:nvGrpSpPr>
        <p:grpSpPr>
          <a:xfrm>
            <a:off x="1090440" y="4102200"/>
            <a:ext cx="225720" cy="231840"/>
            <a:chOff x="1090440" y="4102200"/>
            <a:chExt cx="225720" cy="231840"/>
          </a:xfrm>
        </p:grpSpPr>
        <p:pic>
          <p:nvPicPr>
            <p:cNvPr id="894" name="타원 27" descr=""/>
            <p:cNvPicPr/>
            <p:nvPr/>
          </p:nvPicPr>
          <p:blipFill>
            <a:blip r:embed="rId6"/>
            <a:stretch/>
          </p:blipFill>
          <p:spPr>
            <a:xfrm>
              <a:off x="1090440" y="4102200"/>
              <a:ext cx="22572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 rot="10800000">
              <a:off x="1174680" y="4160880"/>
              <a:ext cx="69840" cy="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897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89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99" name="직사각형 13"/>
              <p:cNvSpPr/>
              <p:nvPr/>
            </p:nvSpPr>
            <p:spPr>
              <a:xfrm>
                <a:off x="1683000" y="1385640"/>
                <a:ext cx="5797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유의미수용학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aningful reception learning, David Ausubel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6" name="TextBox 88"/>
            <p:cNvSpPr/>
            <p:nvPr/>
          </p:nvSpPr>
          <p:spPr>
            <a:xfrm>
              <a:off x="67824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그룹 37"/>
          <p:cNvGrpSpPr/>
          <p:nvPr/>
        </p:nvGrpSpPr>
        <p:grpSpPr>
          <a:xfrm>
            <a:off x="285840" y="2000160"/>
            <a:ext cx="8501040" cy="4429080"/>
            <a:chOff x="285840" y="2000160"/>
            <a:chExt cx="8501040" cy="4429080"/>
          </a:xfrm>
        </p:grpSpPr>
        <p:grpSp>
          <p:nvGrpSpPr>
            <p:cNvPr id="908" name="그룹 91"/>
            <p:cNvGrpSpPr/>
            <p:nvPr/>
          </p:nvGrpSpPr>
          <p:grpSpPr>
            <a:xfrm>
              <a:off x="285840" y="2214360"/>
              <a:ext cx="8501040" cy="4214880"/>
              <a:chOff x="285840" y="2214360"/>
              <a:chExt cx="8501040" cy="4214880"/>
            </a:xfrm>
          </p:grpSpPr>
          <p:pic>
            <p:nvPicPr>
              <p:cNvPr id="90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42148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0" name="직사각형 24"/>
              <p:cNvSpPr/>
              <p:nvPr/>
            </p:nvSpPr>
            <p:spPr>
              <a:xfrm>
                <a:off x="1285920" y="2455560"/>
                <a:ext cx="7500960" cy="4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1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912" name="그룹 91"/>
              <p:cNvGrpSpPr/>
              <p:nvPr/>
            </p:nvGrpSpPr>
            <p:grpSpPr>
              <a:xfrm>
                <a:off x="928440" y="2000160"/>
                <a:ext cx="3524400" cy="551160"/>
                <a:chOff x="928440" y="2000160"/>
                <a:chExt cx="3524400" cy="551160"/>
              </a:xfrm>
            </p:grpSpPr>
            <p:grpSp>
              <p:nvGrpSpPr>
                <p:cNvPr id="913" name="그룹 34"/>
                <p:cNvGrpSpPr/>
                <p:nvPr/>
              </p:nvGrpSpPr>
              <p:grpSpPr>
                <a:xfrm>
                  <a:off x="928440" y="2109600"/>
                  <a:ext cx="349200" cy="361800"/>
                  <a:chOff x="928440" y="2109600"/>
                  <a:chExt cx="349200" cy="361800"/>
                </a:xfrm>
              </p:grpSpPr>
              <p:pic>
                <p:nvPicPr>
                  <p:cNvPr id="91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15000"/>
                    <a:ext cx="349200" cy="3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15" name="TextBox 36"/>
                  <p:cNvSpPr/>
                  <p:nvPr/>
                </p:nvSpPr>
                <p:spPr>
                  <a:xfrm>
                    <a:off x="957960" y="21096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16" name="직사각형 20"/>
                <p:cNvSpPr/>
                <p:nvPr/>
              </p:nvSpPr>
              <p:spPr>
                <a:xfrm>
                  <a:off x="1563840" y="2000160"/>
                  <a:ext cx="28890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선행조직자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advance organiz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7" name="직선 연결선 17"/>
              <p:cNvSpPr/>
              <p:nvPr/>
            </p:nvSpPr>
            <p:spPr>
              <a:xfrm>
                <a:off x="4643280" y="2285640"/>
                <a:ext cx="385920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8" name="그룹 90"/>
          <p:cNvGrpSpPr/>
          <p:nvPr/>
        </p:nvGrpSpPr>
        <p:grpSpPr>
          <a:xfrm>
            <a:off x="1008000" y="2739960"/>
            <a:ext cx="7778880" cy="1292760"/>
            <a:chOff x="1008000" y="2739960"/>
            <a:chExt cx="7778880" cy="1292760"/>
          </a:xfrm>
        </p:grpSpPr>
        <p:grpSp>
          <p:nvGrpSpPr>
            <p:cNvPr id="919" name="그룹 142"/>
            <p:cNvGrpSpPr/>
            <p:nvPr/>
          </p:nvGrpSpPr>
          <p:grpSpPr>
            <a:xfrm>
              <a:off x="1008000" y="2739960"/>
              <a:ext cx="3260520" cy="505440"/>
              <a:chOff x="1008000" y="2739960"/>
              <a:chExt cx="3260520" cy="505440"/>
            </a:xfrm>
          </p:grpSpPr>
          <p:grpSp>
            <p:nvGrpSpPr>
              <p:cNvPr id="920" name="그룹 97"/>
              <p:cNvGrpSpPr/>
              <p:nvPr/>
            </p:nvGrpSpPr>
            <p:grpSpPr>
              <a:xfrm>
                <a:off x="1008000" y="2797920"/>
                <a:ext cx="295200" cy="337320"/>
                <a:chOff x="1008000" y="2797920"/>
                <a:chExt cx="295200" cy="337320"/>
              </a:xfrm>
            </p:grpSpPr>
            <p:pic>
              <p:nvPicPr>
                <p:cNvPr id="921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17720" y="2851920"/>
                  <a:ext cx="281880" cy="283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2" name="TextBox 146"/>
                <p:cNvSpPr/>
                <p:nvPr/>
              </p:nvSpPr>
              <p:spPr>
                <a:xfrm>
                  <a:off x="1008000" y="27979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3" name="직사각형 35"/>
              <p:cNvSpPr/>
              <p:nvPr/>
            </p:nvSpPr>
            <p:spPr>
              <a:xfrm>
                <a:off x="1256400" y="2739960"/>
                <a:ext cx="301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명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pository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4" name="직선 연결선 30"/>
            <p:cNvSpPr/>
            <p:nvPr/>
          </p:nvSpPr>
          <p:spPr>
            <a:xfrm>
              <a:off x="4500360" y="30258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5" name="그룹 114"/>
            <p:cNvGrpSpPr/>
            <p:nvPr/>
          </p:nvGrpSpPr>
          <p:grpSpPr>
            <a:xfrm>
              <a:off x="1377720" y="3126600"/>
              <a:ext cx="7409160" cy="906120"/>
              <a:chOff x="1377720" y="3126600"/>
              <a:chExt cx="7409160" cy="906120"/>
            </a:xfrm>
          </p:grpSpPr>
          <p:sp>
            <p:nvSpPr>
              <p:cNvPr id="926" name="직사각형 37"/>
              <p:cNvSpPr/>
              <p:nvPr/>
            </p:nvSpPr>
            <p:spPr>
              <a:xfrm>
                <a:off x="1494720" y="3126600"/>
                <a:ext cx="7292160" cy="90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을 전혀 갖고 있지 않은 경우 제시하는 포괄성이 높고 기본적인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아이디어나 개념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한 수업시 금속의 일반적인 성질을 기술한 문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7" name="타원 33"/>
              <p:cNvGrpSpPr/>
              <p:nvPr/>
            </p:nvGrpSpPr>
            <p:grpSpPr>
              <a:xfrm>
                <a:off x="1377720" y="3285720"/>
                <a:ext cx="223200" cy="237960"/>
                <a:chOff x="1377720" y="3285720"/>
                <a:chExt cx="223200" cy="237960"/>
              </a:xfrm>
            </p:grpSpPr>
            <p:pic>
              <p:nvPicPr>
                <p:cNvPr id="928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285720"/>
                  <a:ext cx="22320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29" name=""/>
                <p:cNvSpPr/>
                <p:nvPr/>
              </p:nvSpPr>
              <p:spPr>
                <a:xfrm rot="10800000">
                  <a:off x="1458000" y="33454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30" name="그룹 90"/>
          <p:cNvGrpSpPr/>
          <p:nvPr/>
        </p:nvGrpSpPr>
        <p:grpSpPr>
          <a:xfrm>
            <a:off x="1012320" y="4143240"/>
            <a:ext cx="7845840" cy="2105280"/>
            <a:chOff x="1012320" y="4143240"/>
            <a:chExt cx="7845840" cy="2105280"/>
          </a:xfrm>
        </p:grpSpPr>
        <p:grpSp>
          <p:nvGrpSpPr>
            <p:cNvPr id="931" name="그룹 142"/>
            <p:cNvGrpSpPr/>
            <p:nvPr/>
          </p:nvGrpSpPr>
          <p:grpSpPr>
            <a:xfrm>
              <a:off x="1012320" y="4143240"/>
              <a:ext cx="3433320" cy="505440"/>
              <a:chOff x="1012320" y="4143240"/>
              <a:chExt cx="3433320" cy="505440"/>
            </a:xfrm>
          </p:grpSpPr>
          <p:grpSp>
            <p:nvGrpSpPr>
              <p:cNvPr id="932" name="그룹 97"/>
              <p:cNvGrpSpPr/>
              <p:nvPr/>
            </p:nvGrpSpPr>
            <p:grpSpPr>
              <a:xfrm>
                <a:off x="1012320" y="4201200"/>
                <a:ext cx="305640" cy="338760"/>
                <a:chOff x="1012320" y="4201200"/>
                <a:chExt cx="305640" cy="338760"/>
              </a:xfrm>
            </p:grpSpPr>
            <p:pic>
              <p:nvPicPr>
                <p:cNvPr id="933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17720" y="4259160"/>
                  <a:ext cx="28656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4" name="TextBox 146"/>
                <p:cNvSpPr/>
                <p:nvPr/>
              </p:nvSpPr>
              <p:spPr>
                <a:xfrm>
                  <a:off x="1012320" y="4201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5" name="직사각형 45"/>
              <p:cNvSpPr/>
              <p:nvPr/>
            </p:nvSpPr>
            <p:spPr>
              <a:xfrm>
                <a:off x="1244520" y="4143240"/>
                <a:ext cx="3201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교조직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omparative organiz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6" name="직선 연결선 40"/>
            <p:cNvSpPr/>
            <p:nvPr/>
          </p:nvSpPr>
          <p:spPr>
            <a:xfrm>
              <a:off x="4500360" y="4428720"/>
              <a:ext cx="393048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7" name="그룹 114"/>
            <p:cNvGrpSpPr/>
            <p:nvPr/>
          </p:nvGrpSpPr>
          <p:grpSpPr>
            <a:xfrm>
              <a:off x="1377720" y="4530240"/>
              <a:ext cx="7480440" cy="1718280"/>
              <a:chOff x="1377720" y="4530240"/>
              <a:chExt cx="7480440" cy="1718280"/>
            </a:xfrm>
          </p:grpSpPr>
          <p:sp>
            <p:nvSpPr>
              <p:cNvPr id="938" name="직사각형 37"/>
              <p:cNvSpPr/>
              <p:nvPr/>
            </p:nvSpPr>
            <p:spPr>
              <a:xfrm>
                <a:off x="1494720" y="4530240"/>
                <a:ext cx="7363440" cy="17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행지식이 있을 경우 선행지식과 새로운 자료의 유사성과 차이점을 인식시켜 변별력을 증대시키는 개념과 아이디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전 시간과 지금 배울 내용을 비교하는 도입 문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31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9" name="타원 43"/>
              <p:cNvGrpSpPr/>
              <p:nvPr/>
            </p:nvGrpSpPr>
            <p:grpSpPr>
              <a:xfrm>
                <a:off x="1377720" y="4693680"/>
                <a:ext cx="223200" cy="231480"/>
                <a:chOff x="1377720" y="4693680"/>
                <a:chExt cx="223200" cy="231480"/>
              </a:xfrm>
            </p:grpSpPr>
            <p:pic>
              <p:nvPicPr>
                <p:cNvPr id="940" name="타원 43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4693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"/>
                <p:cNvSpPr/>
                <p:nvPr/>
              </p:nvSpPr>
              <p:spPr>
                <a:xfrm rot="10800000">
                  <a:off x="1458000" y="4749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42" name="타원 41"/>
          <p:cNvGrpSpPr/>
          <p:nvPr/>
        </p:nvGrpSpPr>
        <p:grpSpPr>
          <a:xfrm>
            <a:off x="1292400" y="5529240"/>
            <a:ext cx="225360" cy="231840"/>
            <a:chOff x="1292400" y="5529240"/>
            <a:chExt cx="225360" cy="231840"/>
          </a:xfrm>
        </p:grpSpPr>
        <p:pic>
          <p:nvPicPr>
            <p:cNvPr id="943" name="타원 41" descr=""/>
            <p:cNvPicPr/>
            <p:nvPr/>
          </p:nvPicPr>
          <p:blipFill>
            <a:blip r:embed="rId9"/>
            <a:stretch/>
          </p:blipFill>
          <p:spPr>
            <a:xfrm>
              <a:off x="1292400" y="55292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 rot="10800000">
              <a:off x="1371600" y="55864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46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4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48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5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5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55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그룹 37"/>
          <p:cNvGrpSpPr/>
          <p:nvPr/>
        </p:nvGrpSpPr>
        <p:grpSpPr>
          <a:xfrm>
            <a:off x="285840" y="1857240"/>
            <a:ext cx="8643960" cy="4742280"/>
            <a:chOff x="285840" y="1857240"/>
            <a:chExt cx="8643960" cy="4742280"/>
          </a:xfrm>
        </p:grpSpPr>
        <p:grpSp>
          <p:nvGrpSpPr>
            <p:cNvPr id="957" name="그룹 37"/>
            <p:cNvGrpSpPr/>
            <p:nvPr/>
          </p:nvGrpSpPr>
          <p:grpSpPr>
            <a:xfrm>
              <a:off x="285840" y="1857240"/>
              <a:ext cx="8643960" cy="4742280"/>
              <a:chOff x="285840" y="1857240"/>
              <a:chExt cx="8643960" cy="4742280"/>
            </a:xfrm>
          </p:grpSpPr>
          <p:grpSp>
            <p:nvGrpSpPr>
              <p:cNvPr id="958" name="그룹 91"/>
              <p:cNvGrpSpPr/>
              <p:nvPr/>
            </p:nvGrpSpPr>
            <p:grpSpPr>
              <a:xfrm>
                <a:off x="285840" y="2071440"/>
                <a:ext cx="8643960" cy="4528080"/>
                <a:chOff x="285840" y="2071440"/>
                <a:chExt cx="8643960" cy="4528080"/>
              </a:xfrm>
            </p:grpSpPr>
            <p:pic>
              <p:nvPicPr>
                <p:cNvPr id="95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400" cy="41439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60" name="직사각형 26"/>
                <p:cNvSpPr/>
                <p:nvPr/>
              </p:nvSpPr>
              <p:spPr>
                <a:xfrm>
                  <a:off x="1285920" y="2512800"/>
                  <a:ext cx="7643880" cy="408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가 스스로 원리나 법칙을 찾아내는 학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99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구체적 사례를 탐구한 결과를 바탕으로 일반법칙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리를 형성하도록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하는 귀납적 추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강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발견학습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형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안내된 발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uided discovery)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 개입과 지도의 최소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교사가 목표를 설정하고 자료와 사례를 준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질문을 통해 지도하는 상황에서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생들로 하여금 개념과 원리를 발견하도록 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962" name="그룹 91"/>
                <p:cNvGrpSpPr/>
                <p:nvPr/>
              </p:nvGrpSpPr>
              <p:grpSpPr>
                <a:xfrm>
                  <a:off x="928440" y="1857240"/>
                  <a:ext cx="845640" cy="551160"/>
                  <a:chOff x="928440" y="1857240"/>
                  <a:chExt cx="845640" cy="551160"/>
                </a:xfrm>
              </p:grpSpPr>
              <p:grpSp>
                <p:nvGrpSpPr>
                  <p:cNvPr id="963" name="그룹 34"/>
                  <p:cNvGrpSpPr/>
                  <p:nvPr/>
                </p:nvGrpSpPr>
                <p:grpSpPr>
                  <a:xfrm>
                    <a:off x="928440" y="1966680"/>
                    <a:ext cx="348840" cy="361800"/>
                    <a:chOff x="928440" y="1966680"/>
                    <a:chExt cx="348840" cy="361800"/>
                  </a:xfrm>
                </p:grpSpPr>
                <p:pic>
                  <p:nvPicPr>
                    <p:cNvPr id="96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884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65" name="TextBox 36"/>
                    <p:cNvSpPr/>
                    <p:nvPr/>
                  </p:nvSpPr>
                  <p:spPr>
                    <a:xfrm>
                      <a:off x="95760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6" name="직사각형 22"/>
                  <p:cNvSpPr/>
                  <p:nvPr/>
                </p:nvSpPr>
                <p:spPr>
                  <a:xfrm>
                    <a:off x="1288440" y="185724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의미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7" name="직선 연결선 20"/>
                <p:cNvSpPr/>
                <p:nvPr/>
              </p:nvSpPr>
              <p:spPr>
                <a:xfrm>
                  <a:off x="3214440" y="214308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8" name="타원 15"/>
            <p:cNvGrpSpPr/>
            <p:nvPr/>
          </p:nvGrpSpPr>
          <p:grpSpPr>
            <a:xfrm>
              <a:off x="1066680" y="3358800"/>
              <a:ext cx="225360" cy="231480"/>
              <a:chOff x="1066680" y="3358800"/>
              <a:chExt cx="225360" cy="231480"/>
            </a:xfrm>
          </p:grpSpPr>
          <p:pic>
            <p:nvPicPr>
              <p:cNvPr id="969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3358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0" name=""/>
              <p:cNvSpPr/>
              <p:nvPr/>
            </p:nvSpPr>
            <p:spPr>
              <a:xfrm rot="10800000">
                <a:off x="1145160" y="341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1" name="타원 28"/>
            <p:cNvGrpSpPr/>
            <p:nvPr/>
          </p:nvGrpSpPr>
          <p:grpSpPr>
            <a:xfrm>
              <a:off x="1066680" y="4285440"/>
              <a:ext cx="225360" cy="237600"/>
              <a:chOff x="1066680" y="4285440"/>
              <a:chExt cx="225360" cy="237600"/>
            </a:xfrm>
          </p:grpSpPr>
          <p:pic>
            <p:nvPicPr>
              <p:cNvPr id="972" name="타원 28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4285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3" name=""/>
              <p:cNvSpPr/>
              <p:nvPr/>
            </p:nvSpPr>
            <p:spPr>
              <a:xfrm rot="10800000">
                <a:off x="114516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4" name="오른쪽 화살표 27"/>
          <p:cNvGrpSpPr/>
          <p:nvPr/>
        </p:nvGrpSpPr>
        <p:grpSpPr>
          <a:xfrm>
            <a:off x="1030320" y="2657520"/>
            <a:ext cx="353880" cy="304920"/>
            <a:chOff x="1030320" y="2657520"/>
            <a:chExt cx="353880" cy="304920"/>
          </a:xfrm>
        </p:grpSpPr>
        <p:pic>
          <p:nvPicPr>
            <p:cNvPr id="975" name="오른쪽 화살표 27" descr=""/>
            <p:cNvPicPr/>
            <p:nvPr/>
          </p:nvPicPr>
          <p:blipFill>
            <a:blip r:embed="rId7"/>
            <a:stretch/>
          </p:blipFill>
          <p:spPr>
            <a:xfrm>
              <a:off x="1030320" y="2657520"/>
              <a:ext cx="35388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1071720" y="2743200"/>
              <a:ext cx="1760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97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97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8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8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8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8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8" name="그룹 37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989" name="그룹 37"/>
            <p:cNvGrpSpPr/>
            <p:nvPr/>
          </p:nvGrpSpPr>
          <p:grpSpPr>
            <a:xfrm>
              <a:off x="285840" y="2000160"/>
              <a:ext cx="8501040" cy="1571760"/>
              <a:chOff x="285840" y="2000160"/>
              <a:chExt cx="8501040" cy="1571760"/>
            </a:xfrm>
          </p:grpSpPr>
          <p:grpSp>
            <p:nvGrpSpPr>
              <p:cNvPr id="990" name="그룹 91"/>
              <p:cNvGrpSpPr/>
              <p:nvPr/>
            </p:nvGrpSpPr>
            <p:grpSpPr>
              <a:xfrm>
                <a:off x="285840" y="2214360"/>
                <a:ext cx="8501040" cy="1357560"/>
                <a:chOff x="285840" y="2214360"/>
                <a:chExt cx="8501040" cy="1357560"/>
              </a:xfrm>
            </p:grpSpPr>
            <p:pic>
              <p:nvPicPr>
                <p:cNvPr id="991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357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92" name="직사각형 28"/>
                <p:cNvSpPr/>
                <p:nvPr/>
              </p:nvSpPr>
              <p:spPr>
                <a:xfrm>
                  <a:off x="1285920" y="24620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 스스로 원리나 법칙을 찾아내는 학습으로 고차적인 사고기능 습득을 유도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994" name="그룹 91"/>
                <p:cNvGrpSpPr/>
                <p:nvPr/>
              </p:nvGrpSpPr>
              <p:grpSpPr>
                <a:xfrm>
                  <a:off x="928440" y="2000160"/>
                  <a:ext cx="845640" cy="551160"/>
                  <a:chOff x="928440" y="2000160"/>
                  <a:chExt cx="845640" cy="551160"/>
                </a:xfrm>
              </p:grpSpPr>
              <p:grpSp>
                <p:nvGrpSpPr>
                  <p:cNvPr id="995" name="그룹 34"/>
                  <p:cNvGrpSpPr/>
                  <p:nvPr/>
                </p:nvGrpSpPr>
                <p:grpSpPr>
                  <a:xfrm>
                    <a:off x="928440" y="2109600"/>
                    <a:ext cx="348840" cy="361800"/>
                    <a:chOff x="928440" y="2109600"/>
                    <a:chExt cx="348840" cy="361800"/>
                  </a:xfrm>
                </p:grpSpPr>
                <p:pic>
                  <p:nvPicPr>
                    <p:cNvPr id="996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884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97" name="TextBox 36"/>
                    <p:cNvSpPr/>
                    <p:nvPr/>
                  </p:nvSpPr>
                  <p:spPr>
                    <a:xfrm>
                      <a:off x="95760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8" name="직사각형 24"/>
                  <p:cNvSpPr/>
                  <p:nvPr/>
                </p:nvSpPr>
                <p:spPr>
                  <a:xfrm>
                    <a:off x="1288440" y="2000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목적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99" name="직선 연결선 22"/>
                <p:cNvSpPr/>
                <p:nvPr/>
              </p:nvSpPr>
              <p:spPr>
                <a:xfrm>
                  <a:off x="3214440" y="22860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0" name="타원 18"/>
            <p:cNvGrpSpPr/>
            <p:nvPr/>
          </p:nvGrpSpPr>
          <p:grpSpPr>
            <a:xfrm>
              <a:off x="1066680" y="2645640"/>
              <a:ext cx="225360" cy="231480"/>
              <a:chOff x="1066680" y="2645640"/>
              <a:chExt cx="225360" cy="23148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106668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11451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3" name="그룹 37"/>
          <p:cNvGrpSpPr/>
          <p:nvPr/>
        </p:nvGrpSpPr>
        <p:grpSpPr>
          <a:xfrm>
            <a:off x="285840" y="4143240"/>
            <a:ext cx="8501040" cy="2643480"/>
            <a:chOff x="285840" y="4143240"/>
            <a:chExt cx="8501040" cy="2643480"/>
          </a:xfrm>
        </p:grpSpPr>
        <p:pic>
          <p:nvPicPr>
            <p:cNvPr id="100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4357440"/>
              <a:ext cx="8501040" cy="242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5" name="그룹 44"/>
            <p:cNvGrpSpPr/>
            <p:nvPr/>
          </p:nvGrpSpPr>
          <p:grpSpPr>
            <a:xfrm>
              <a:off x="928440" y="4143240"/>
              <a:ext cx="7574040" cy="551160"/>
              <a:chOff x="928440" y="4143240"/>
              <a:chExt cx="7574040" cy="551160"/>
            </a:xfrm>
          </p:grpSpPr>
          <p:grpSp>
            <p:nvGrpSpPr>
              <p:cNvPr id="1006" name="그룹 91"/>
              <p:cNvGrpSpPr/>
              <p:nvPr/>
            </p:nvGrpSpPr>
            <p:grpSpPr>
              <a:xfrm>
                <a:off x="928440" y="4143240"/>
                <a:ext cx="2853720" cy="551160"/>
                <a:chOff x="928440" y="4143240"/>
                <a:chExt cx="2853720" cy="551160"/>
              </a:xfrm>
            </p:grpSpPr>
            <p:grpSp>
              <p:nvGrpSpPr>
                <p:cNvPr id="1007" name="그룹 34"/>
                <p:cNvGrpSpPr/>
                <p:nvPr/>
              </p:nvGrpSpPr>
              <p:grpSpPr>
                <a:xfrm>
                  <a:off x="928440" y="4252680"/>
                  <a:ext cx="349200" cy="362160"/>
                  <a:chOff x="928440" y="4252680"/>
                  <a:chExt cx="349200" cy="362160"/>
                </a:xfrm>
              </p:grpSpPr>
              <p:pic>
                <p:nvPicPr>
                  <p:cNvPr id="1008" name="Picture 177" descr="bull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928440" y="4260600"/>
                    <a:ext cx="34920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09" name="TextBox 36"/>
                  <p:cNvSpPr/>
                  <p:nvPr/>
                </p:nvSpPr>
                <p:spPr>
                  <a:xfrm>
                    <a:off x="957960" y="42526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0" name="직사각형 37"/>
                <p:cNvSpPr/>
                <p:nvPr/>
              </p:nvSpPr>
              <p:spPr>
                <a:xfrm>
                  <a:off x="1793880" y="4143240"/>
                  <a:ext cx="198828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을 촉진하는 조건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직선 연결선 35"/>
              <p:cNvSpPr/>
              <p:nvPr/>
            </p:nvSpPr>
            <p:spPr>
              <a:xfrm>
                <a:off x="5000400" y="442908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2" name="그룹 54"/>
          <p:cNvGrpSpPr/>
          <p:nvPr/>
        </p:nvGrpSpPr>
        <p:grpSpPr>
          <a:xfrm>
            <a:off x="1139760" y="4714920"/>
            <a:ext cx="7000560" cy="1739880"/>
            <a:chOff x="1139760" y="4714920"/>
            <a:chExt cx="7000560" cy="1739880"/>
          </a:xfrm>
        </p:grpSpPr>
        <p:sp>
          <p:nvSpPr>
            <p:cNvPr id="1013" name="직사각형 51"/>
            <p:cNvSpPr/>
            <p:nvPr/>
          </p:nvSpPr>
          <p:spPr>
            <a:xfrm>
              <a:off x="2177640" y="4714920"/>
              <a:ext cx="59626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태세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et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정 방식으로 반응하려는 경향성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 파악 등의 심층적 이해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요구상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need state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성 및 민감성 수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인 정보의 숙달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mastery of specifics)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체적 정보를 완전히 이해한 자가 유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훈련의 다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 주제를 여러 차례 지도하는 것이 유리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그룹 53"/>
            <p:cNvGrpSpPr/>
            <p:nvPr/>
          </p:nvGrpSpPr>
          <p:grpSpPr>
            <a:xfrm>
              <a:off x="1139760" y="4773600"/>
              <a:ext cx="463320" cy="1623240"/>
              <a:chOff x="1139760" y="4773600"/>
              <a:chExt cx="463320" cy="1623240"/>
            </a:xfrm>
          </p:grpSpPr>
          <p:grpSp>
            <p:nvGrpSpPr>
              <p:cNvPr id="1015" name="그룹 97"/>
              <p:cNvGrpSpPr/>
              <p:nvPr/>
            </p:nvGrpSpPr>
            <p:grpSpPr>
              <a:xfrm>
                <a:off x="1139760" y="4773600"/>
                <a:ext cx="457560" cy="337320"/>
                <a:chOff x="1139760" y="4773600"/>
                <a:chExt cx="457560" cy="337320"/>
              </a:xfrm>
            </p:grpSpPr>
            <p:pic>
              <p:nvPicPr>
                <p:cNvPr id="1016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39760" y="4826520"/>
                  <a:ext cx="457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7" name="TextBox 146"/>
                <p:cNvSpPr/>
                <p:nvPr/>
              </p:nvSpPr>
              <p:spPr>
                <a:xfrm>
                  <a:off x="1213200" y="47736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8" name="그룹 97"/>
              <p:cNvGrpSpPr/>
              <p:nvPr/>
            </p:nvGrpSpPr>
            <p:grpSpPr>
              <a:xfrm>
                <a:off x="1139760" y="5211720"/>
                <a:ext cx="463320" cy="337320"/>
                <a:chOff x="1139760" y="5211720"/>
                <a:chExt cx="463320" cy="337320"/>
              </a:xfrm>
            </p:grpSpPr>
            <p:pic>
              <p:nvPicPr>
                <p:cNvPr id="1019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139760" y="526680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0" name="TextBox 146"/>
                <p:cNvSpPr/>
                <p:nvPr/>
              </p:nvSpPr>
              <p:spPr>
                <a:xfrm>
                  <a:off x="1222560" y="52117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1" name="그룹 97"/>
              <p:cNvGrpSpPr/>
              <p:nvPr/>
            </p:nvGrpSpPr>
            <p:grpSpPr>
              <a:xfrm>
                <a:off x="1139760" y="5626080"/>
                <a:ext cx="460080" cy="337320"/>
                <a:chOff x="1139760" y="5626080"/>
                <a:chExt cx="460080" cy="337320"/>
              </a:xfrm>
            </p:grpSpPr>
            <p:pic>
              <p:nvPicPr>
                <p:cNvPr id="1022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39760" y="5681520"/>
                  <a:ext cx="46008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TextBox 146"/>
                <p:cNvSpPr/>
                <p:nvPr/>
              </p:nvSpPr>
              <p:spPr>
                <a:xfrm>
                  <a:off x="1224360" y="5626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4" name="그룹 97"/>
              <p:cNvGrpSpPr/>
              <p:nvPr/>
            </p:nvGrpSpPr>
            <p:grpSpPr>
              <a:xfrm>
                <a:off x="1139760" y="6059520"/>
                <a:ext cx="463320" cy="337320"/>
                <a:chOff x="1139760" y="6059520"/>
                <a:chExt cx="463320" cy="337320"/>
              </a:xfrm>
            </p:grpSpPr>
            <p:pic>
              <p:nvPicPr>
                <p:cNvPr id="1025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39760" y="6114240"/>
                  <a:ext cx="46332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TextBox 146"/>
                <p:cNvSpPr/>
                <p:nvPr/>
              </p:nvSpPr>
              <p:spPr>
                <a:xfrm>
                  <a:off x="1221480" y="60595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extBox 12" descr=""/>
          <p:cNvPicPr/>
          <p:nvPr/>
        </p:nvPicPr>
        <p:blipFill>
          <a:blip r:embed="rId1"/>
          <a:stretch/>
        </p:blipFill>
        <p:spPr>
          <a:xfrm>
            <a:off x="6095880" y="506520"/>
            <a:ext cx="2951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28" name="그룹 35"/>
          <p:cNvGrpSpPr/>
          <p:nvPr/>
        </p:nvGrpSpPr>
        <p:grpSpPr>
          <a:xfrm>
            <a:off x="642960" y="1357200"/>
            <a:ext cx="8429760" cy="430200"/>
            <a:chOff x="642960" y="1357200"/>
            <a:chExt cx="8429760" cy="430200"/>
          </a:xfrm>
        </p:grpSpPr>
        <p:grpSp>
          <p:nvGrpSpPr>
            <p:cNvPr id="102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30" name="직사각형 13"/>
              <p:cNvSpPr/>
              <p:nvPr/>
            </p:nvSpPr>
            <p:spPr>
              <a:xfrm>
                <a:off x="1334520" y="1385640"/>
                <a:ext cx="272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발견학습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discovery lear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7" name="TextBox 88"/>
            <p:cNvSpPr/>
            <p:nvPr/>
          </p:nvSpPr>
          <p:spPr>
            <a:xfrm>
              <a:off x="678600" y="13572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그룹 37"/>
          <p:cNvGrpSpPr/>
          <p:nvPr/>
        </p:nvGrpSpPr>
        <p:grpSpPr>
          <a:xfrm>
            <a:off x="285840" y="1928880"/>
            <a:ext cx="8501040" cy="4714920"/>
            <a:chOff x="285840" y="1928880"/>
            <a:chExt cx="8501040" cy="4714920"/>
          </a:xfrm>
        </p:grpSpPr>
        <p:pic>
          <p:nvPicPr>
            <p:cNvPr id="1039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143080"/>
              <a:ext cx="8501040" cy="45007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40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041" name="그룹 91"/>
              <p:cNvGrpSpPr/>
              <p:nvPr/>
            </p:nvGrpSpPr>
            <p:grpSpPr>
              <a:xfrm>
                <a:off x="928440" y="1928880"/>
                <a:ext cx="2360880" cy="551160"/>
                <a:chOff x="928440" y="1928880"/>
                <a:chExt cx="2360880" cy="551160"/>
              </a:xfrm>
            </p:grpSpPr>
            <p:grpSp>
              <p:nvGrpSpPr>
                <p:cNvPr id="1042" name="그룹 34"/>
                <p:cNvGrpSpPr/>
                <p:nvPr/>
              </p:nvGrpSpPr>
              <p:grpSpPr>
                <a:xfrm>
                  <a:off x="928440" y="2038320"/>
                  <a:ext cx="349200" cy="361800"/>
                  <a:chOff x="928440" y="2038320"/>
                  <a:chExt cx="349200" cy="361800"/>
                </a:xfrm>
              </p:grpSpPr>
              <p:pic>
                <p:nvPicPr>
                  <p:cNvPr id="1043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7680"/>
                    <a:ext cx="349200" cy="3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4" name="TextBox 36"/>
                  <p:cNvSpPr/>
                  <p:nvPr/>
                </p:nvSpPr>
                <p:spPr>
                  <a:xfrm>
                    <a:off x="957960" y="20383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5" name="직사각형 19"/>
                <p:cNvSpPr/>
                <p:nvPr/>
              </p:nvSpPr>
              <p:spPr>
                <a:xfrm>
                  <a:off x="1671480" y="1928880"/>
                  <a:ext cx="16178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발견학습의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조력방안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6" name="직선 연결선 17"/>
              <p:cNvSpPr/>
              <p:nvPr/>
            </p:nvSpPr>
            <p:spPr>
              <a:xfrm>
                <a:off x="5000400" y="2214720"/>
                <a:ext cx="35020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그룹 55"/>
          <p:cNvGrpSpPr/>
          <p:nvPr/>
        </p:nvGrpSpPr>
        <p:grpSpPr>
          <a:xfrm>
            <a:off x="1071720" y="2643120"/>
            <a:ext cx="7429320" cy="593640"/>
            <a:chOff x="1071720" y="2643120"/>
            <a:chExt cx="7429320" cy="593640"/>
          </a:xfrm>
        </p:grpSpPr>
        <p:grpSp>
          <p:nvGrpSpPr>
            <p:cNvPr id="1048" name="Group 17"/>
            <p:cNvGrpSpPr/>
            <p:nvPr/>
          </p:nvGrpSpPr>
          <p:grpSpPr>
            <a:xfrm>
              <a:off x="1353600" y="2643120"/>
              <a:ext cx="6574680" cy="593640"/>
              <a:chOff x="1353600" y="2643120"/>
              <a:chExt cx="6574680" cy="593640"/>
            </a:xfrm>
          </p:grpSpPr>
          <p:sp>
            <p:nvSpPr>
              <p:cNvPr id="1049" name="Rectangle 18"/>
              <p:cNvSpPr/>
              <p:nvPr/>
            </p:nvSpPr>
            <p:spPr>
              <a:xfrm flipH="1">
                <a:off x="1374120" y="2643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Rectangle 19"/>
              <p:cNvSpPr/>
              <p:nvPr/>
            </p:nvSpPr>
            <p:spPr>
              <a:xfrm flipH="1">
                <a:off x="1353240" y="2703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1" name="Group 20"/>
            <p:cNvGrpSpPr/>
            <p:nvPr/>
          </p:nvGrpSpPr>
          <p:grpSpPr>
            <a:xfrm>
              <a:off x="1071720" y="2660400"/>
              <a:ext cx="529920" cy="526680"/>
              <a:chOff x="1071720" y="2660400"/>
              <a:chExt cx="529920" cy="526680"/>
            </a:xfrm>
          </p:grpSpPr>
          <p:sp>
            <p:nvSpPr>
              <p:cNvPr id="1052" name="Oval 21"/>
              <p:cNvSpPr/>
              <p:nvPr/>
            </p:nvSpPr>
            <p:spPr>
              <a:xfrm>
                <a:off x="107172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1636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54" name="Group 35"/>
            <p:cNvGrpSpPr/>
            <p:nvPr/>
          </p:nvGrpSpPr>
          <p:grpSpPr>
            <a:xfrm>
              <a:off x="1111680" y="2781000"/>
              <a:ext cx="362880" cy="280800"/>
              <a:chOff x="1111680" y="2781000"/>
              <a:chExt cx="362880" cy="280800"/>
            </a:xfrm>
          </p:grpSpPr>
          <p:grpSp>
            <p:nvGrpSpPr>
              <p:cNvPr id="1055" name="Group 36"/>
              <p:cNvGrpSpPr/>
              <p:nvPr/>
            </p:nvGrpSpPr>
            <p:grpSpPr>
              <a:xfrm>
                <a:off x="1111680" y="2781000"/>
                <a:ext cx="362880" cy="280800"/>
                <a:chOff x="1111680" y="2781000"/>
                <a:chExt cx="362880" cy="280800"/>
              </a:xfrm>
            </p:grpSpPr>
            <p:sp>
              <p:nvSpPr>
                <p:cNvPr id="1056" name="AutoShape 37"/>
                <p:cNvSpPr/>
                <p:nvPr/>
              </p:nvSpPr>
              <p:spPr>
                <a:xfrm>
                  <a:off x="118692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AutoShape 38"/>
                <p:cNvSpPr/>
                <p:nvPr/>
              </p:nvSpPr>
              <p:spPr>
                <a:xfrm rot="20706600">
                  <a:off x="113148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8" name="Line 39"/>
              <p:cNvSpPr/>
              <p:nvPr/>
            </p:nvSpPr>
            <p:spPr>
              <a:xfrm flipV="1">
                <a:off x="116244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Rectangle 42"/>
            <p:cNvSpPr/>
            <p:nvPr/>
          </p:nvSpPr>
          <p:spPr>
            <a:xfrm>
              <a:off x="1643040" y="27698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가장 기본적인 원리를 쉽게 발견할 수 있도록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0" name="그룹 55"/>
          <p:cNvGrpSpPr/>
          <p:nvPr/>
        </p:nvGrpSpPr>
        <p:grpSpPr>
          <a:xfrm>
            <a:off x="1071720" y="3368520"/>
            <a:ext cx="7429320" cy="769320"/>
            <a:chOff x="1071720" y="3368520"/>
            <a:chExt cx="7429320" cy="769320"/>
          </a:xfrm>
        </p:grpSpPr>
        <p:grpSp>
          <p:nvGrpSpPr>
            <p:cNvPr id="1061" name="Group 17"/>
            <p:cNvGrpSpPr/>
            <p:nvPr/>
          </p:nvGrpSpPr>
          <p:grpSpPr>
            <a:xfrm>
              <a:off x="1353600" y="3368520"/>
              <a:ext cx="6574680" cy="593640"/>
              <a:chOff x="1353600" y="3368520"/>
              <a:chExt cx="6574680" cy="593640"/>
            </a:xfrm>
          </p:grpSpPr>
          <p:sp>
            <p:nvSpPr>
              <p:cNvPr id="1062" name="Rectangle 18"/>
              <p:cNvSpPr/>
              <p:nvPr/>
            </p:nvSpPr>
            <p:spPr>
              <a:xfrm flipH="1">
                <a:off x="1374120" y="33685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Rectangle 19"/>
              <p:cNvSpPr/>
              <p:nvPr/>
            </p:nvSpPr>
            <p:spPr>
              <a:xfrm flipH="1">
                <a:off x="1353240" y="34286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Group 20"/>
            <p:cNvGrpSpPr/>
            <p:nvPr/>
          </p:nvGrpSpPr>
          <p:grpSpPr>
            <a:xfrm>
              <a:off x="1071720" y="3385800"/>
              <a:ext cx="529920" cy="526680"/>
              <a:chOff x="1071720" y="3385800"/>
              <a:chExt cx="529920" cy="526680"/>
            </a:xfrm>
          </p:grpSpPr>
          <p:sp>
            <p:nvSpPr>
              <p:cNvPr id="1065" name="Oval 21"/>
              <p:cNvSpPr/>
              <p:nvPr/>
            </p:nvSpPr>
            <p:spPr>
              <a:xfrm>
                <a:off x="1071720" y="33883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6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16360" y="33858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67" name="Group 35"/>
            <p:cNvGrpSpPr/>
            <p:nvPr/>
          </p:nvGrpSpPr>
          <p:grpSpPr>
            <a:xfrm>
              <a:off x="1111680" y="3506400"/>
              <a:ext cx="362880" cy="280800"/>
              <a:chOff x="1111680" y="3506400"/>
              <a:chExt cx="362880" cy="280800"/>
            </a:xfrm>
          </p:grpSpPr>
          <p:grpSp>
            <p:nvGrpSpPr>
              <p:cNvPr id="1068" name="Group 36"/>
              <p:cNvGrpSpPr/>
              <p:nvPr/>
            </p:nvGrpSpPr>
            <p:grpSpPr>
              <a:xfrm>
                <a:off x="1111680" y="3506400"/>
                <a:ext cx="362880" cy="280800"/>
                <a:chOff x="1111680" y="3506400"/>
                <a:chExt cx="362880" cy="280800"/>
              </a:xfrm>
            </p:grpSpPr>
            <p:sp>
              <p:nvSpPr>
                <p:cNvPr id="1069" name="AutoShape 37"/>
                <p:cNvSpPr/>
                <p:nvPr/>
              </p:nvSpPr>
              <p:spPr>
                <a:xfrm>
                  <a:off x="1186920" y="35935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AutoShape 38"/>
                <p:cNvSpPr/>
                <p:nvPr/>
              </p:nvSpPr>
              <p:spPr>
                <a:xfrm rot="20706600">
                  <a:off x="1131480" y="35398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1" name="Line 39"/>
              <p:cNvSpPr/>
              <p:nvPr/>
            </p:nvSpPr>
            <p:spPr>
              <a:xfrm flipV="1">
                <a:off x="1162440" y="35823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2" name="Rectangle 42"/>
            <p:cNvSpPr/>
            <p:nvPr/>
          </p:nvSpPr>
          <p:spPr>
            <a:xfrm>
              <a:off x="1643040" y="3495240"/>
              <a:ext cx="685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제대로 가르치기만 하면 어떤 교과라도 나이에 관계없이 가르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식의 표현 양식을 고려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그룹 55"/>
          <p:cNvGrpSpPr/>
          <p:nvPr/>
        </p:nvGrpSpPr>
        <p:grpSpPr>
          <a:xfrm>
            <a:off x="1071720" y="4264200"/>
            <a:ext cx="7429320" cy="593640"/>
            <a:chOff x="1071720" y="4264200"/>
            <a:chExt cx="7429320" cy="593640"/>
          </a:xfrm>
        </p:grpSpPr>
        <p:grpSp>
          <p:nvGrpSpPr>
            <p:cNvPr id="1074" name="Group 17"/>
            <p:cNvGrpSpPr/>
            <p:nvPr/>
          </p:nvGrpSpPr>
          <p:grpSpPr>
            <a:xfrm>
              <a:off x="1353600" y="4264200"/>
              <a:ext cx="6574680" cy="593640"/>
              <a:chOff x="1353600" y="4264200"/>
              <a:chExt cx="6574680" cy="593640"/>
            </a:xfrm>
          </p:grpSpPr>
          <p:sp>
            <p:nvSpPr>
              <p:cNvPr id="1075" name="Rectangle 18"/>
              <p:cNvSpPr/>
              <p:nvPr/>
            </p:nvSpPr>
            <p:spPr>
              <a:xfrm flipH="1">
                <a:off x="1374120" y="42642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9"/>
              <p:cNvSpPr/>
              <p:nvPr/>
            </p:nvSpPr>
            <p:spPr>
              <a:xfrm flipH="1">
                <a:off x="1353240" y="43243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7" name="Group 20"/>
            <p:cNvGrpSpPr/>
            <p:nvPr/>
          </p:nvGrpSpPr>
          <p:grpSpPr>
            <a:xfrm>
              <a:off x="1071720" y="4281480"/>
              <a:ext cx="529920" cy="526680"/>
              <a:chOff x="1071720" y="4281480"/>
              <a:chExt cx="529920" cy="526680"/>
            </a:xfrm>
          </p:grpSpPr>
          <p:sp>
            <p:nvSpPr>
              <p:cNvPr id="1078" name="Oval 21"/>
              <p:cNvSpPr/>
              <p:nvPr/>
            </p:nvSpPr>
            <p:spPr>
              <a:xfrm>
                <a:off x="1071720" y="42840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79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116360" y="42814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0" name="Group 35"/>
            <p:cNvGrpSpPr/>
            <p:nvPr/>
          </p:nvGrpSpPr>
          <p:grpSpPr>
            <a:xfrm>
              <a:off x="1111680" y="4402080"/>
              <a:ext cx="362880" cy="280800"/>
              <a:chOff x="1111680" y="4402080"/>
              <a:chExt cx="362880" cy="280800"/>
            </a:xfrm>
          </p:grpSpPr>
          <p:grpSp>
            <p:nvGrpSpPr>
              <p:cNvPr id="1081" name="Group 36"/>
              <p:cNvGrpSpPr/>
              <p:nvPr/>
            </p:nvGrpSpPr>
            <p:grpSpPr>
              <a:xfrm>
                <a:off x="1111680" y="4402080"/>
                <a:ext cx="362880" cy="280800"/>
                <a:chOff x="1111680" y="4402080"/>
                <a:chExt cx="362880" cy="280800"/>
              </a:xfrm>
            </p:grpSpPr>
            <p:sp>
              <p:nvSpPr>
                <p:cNvPr id="1082" name="AutoShape 37"/>
                <p:cNvSpPr/>
                <p:nvPr/>
              </p:nvSpPr>
              <p:spPr>
                <a:xfrm>
                  <a:off x="1186920" y="44892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3" name="AutoShape 38"/>
                <p:cNvSpPr/>
                <p:nvPr/>
              </p:nvSpPr>
              <p:spPr>
                <a:xfrm rot="20706600">
                  <a:off x="1131480" y="44355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4" name="Line 39"/>
              <p:cNvSpPr/>
              <p:nvPr/>
            </p:nvSpPr>
            <p:spPr>
              <a:xfrm flipV="1">
                <a:off x="1162440" y="44780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42"/>
            <p:cNvSpPr/>
            <p:nvPr/>
          </p:nvSpPr>
          <p:spPr>
            <a:xfrm>
              <a:off x="1643040" y="439092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과정은 나선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순에서 복잡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으로 조직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그룹 55"/>
          <p:cNvGrpSpPr/>
          <p:nvPr/>
        </p:nvGrpSpPr>
        <p:grpSpPr>
          <a:xfrm>
            <a:off x="1071720" y="5049720"/>
            <a:ext cx="7429320" cy="593640"/>
            <a:chOff x="1071720" y="5049720"/>
            <a:chExt cx="7429320" cy="593640"/>
          </a:xfrm>
        </p:grpSpPr>
        <p:grpSp>
          <p:nvGrpSpPr>
            <p:cNvPr id="1087" name="Group 17"/>
            <p:cNvGrpSpPr/>
            <p:nvPr/>
          </p:nvGrpSpPr>
          <p:grpSpPr>
            <a:xfrm>
              <a:off x="1353600" y="5049720"/>
              <a:ext cx="6574680" cy="593640"/>
              <a:chOff x="1353600" y="5049720"/>
              <a:chExt cx="6574680" cy="593640"/>
            </a:xfrm>
          </p:grpSpPr>
          <p:sp>
            <p:nvSpPr>
              <p:cNvPr id="1088" name="Rectangle 18"/>
              <p:cNvSpPr/>
              <p:nvPr/>
            </p:nvSpPr>
            <p:spPr>
              <a:xfrm flipH="1">
                <a:off x="1374120" y="50497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Rectangle 19"/>
              <p:cNvSpPr/>
              <p:nvPr/>
            </p:nvSpPr>
            <p:spPr>
              <a:xfrm flipH="1">
                <a:off x="1353240" y="51098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Group 20"/>
            <p:cNvGrpSpPr/>
            <p:nvPr/>
          </p:nvGrpSpPr>
          <p:grpSpPr>
            <a:xfrm>
              <a:off x="1071720" y="5067000"/>
              <a:ext cx="529920" cy="527040"/>
              <a:chOff x="1071720" y="5067000"/>
              <a:chExt cx="529920" cy="527040"/>
            </a:xfrm>
          </p:grpSpPr>
          <p:sp>
            <p:nvSpPr>
              <p:cNvPr id="1091" name="Oval 21"/>
              <p:cNvSpPr/>
              <p:nvPr/>
            </p:nvSpPr>
            <p:spPr>
              <a:xfrm>
                <a:off x="1071720" y="506952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92" name="Picture 22" descr="cir_lighteffect0"/>
              <p:cNvPicPr/>
              <p:nvPr/>
            </p:nvPicPr>
            <p:blipFill>
              <a:blip r:embed="rId8"/>
              <a:stretch/>
            </p:blipFill>
            <p:spPr>
              <a:xfrm>
                <a:off x="1116360" y="506700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93" name="Group 35"/>
            <p:cNvGrpSpPr/>
            <p:nvPr/>
          </p:nvGrpSpPr>
          <p:grpSpPr>
            <a:xfrm>
              <a:off x="1111680" y="5187600"/>
              <a:ext cx="362880" cy="280800"/>
              <a:chOff x="1111680" y="5187600"/>
              <a:chExt cx="362880" cy="280800"/>
            </a:xfrm>
          </p:grpSpPr>
          <p:grpSp>
            <p:nvGrpSpPr>
              <p:cNvPr id="1094" name="Group 36"/>
              <p:cNvGrpSpPr/>
              <p:nvPr/>
            </p:nvGrpSpPr>
            <p:grpSpPr>
              <a:xfrm>
                <a:off x="1111680" y="5187600"/>
                <a:ext cx="362880" cy="280800"/>
                <a:chOff x="1111680" y="5187600"/>
                <a:chExt cx="362880" cy="280800"/>
              </a:xfrm>
            </p:grpSpPr>
            <p:sp>
              <p:nvSpPr>
                <p:cNvPr id="1095" name="AutoShape 37"/>
                <p:cNvSpPr/>
                <p:nvPr/>
              </p:nvSpPr>
              <p:spPr>
                <a:xfrm>
                  <a:off x="1186920" y="5274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AutoShape 38"/>
                <p:cNvSpPr/>
                <p:nvPr/>
              </p:nvSpPr>
              <p:spPr>
                <a:xfrm rot="20706600">
                  <a:off x="1131480" y="5221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7" name="Line 39"/>
              <p:cNvSpPr/>
              <p:nvPr/>
            </p:nvSpPr>
            <p:spPr>
              <a:xfrm flipV="1">
                <a:off x="1162440" y="52635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8" name="Rectangle 42"/>
            <p:cNvSpPr/>
            <p:nvPr/>
          </p:nvSpPr>
          <p:spPr>
            <a:xfrm>
              <a:off x="1643040" y="517680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관적 사고를 강조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발견 과정을 활성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그룹 55"/>
          <p:cNvGrpSpPr/>
          <p:nvPr/>
        </p:nvGrpSpPr>
        <p:grpSpPr>
          <a:xfrm>
            <a:off x="1071720" y="5764320"/>
            <a:ext cx="7429320" cy="593640"/>
            <a:chOff x="1071720" y="5764320"/>
            <a:chExt cx="7429320" cy="593640"/>
          </a:xfrm>
        </p:grpSpPr>
        <p:grpSp>
          <p:nvGrpSpPr>
            <p:cNvPr id="1100" name="Group 17"/>
            <p:cNvGrpSpPr/>
            <p:nvPr/>
          </p:nvGrpSpPr>
          <p:grpSpPr>
            <a:xfrm>
              <a:off x="1353600" y="5764320"/>
              <a:ext cx="6574680" cy="593640"/>
              <a:chOff x="1353600" y="5764320"/>
              <a:chExt cx="6574680" cy="593640"/>
            </a:xfrm>
          </p:grpSpPr>
          <p:sp>
            <p:nvSpPr>
              <p:cNvPr id="1101" name="Rectangle 18"/>
              <p:cNvSpPr/>
              <p:nvPr/>
            </p:nvSpPr>
            <p:spPr>
              <a:xfrm flipH="1">
                <a:off x="1374120" y="57643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Rectangle 19"/>
              <p:cNvSpPr/>
              <p:nvPr/>
            </p:nvSpPr>
            <p:spPr>
              <a:xfrm flipH="1">
                <a:off x="1353240" y="58244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Group 20"/>
            <p:cNvGrpSpPr/>
            <p:nvPr/>
          </p:nvGrpSpPr>
          <p:grpSpPr>
            <a:xfrm>
              <a:off x="1071720" y="5781600"/>
              <a:ext cx="529920" cy="526680"/>
              <a:chOff x="1071720" y="5781600"/>
              <a:chExt cx="529920" cy="526680"/>
            </a:xfrm>
          </p:grpSpPr>
          <p:sp>
            <p:nvSpPr>
              <p:cNvPr id="1104" name="Oval 21"/>
              <p:cNvSpPr/>
              <p:nvPr/>
            </p:nvSpPr>
            <p:spPr>
              <a:xfrm>
                <a:off x="1071720" y="57841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5" name="Picture 22" descr="cir_lighteffect0"/>
              <p:cNvPicPr/>
              <p:nvPr/>
            </p:nvPicPr>
            <p:blipFill>
              <a:blip r:embed="rId9"/>
              <a:stretch/>
            </p:blipFill>
            <p:spPr>
              <a:xfrm>
                <a:off x="1116360" y="57816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6" name="Group 35"/>
            <p:cNvGrpSpPr/>
            <p:nvPr/>
          </p:nvGrpSpPr>
          <p:grpSpPr>
            <a:xfrm>
              <a:off x="1111680" y="5902200"/>
              <a:ext cx="362880" cy="280800"/>
              <a:chOff x="1111680" y="5902200"/>
              <a:chExt cx="362880" cy="280800"/>
            </a:xfrm>
          </p:grpSpPr>
          <p:grpSp>
            <p:nvGrpSpPr>
              <p:cNvPr id="1107" name="Group 36"/>
              <p:cNvGrpSpPr/>
              <p:nvPr/>
            </p:nvGrpSpPr>
            <p:grpSpPr>
              <a:xfrm>
                <a:off x="1111680" y="5902200"/>
                <a:ext cx="362880" cy="280800"/>
                <a:chOff x="1111680" y="5902200"/>
                <a:chExt cx="362880" cy="280800"/>
              </a:xfrm>
            </p:grpSpPr>
            <p:sp>
              <p:nvSpPr>
                <p:cNvPr id="1108" name="AutoShape 37"/>
                <p:cNvSpPr/>
                <p:nvPr/>
              </p:nvSpPr>
              <p:spPr>
                <a:xfrm>
                  <a:off x="1186920" y="59893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AutoShape 38"/>
                <p:cNvSpPr/>
                <p:nvPr/>
              </p:nvSpPr>
              <p:spPr>
                <a:xfrm rot="20706600">
                  <a:off x="1131480" y="5935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0" name="Line 39"/>
              <p:cNvSpPr/>
              <p:nvPr/>
            </p:nvSpPr>
            <p:spPr>
              <a:xfrm flipV="1">
                <a:off x="1162440" y="59781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1" name="Rectangle 42"/>
            <p:cNvSpPr/>
            <p:nvPr/>
          </p:nvSpPr>
          <p:spPr>
            <a:xfrm>
              <a:off x="1643040" y="5864040"/>
              <a:ext cx="68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다양한 기자재를 활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직접 경험과 대리 경험을 제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TextBox 12" descr=""/>
          <p:cNvPicPr/>
          <p:nvPr/>
        </p:nvPicPr>
        <p:blipFill>
          <a:blip r:embed="rId1"/>
          <a:stretch/>
        </p:blipFill>
        <p:spPr>
          <a:xfrm>
            <a:off x="6724800" y="506520"/>
            <a:ext cx="2322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3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114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115" name="직사각형 13"/>
              <p:cNvSpPr/>
              <p:nvPr/>
            </p:nvSpPr>
            <p:spPr>
              <a:xfrm>
                <a:off x="1252440" y="13860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성주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1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2" name="TextBox 88"/>
            <p:cNvSpPr/>
            <p:nvPr/>
          </p:nvSpPr>
          <p:spPr>
            <a:xfrm>
              <a:off x="664920" y="14284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3" name="그룹 39"/>
          <p:cNvGrpSpPr/>
          <p:nvPr/>
        </p:nvGrpSpPr>
        <p:grpSpPr>
          <a:xfrm>
            <a:off x="642960" y="1857240"/>
            <a:ext cx="8715240" cy="4500720"/>
            <a:chOff x="642960" y="1857240"/>
            <a:chExt cx="8715240" cy="4500720"/>
          </a:xfrm>
        </p:grpSpPr>
        <p:grpSp>
          <p:nvGrpSpPr>
            <p:cNvPr id="1124" name="그룹 123"/>
            <p:cNvGrpSpPr/>
            <p:nvPr/>
          </p:nvGrpSpPr>
          <p:grpSpPr>
            <a:xfrm>
              <a:off x="642960" y="1857240"/>
              <a:ext cx="8715240" cy="4500720"/>
              <a:chOff x="642960" y="1857240"/>
              <a:chExt cx="8715240" cy="4500720"/>
            </a:xfrm>
          </p:grpSpPr>
          <p:pic>
            <p:nvPicPr>
              <p:cNvPr id="1125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1857240"/>
                <a:ext cx="8072640" cy="4500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126" name="직사각형 18"/>
              <p:cNvSpPr/>
              <p:nvPr/>
            </p:nvSpPr>
            <p:spPr>
              <a:xfrm>
                <a:off x="857160" y="2139840"/>
                <a:ext cx="8501040" cy="4008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스스로 지식을 구성한다고 주장하는 심리학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및 철학적 관점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성주의 출현에 영향을 미친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대상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화시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창의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연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합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비예측성으로 학습자 중심교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2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이론에 대한 불만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고가 정신 내부에 존재한다고 가정하고 일상적인 능력이나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를 무시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--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과 상황의 상호작용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3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교교육에 대한 반성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제 상황에 적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의 능동성 강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. Vygotsk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 사회문화적 이론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회 및 문화의 역할을 강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5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스트모더니즘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와 효율성을 표방하는 모더니즘에 반발하여 개성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별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탈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23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          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표준화를 지향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대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lativism)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식론에 기반을 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7" name="타원 19"/>
              <p:cNvGrpSpPr/>
              <p:nvPr/>
            </p:nvGrpSpPr>
            <p:grpSpPr>
              <a:xfrm>
                <a:off x="908280" y="2285640"/>
                <a:ext cx="225360" cy="231480"/>
                <a:chOff x="908280" y="2285640"/>
                <a:chExt cx="225360" cy="231480"/>
              </a:xfrm>
            </p:grpSpPr>
            <p:pic>
              <p:nvPicPr>
                <p:cNvPr id="1128" name="타원 1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2856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9" name=""/>
                <p:cNvSpPr/>
                <p:nvPr/>
              </p:nvSpPr>
              <p:spPr>
                <a:xfrm rot="10800000">
                  <a:off x="987480" y="2344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0" name="타원 15"/>
            <p:cNvGrpSpPr/>
            <p:nvPr/>
          </p:nvGrpSpPr>
          <p:grpSpPr>
            <a:xfrm>
              <a:off x="908280" y="2931840"/>
              <a:ext cx="225360" cy="231480"/>
              <a:chOff x="908280" y="2931840"/>
              <a:chExt cx="225360" cy="231480"/>
            </a:xfrm>
          </p:grpSpPr>
          <p:pic>
            <p:nvPicPr>
              <p:cNvPr id="1131" name="타원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2931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2" name=""/>
              <p:cNvSpPr/>
              <p:nvPr/>
            </p:nvSpPr>
            <p:spPr>
              <a:xfrm rot="10800000">
                <a:off x="987480" y="2987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3" name="타원 20"/>
            <p:cNvGrpSpPr/>
            <p:nvPr/>
          </p:nvGrpSpPr>
          <p:grpSpPr>
            <a:xfrm>
              <a:off x="859320" y="5718240"/>
              <a:ext cx="225360" cy="231480"/>
              <a:chOff x="859320" y="5718240"/>
              <a:chExt cx="225360" cy="231480"/>
            </a:xfrm>
          </p:grpSpPr>
          <p:pic>
            <p:nvPicPr>
              <p:cNvPr id="1134" name="타원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859320" y="5718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5" name=""/>
              <p:cNvSpPr/>
              <p:nvPr/>
            </p:nvSpPr>
            <p:spPr>
              <a:xfrm rot="10800000">
                <a:off x="942840" y="5774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6" name="직선 연결선 21"/>
          <p:cNvSpPr/>
          <p:nvPr/>
        </p:nvSpPr>
        <p:spPr>
          <a:xfrm>
            <a:off x="4500720" y="3000240"/>
            <a:ext cx="400176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25T00:45:26Z</dcterms:modified>
  <cp:revision>408</cp:revision>
  <dc:subject/>
  <dc:title>PowerPoint Template</dc:title>
</cp:coreProperties>
</file>