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4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02A3-2519-4074-A6F8-00C8F1493079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A58D-65E8-4A9F-98B6-2BA0020DF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C56F-4BC9-4BA3-A016-B25EA028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9080E4-9AFE-4E97-9EF9-E9DB805F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D98884-8941-4205-B320-F05A3DDFB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16DA7-9170-40A9-A93D-CE0FFFA8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5B7503-0E1D-42CE-8FAA-5B0ADF38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54509-75E4-4EA9-92DC-071FF678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4FFFA6-C8A1-41F2-9AF4-A62B9FD3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428F1-D2F4-4B49-8138-B718E2BE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E3A24F-4BBB-4CDE-B077-7047ED1C2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93DCB-DA7B-4EDA-82FF-67D666E7C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5772B-DD23-4884-9FE8-5CEF6EA82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7D43-8ED6-457A-B65D-74FFF8FFB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E782D-7D31-4F71-A9E9-9ACA1E66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F9E1DB-220E-49B4-AE77-F277F1C2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2BBD7D-87CF-4722-A60A-1F4A17C69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5DBE1A-E29D-4A85-A699-C233E5E0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5BB507-03A8-41D0-B114-2DDD0F60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624A2F-6133-4907-89BF-23928B620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BEF489-135C-45EA-878E-686C77D1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1B1C77-1CA4-4AF7-B222-82FF7B8A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CC2E21-F180-4C16-9DC8-5160D275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F7B777-F0AF-4EF4-B48C-36EEE1DEF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AE33-D097-4227-99B1-28FE81D94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989B1-0396-4BD1-B422-03EDD1328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1A0B22-D4FF-4AC4-A8AC-6155090D0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722518-D2E4-473D-8802-70A67F222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AD40C-31FE-41C2-8701-49669C2C9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E358B-723B-4D79-ABCB-DAC31767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57CF20-7CA7-4408-98A0-22BDD5C7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19CBE-9918-4026-8D1D-77E86021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8F36F-E5B4-432D-A126-B7D490D5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2E0CEB-B354-4589-8B1F-E21846EE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B3C7C-3187-4F8F-8198-73281949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54DB-3029-4EF4-8D59-D924EA0EF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B97DD-428E-401E-8B91-0C65BF0D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ECC8F-19A6-4684-B8EA-89F3A36D2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F3765-A8CB-43B6-868E-E700C3AF5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7483B0-E51B-4A6E-9315-40BF4F8C4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DBEADC-AB13-40BA-9F77-2053EE87B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582C00-3B0D-4C05-A7AB-3ECA1644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C48515-0C8E-4CA7-B379-DA073F78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064BC5-1FE1-44DA-B603-BD6271DD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7AC108-CD31-4C14-B83B-9CB8D5D3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33A90E-22DC-4840-9163-91ACD305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3624-01F4-4DAD-A3C9-FFD0B79F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BD5D1B-9FDF-4D2D-9434-9162D8DA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8AF39-2CB3-499C-B30F-63B046E4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E0FB5B-F72C-4F8F-A40F-DF7B05BB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8A81AC-8C87-41C7-B02F-4253F7727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E9BF62-8513-49E7-8213-1DB0A08B4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003AAAE-A208-42BA-B874-3A617FD9A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76AAD4-7418-4B30-857E-7BF8A2D8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E97140-9ECC-4A6B-AF24-3C7814F2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8B21F9-D326-441B-86A1-AB46C59A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ECD06E-2BC1-4A3A-A67D-21A83758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4E7EE-B3E0-4477-BBD4-60358945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D9E3C91-BC1C-469E-BDB2-217EBA9B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4B1EF1A-7CE2-413C-9E4C-4CF15A03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255E7BB-76EE-4B27-BEB7-651CCD6C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B4FEAB-B884-4F9B-BD17-D8766963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AACD0D-DDC9-4258-A071-E744CAE3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B22F0FE-3DB7-482A-BC52-DFE0296E3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0BEF2A-53FB-4CED-AB96-70BEF8DB4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EDA9-4B18-4F62-B4AD-FD35D2D8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B25B-5B4F-4655-B03F-AFA69A47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63EF-CD82-4880-9408-6D03F1E9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2A187-1F6C-4AE7-8AE6-B2B64AB9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5135-359B-4418-A77A-18A37C65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5C63-4525-4953-9D35-EF5F5A75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B6392-B53A-4221-8063-86F08E89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4B65-A8CC-4A6B-A782-6BC36BF9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BF3E-512C-49A2-BF29-D358C91B3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CFA3-4028-42EA-AD6F-AF9C522B7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8C785-58F5-43CA-9346-CBFC49769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05068-575B-44F2-82D2-7BA5A4A15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C4994-E2F7-4099-9C06-7C1DB22A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A3878-170A-4BE8-BBAB-7DEFD3E8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8AA1C-2E11-406E-9B07-E4712D1B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7BAC-E199-4FAB-9D20-19B89BD1C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BDA38-7B65-4A5B-9C72-267022099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BEB45-BFFD-40A8-8693-E90FB26C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E5BA4-BBD7-44D3-A620-2A855F5B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E49C9-A275-4C70-AB03-57E7DAAD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53D80-5D1B-484C-9C12-D6CBC0AC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9FCE5-F16A-4334-8B83-C2D294B05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D928E-0CCD-4D36-8B8A-B5DED8F01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6CB1D-FE5F-4021-8C61-A3282272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6EAB2-D8DD-4F26-AF8C-0A438A1F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17271-0366-458C-856D-D3AE76B2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9F62-6C71-403A-AF89-88130197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9F24E-8A28-45EE-901B-4CBCE50E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99BA7-A8B9-4EEA-AF16-1E51749A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CCC12-4E1E-4734-A7C8-98270F27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10045-B83A-42AB-A9EB-8FCD0125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F812A-115F-4F4B-B7D3-FE299106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C5C01-9689-471B-B311-AC9B412A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10ED5-F095-447C-8982-E39DF6DD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EC80C-5A9E-4D67-9BC9-1DA85C764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04983-B5D5-415A-B90E-BB43C7115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9EDFA-3AD0-4E13-8C0F-6BEB5F407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D64A-5DB2-43A0-8E14-FDA43F7D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61D96-282F-4503-86B8-CFF113C4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7204E-CA3C-4BC1-8AFA-67C86795F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1EEBE-D0C2-43BC-B49D-D7E81B32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3802D-687F-4589-9382-38C9C042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2B3F95-773A-4238-9699-746564A6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DC03D-5EDE-418B-8924-8F9F1527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DB74A-F816-4CED-A451-DAA28520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70F4A-58EA-4858-8333-BD4DC075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DCE8D-B0FD-4759-B233-0B08C5FE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69581-779C-41F1-9622-DD8E0E09E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5107-EBE4-4AFA-A963-2DB43C5C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FAE92-1B94-471D-A505-83654C17C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8FEAA4-DA69-4B49-B19B-DF073B127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C60AAB-E476-47F3-A5AA-689B2817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B5DBE6-C7B0-4BCA-BFA4-795EE35C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DCF809-E0E3-46E7-9361-D3DAB1DC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C4AA71-853F-403C-9625-31BD94B2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A4566B-44A5-4B41-8324-B5271908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C9FA64-9515-46DE-A01E-334487D3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2C2D7E-EAC5-44AB-91FE-41451D2F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1D0061-CAC2-493E-9D85-003FB227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335C-1E52-4607-999D-12ABB56D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2DA55D-F20F-49E1-AC07-20DB561A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338982-2EF5-4957-A126-78360B7D4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692583-851A-4ABE-B374-0799D4BA0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AECE7-2093-4CC7-9FE4-98BB93358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66E7C-A822-4532-BCA5-777E6677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5C7DA6-7E1B-4384-81D1-5ABEFB4D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2338A-E886-4C37-A43F-96B71159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7E7CD-8422-40BE-A45F-37A73D45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77731-0500-4C24-B351-2B2ECB73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65E1E-FA3E-4CCA-83DA-FE4A29E8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F0B7-8B79-4EB9-9F77-37A6C64EA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6D4C3-AC1E-4CE4-B660-8291ED75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3A6AD-9D1B-4BD9-A635-7A3DE52A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242F8-574A-4954-ACA4-1DB427DC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3DD30-5DF4-4043-AC3C-144BB4C1D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ABAF9-309E-4322-8F28-93A06DEF8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E16EB-97C4-4A9A-8612-116847C17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731016-DDB7-4A41-B940-721681D6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51F31-74A4-43F1-A05E-3BA54D94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FDBE34-E5BE-462F-8177-22CE19480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8FDA4D-C80E-4AF0-96B8-B56248FE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1066-D3B7-4CD0-A71E-556C5863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2E30F9-9111-48FD-B04E-89A94004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B2077-2108-4A84-9803-95790052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863D3-A5BC-4B3E-B32B-F854B7E8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5EC84-D7B6-40E7-8022-9957598B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B7430-71F1-4E90-A20A-D2880B7DF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F3C6B-106C-443E-AB09-499F07B0B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506A3-C349-4AE1-9347-23E654C9B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BC75F-C3B4-4414-8E99-B9BA66CB0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AC0889-1714-4EEC-86FE-93BB9DD8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BB19F-E081-4F6C-AA9A-99EB2CAD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B5B2-F62D-4376-90FC-6ECAC07401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3627-0B67-4511-B406-B70C4EE914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5A03-94B9-4F97-9190-D918EB6E74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CB0D-66EB-4F84-8EE9-E94B071172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D227-BCDA-4BE6-87D8-935BE19087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C672-7043-47AA-AD72-74F81CF2E08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1BEE-7C34-43D1-AB55-7140E84AE7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6811-6720-4524-B13B-A786CCE1CA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0C31-5E46-402B-B108-BFCC8842DA7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25CC-F468-4E93-9009-C83F6B764C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A5CE-9C6D-42C0-8036-A2047B4FAD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A1EE-0B40-41FC-BD8B-256B19198E6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5B2F-1128-4201-BAEA-8AFF3F9A9B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9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9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23.png"/><Relationship Id="rId5" Type="http://schemas.openxmlformats.org/officeDocument/2006/relationships/image" Target="../media/image12.png"/><Relationship Id="rId6" Type="http://schemas.openxmlformats.org/officeDocument/2006/relationships/image" Target="../media/image9.png"/><Relationship Id="rId7" Type="http://schemas.openxmlformats.org/officeDocument/2006/relationships/image" Target="../media/image1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9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289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644720" y="185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62880" y="2500200"/>
            <a:ext cx="147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문제 해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D915-D192-4D0E-9764-1A3C4AB074F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41" name="그룹 129"/>
          <p:cNvGrpSpPr/>
          <p:nvPr/>
        </p:nvGrpSpPr>
        <p:grpSpPr>
          <a:xfrm>
            <a:off x="298440" y="2300400"/>
            <a:ext cx="8535960" cy="3655800"/>
            <a:chOff x="298440" y="2300400"/>
            <a:chExt cx="8535960" cy="3655800"/>
          </a:xfrm>
        </p:grpSpPr>
        <p:grpSp>
          <p:nvGrpSpPr>
            <p:cNvPr id="1142" name="그룹 56"/>
            <p:cNvGrpSpPr/>
            <p:nvPr/>
          </p:nvGrpSpPr>
          <p:grpSpPr>
            <a:xfrm>
              <a:off x="7505640" y="3916800"/>
              <a:ext cx="352440" cy="455400"/>
              <a:chOff x="7505640" y="3916800"/>
              <a:chExt cx="352440" cy="455400"/>
            </a:xfrm>
          </p:grpSpPr>
          <p:sp>
            <p:nvSpPr>
              <p:cNvPr id="1143" name="오른쪽 화살표 84"/>
              <p:cNvSpPr/>
              <p:nvPr/>
            </p:nvSpPr>
            <p:spPr>
              <a:xfrm rot="5400000">
                <a:off x="7454160" y="3968280"/>
                <a:ext cx="455400" cy="352440"/>
              </a:xfrm>
              <a:prstGeom prst="rightArrow">
                <a:avLst>
                  <a:gd name="adj1" fmla="val 60000"/>
                  <a:gd name="adj2" fmla="val 49980"/>
                </a:avLst>
              </a:prstGeom>
              <a:solidFill>
                <a:srgbClr val="475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오른쪽 화살표 20"/>
              <p:cNvSpPr/>
              <p:nvPr/>
            </p:nvSpPr>
            <p:spPr>
              <a:xfrm rot="5400000">
                <a:off x="7507080" y="3984840"/>
                <a:ext cx="349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그룹 59"/>
            <p:cNvGrpSpPr/>
            <p:nvPr/>
          </p:nvGrpSpPr>
          <p:grpSpPr>
            <a:xfrm>
              <a:off x="5877000" y="5234040"/>
              <a:ext cx="455040" cy="352800"/>
              <a:chOff x="5877000" y="5234040"/>
              <a:chExt cx="455040" cy="352800"/>
            </a:xfrm>
          </p:grpSpPr>
          <p:sp>
            <p:nvSpPr>
              <p:cNvPr id="1146" name="오른쪽 화살표 78"/>
              <p:cNvSpPr/>
              <p:nvPr/>
            </p:nvSpPr>
            <p:spPr>
              <a:xfrm flipH="1">
                <a:off x="58770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4d49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오른쪽 화살표 26"/>
              <p:cNvSpPr/>
              <p:nvPr/>
            </p:nvSpPr>
            <p:spPr>
              <a:xfrm flipH="1">
                <a:off x="59828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그룹 62"/>
            <p:cNvGrpSpPr/>
            <p:nvPr/>
          </p:nvGrpSpPr>
          <p:grpSpPr>
            <a:xfrm>
              <a:off x="2786400" y="5234040"/>
              <a:ext cx="455040" cy="352800"/>
              <a:chOff x="2786400" y="5234040"/>
              <a:chExt cx="455040" cy="352800"/>
            </a:xfrm>
          </p:grpSpPr>
          <p:sp>
            <p:nvSpPr>
              <p:cNvPr id="1149" name="오른쪽 화살표 72"/>
              <p:cNvSpPr/>
              <p:nvPr/>
            </p:nvSpPr>
            <p:spPr>
              <a:xfrm flipH="1">
                <a:off x="2786400" y="5234040"/>
                <a:ext cx="455040" cy="352800"/>
              </a:xfrm>
              <a:prstGeom prst="rightArrow">
                <a:avLst>
                  <a:gd name="adj1" fmla="val 60000"/>
                  <a:gd name="adj2" fmla="val 49878"/>
                </a:avLst>
              </a:prstGeom>
              <a:solidFill>
                <a:srgbClr val="624b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오른쪽 화살표 32"/>
              <p:cNvSpPr/>
              <p:nvPr/>
            </p:nvSpPr>
            <p:spPr>
              <a:xfrm flipH="1">
                <a:off x="2892240" y="5303880"/>
                <a:ext cx="348840" cy="213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300"/>
                  </a:spcAft>
                  <a:tabLst>
                    <a:tab algn="l" pos="0"/>
                    <a:tab algn="l" pos="311040"/>
                    <a:tab algn="l" pos="622440"/>
                    <a:tab algn="l" pos="933480"/>
                    <a:tab algn="l" pos="1244520"/>
                    <a:tab algn="l" pos="1555920"/>
                    <a:tab algn="l" pos="1866960"/>
                    <a:tab algn="l" pos="2178000"/>
                    <a:tab algn="l" pos="2489040"/>
                    <a:tab algn="l" pos="2800440"/>
                    <a:tab algn="l" pos="3111480"/>
                    <a:tab algn="l" pos="3422520"/>
                    <a:tab algn="l" pos="3733920"/>
                    <a:tab algn="l" pos="4044960"/>
                    <a:tab algn="l" pos="4356000"/>
                    <a:tab algn="l" pos="4667400"/>
                    <a:tab algn="l" pos="4978440"/>
                    <a:tab algn="l" pos="5289480"/>
                    <a:tab algn="l" pos="5600880"/>
                    <a:tab algn="l" pos="5911920"/>
                    <a:tab algn="l" pos="62229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그룹 128"/>
            <p:cNvGrpSpPr/>
            <p:nvPr/>
          </p:nvGrpSpPr>
          <p:grpSpPr>
            <a:xfrm>
              <a:off x="334080" y="2300400"/>
              <a:ext cx="8476920" cy="1500120"/>
              <a:chOff x="334080" y="2300400"/>
              <a:chExt cx="8476920" cy="1500120"/>
            </a:xfrm>
          </p:grpSpPr>
          <p:grpSp>
            <p:nvGrpSpPr>
              <p:cNvPr id="1152" name="그룹 41"/>
              <p:cNvGrpSpPr/>
              <p:nvPr/>
            </p:nvGrpSpPr>
            <p:grpSpPr>
              <a:xfrm>
                <a:off x="2877840" y="3027960"/>
                <a:ext cx="455040" cy="352800"/>
                <a:chOff x="2877840" y="3027960"/>
                <a:chExt cx="455040" cy="352800"/>
              </a:xfrm>
            </p:grpSpPr>
            <p:sp>
              <p:nvSpPr>
                <p:cNvPr id="1153" name="오른쪽 화살표 96"/>
                <p:cNvSpPr/>
                <p:nvPr/>
              </p:nvSpPr>
              <p:spPr>
                <a:xfrm>
                  <a:off x="2877840" y="3027960"/>
                  <a:ext cx="455040" cy="352800"/>
                </a:xfrm>
                <a:prstGeom prst="rightArrow">
                  <a:avLst>
                    <a:gd name="adj1" fmla="val 60000"/>
                    <a:gd name="adj2" fmla="val 51675"/>
                  </a:avLst>
                </a:prstGeom>
                <a:solidFill>
                  <a:srgbClr val="4380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오른쪽 화살표 8"/>
                <p:cNvSpPr/>
                <p:nvPr/>
              </p:nvSpPr>
              <p:spPr>
                <a:xfrm>
                  <a:off x="2877840" y="3107520"/>
                  <a:ext cx="34884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5" name="그룹 52"/>
              <p:cNvGrpSpPr/>
              <p:nvPr/>
            </p:nvGrpSpPr>
            <p:grpSpPr>
              <a:xfrm>
                <a:off x="5949720" y="3027960"/>
                <a:ext cx="455040" cy="352800"/>
                <a:chOff x="5949720" y="3027960"/>
                <a:chExt cx="455040" cy="352800"/>
              </a:xfrm>
            </p:grpSpPr>
            <p:sp>
              <p:nvSpPr>
                <p:cNvPr id="1156" name="오른쪽 화살표 90"/>
                <p:cNvSpPr/>
                <p:nvPr/>
              </p:nvSpPr>
              <p:spPr>
                <a:xfrm>
                  <a:off x="5949720" y="3027960"/>
                  <a:ext cx="455040" cy="352800"/>
                </a:xfrm>
                <a:prstGeom prst="rightArrow">
                  <a:avLst>
                    <a:gd name="adj1" fmla="val 60000"/>
                    <a:gd name="adj2" fmla="val 53156"/>
                  </a:avLst>
                </a:prstGeom>
                <a:solidFill>
                  <a:srgbClr val="456b8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오른쪽 화살표 14"/>
                <p:cNvSpPr/>
                <p:nvPr/>
              </p:nvSpPr>
              <p:spPr>
                <a:xfrm>
                  <a:off x="5949720" y="3107520"/>
                  <a:ext cx="358920" cy="20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300"/>
                    </a:spcAft>
                    <a:tabLst>
                      <a:tab algn="l" pos="0"/>
                      <a:tab algn="l" pos="311040"/>
                      <a:tab algn="l" pos="622440"/>
                      <a:tab algn="l" pos="933480"/>
                      <a:tab algn="l" pos="1244520"/>
                      <a:tab algn="l" pos="1555920"/>
                      <a:tab algn="l" pos="1866960"/>
                      <a:tab algn="l" pos="2178000"/>
                      <a:tab algn="l" pos="2489040"/>
                      <a:tab algn="l" pos="2800440"/>
                      <a:tab algn="l" pos="3111480"/>
                      <a:tab algn="l" pos="3422520"/>
                      <a:tab algn="l" pos="3733920"/>
                      <a:tab algn="l" pos="4044960"/>
                      <a:tab algn="l" pos="4356000"/>
                      <a:tab algn="l" pos="4667400"/>
                      <a:tab algn="l" pos="4978440"/>
                      <a:tab algn="l" pos="5289480"/>
                      <a:tab algn="l" pos="5600880"/>
                      <a:tab algn="l" pos="5911920"/>
                      <a:tab algn="l" pos="622296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8" name="그룹 123"/>
              <p:cNvGrpSpPr/>
              <p:nvPr/>
            </p:nvGrpSpPr>
            <p:grpSpPr>
              <a:xfrm>
                <a:off x="334080" y="2300400"/>
                <a:ext cx="2428920" cy="1500120"/>
                <a:chOff x="334080" y="2300400"/>
                <a:chExt cx="2428920" cy="1500120"/>
              </a:xfrm>
            </p:grpSpPr>
            <p:grpSp>
              <p:nvGrpSpPr>
                <p:cNvPr id="1159" name="그룹 111"/>
                <p:cNvGrpSpPr/>
                <p:nvPr/>
              </p:nvGrpSpPr>
              <p:grpSpPr>
                <a:xfrm>
                  <a:off x="334080" y="2300400"/>
                  <a:ext cx="2428920" cy="1500120"/>
                  <a:chOff x="334080" y="2300400"/>
                  <a:chExt cx="2428920" cy="1500120"/>
                </a:xfrm>
              </p:grpSpPr>
              <p:grpSp>
                <p:nvGrpSpPr>
                  <p:cNvPr id="1160" name="그룹 39"/>
                  <p:cNvGrpSpPr/>
                  <p:nvPr/>
                </p:nvGrpSpPr>
                <p:grpSpPr>
                  <a:xfrm>
                    <a:off x="334080" y="2300400"/>
                    <a:ext cx="1820520" cy="812880"/>
                    <a:chOff x="334080" y="2300400"/>
                    <a:chExt cx="1820520" cy="812880"/>
                  </a:xfrm>
                </p:grpSpPr>
                <p:sp>
                  <p:nvSpPr>
                    <p:cNvPr id="1161" name="모서리가 둥근 직사각형 100"/>
                    <p:cNvSpPr/>
                    <p:nvPr/>
                  </p:nvSpPr>
                  <p:spPr>
                    <a:xfrm>
                      <a:off x="334080" y="2300400"/>
                      <a:ext cx="182052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380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모서리가 둥근 직사각형 4"/>
                    <p:cNvSpPr/>
                    <p:nvPr/>
                  </p:nvSpPr>
                  <p:spPr>
                    <a:xfrm>
                      <a:off x="334080" y="2300400"/>
                      <a:ext cx="1820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모서리가 둥근 직사각형 98"/>
                  <p:cNvSpPr/>
                  <p:nvPr/>
                </p:nvSpPr>
                <p:spPr>
                  <a:xfrm>
                    <a:off x="405000" y="2602080"/>
                    <a:ext cx="235800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380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가 존재 한다는 사실을 정확하게 인지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4" name="TextBox 115"/>
                <p:cNvSpPr/>
                <p:nvPr/>
              </p:nvSpPr>
              <p:spPr>
                <a:xfrm>
                  <a:off x="57096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인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5" name="그룹 124"/>
              <p:cNvGrpSpPr/>
              <p:nvPr/>
            </p:nvGrpSpPr>
            <p:grpSpPr>
              <a:xfrm>
                <a:off x="3434760" y="2300400"/>
                <a:ext cx="2370960" cy="1500120"/>
                <a:chOff x="3434760" y="2300400"/>
                <a:chExt cx="2370960" cy="1500120"/>
              </a:xfrm>
            </p:grpSpPr>
            <p:grpSp>
              <p:nvGrpSpPr>
                <p:cNvPr id="1166" name="그룹 112"/>
                <p:cNvGrpSpPr/>
                <p:nvPr/>
              </p:nvGrpSpPr>
              <p:grpSpPr>
                <a:xfrm>
                  <a:off x="3434760" y="2300400"/>
                  <a:ext cx="2370960" cy="1500120"/>
                  <a:chOff x="3434760" y="2300400"/>
                  <a:chExt cx="2370960" cy="1500120"/>
                </a:xfrm>
              </p:grpSpPr>
              <p:grpSp>
                <p:nvGrpSpPr>
                  <p:cNvPr id="1167" name="그룹 42"/>
                  <p:cNvGrpSpPr/>
                  <p:nvPr/>
                </p:nvGrpSpPr>
                <p:grpSpPr>
                  <a:xfrm>
                    <a:off x="3434760" y="2300400"/>
                    <a:ext cx="1811520" cy="812520"/>
                    <a:chOff x="3434760" y="2300400"/>
                    <a:chExt cx="1811520" cy="812520"/>
                  </a:xfrm>
                </p:grpSpPr>
                <p:sp>
                  <p:nvSpPr>
                    <p:cNvPr id="1168" name="모서리가 둥근 직사각형 94"/>
                    <p:cNvSpPr/>
                    <p:nvPr/>
                  </p:nvSpPr>
                  <p:spPr>
                    <a:xfrm>
                      <a:off x="3434760" y="2300400"/>
                      <a:ext cx="1811520" cy="81252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56f86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모서리가 둥근 직사각형 10"/>
                    <p:cNvSpPr/>
                    <p:nvPr/>
                  </p:nvSpPr>
                  <p:spPr>
                    <a:xfrm>
                      <a:off x="3434760" y="2300400"/>
                      <a:ext cx="181152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0" name="그룹 43"/>
                  <p:cNvGrpSpPr/>
                  <p:nvPr/>
                </p:nvGrpSpPr>
                <p:grpSpPr>
                  <a:xfrm>
                    <a:off x="3506040" y="2601720"/>
                    <a:ext cx="2299680" cy="1198800"/>
                    <a:chOff x="3506040" y="2601720"/>
                    <a:chExt cx="2299680" cy="1198800"/>
                  </a:xfrm>
                </p:grpSpPr>
                <p:sp>
                  <p:nvSpPr>
                    <p:cNvPr id="1171" name="모서리가 둥근 직사각형 92"/>
                    <p:cNvSpPr/>
                    <p:nvPr/>
                  </p:nvSpPr>
                  <p:spPr>
                    <a:xfrm>
                      <a:off x="3506040" y="2601720"/>
                      <a:ext cx="2261880" cy="119880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ffffff">
                        <a:alpha val="90000"/>
                      </a:srgbClr>
                    </a:solidFill>
                    <a:ln w="19080">
                      <a:solidFill>
                        <a:srgbClr val="456f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문제의 본질을 확인하고 문제해결의 제약요건들을 확인하는 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2" name="모서리가 둥근 직사각형 12"/>
                    <p:cNvSpPr/>
                    <p:nvPr/>
                  </p:nvSpPr>
                  <p:spPr>
                    <a:xfrm>
                      <a:off x="3659040" y="2636640"/>
                      <a:ext cx="2146680" cy="11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71280" anchor="t">
                      <a:noAutofit/>
                    </a:bodyPr>
                    <a:p>
                      <a:pPr lvl="1" marL="57240" indent="-57240">
                        <a:lnSpc>
                          <a:spcPct val="90000"/>
                        </a:lnSpc>
                        <a:spcAft>
                          <a:spcPts val="187"/>
                        </a:spcAft>
                        <a:buClr>
                          <a:srgbClr val="000000"/>
                        </a:buClr>
                        <a:buFont typeface="휴먼모음T"/>
                        <a:buChar char="•"/>
                        <a:tabLst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173" name="TextBox 117"/>
                <p:cNvSpPr/>
                <p:nvPr/>
              </p:nvSpPr>
              <p:spPr>
                <a:xfrm>
                  <a:off x="367164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정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4" name="그룹 125"/>
              <p:cNvGrpSpPr/>
              <p:nvPr/>
            </p:nvGrpSpPr>
            <p:grpSpPr>
              <a:xfrm>
                <a:off x="6477840" y="2300400"/>
                <a:ext cx="2333160" cy="1500120"/>
                <a:chOff x="6477840" y="2300400"/>
                <a:chExt cx="2333160" cy="1500120"/>
              </a:xfrm>
            </p:grpSpPr>
            <p:grpSp>
              <p:nvGrpSpPr>
                <p:cNvPr id="1175" name="그룹 109"/>
                <p:cNvGrpSpPr/>
                <p:nvPr/>
              </p:nvGrpSpPr>
              <p:grpSpPr>
                <a:xfrm>
                  <a:off x="6477840" y="2300400"/>
                  <a:ext cx="2333160" cy="1500120"/>
                  <a:chOff x="6477840" y="2300400"/>
                  <a:chExt cx="2333160" cy="1500120"/>
                </a:xfrm>
              </p:grpSpPr>
              <p:grpSp>
                <p:nvGrpSpPr>
                  <p:cNvPr id="1176" name="그룹 54"/>
                  <p:cNvGrpSpPr/>
                  <p:nvPr/>
                </p:nvGrpSpPr>
                <p:grpSpPr>
                  <a:xfrm>
                    <a:off x="6477840" y="2300400"/>
                    <a:ext cx="1811880" cy="812880"/>
                    <a:chOff x="6477840" y="2300400"/>
                    <a:chExt cx="1811880" cy="812880"/>
                  </a:xfrm>
                </p:grpSpPr>
                <p:sp>
                  <p:nvSpPr>
                    <p:cNvPr id="1177" name="모서리가 둥근 직사각형 88"/>
                    <p:cNvSpPr/>
                    <p:nvPr/>
                  </p:nvSpPr>
                  <p:spPr>
                    <a:xfrm>
                      <a:off x="6477840" y="2300400"/>
                      <a:ext cx="1811880" cy="812880"/>
                    </a:xfrm>
                    <a:prstGeom prst="roundRect">
                      <a:avLst>
                        <a:gd name="adj" fmla="val 10000"/>
                      </a:avLst>
                    </a:prstGeom>
                    <a:solidFill>
                      <a:srgbClr val="465f85"/>
                    </a:solidFill>
                    <a:ln w="190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8" name="모서리가 둥근 직사각형 16"/>
                    <p:cNvSpPr/>
                    <p:nvPr/>
                  </p:nvSpPr>
                  <p:spPr>
                    <a:xfrm>
                      <a:off x="6477840" y="2300400"/>
                      <a:ext cx="1811880" cy="496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71280" rIns="71280" tIns="71280" bIns="3816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437"/>
                        </a:spcAft>
                        <a:tabLst>
                          <a:tab algn="l" pos="0"/>
                          <a:tab algn="l" pos="444600"/>
                          <a:tab algn="l" pos="888840"/>
                          <a:tab algn="l" pos="1333440"/>
                          <a:tab algn="l" pos="1778040"/>
                          <a:tab algn="l" pos="2222640"/>
                          <a:tab algn="l" pos="2666880"/>
                          <a:tab algn="l" pos="3111480"/>
                          <a:tab algn="l" pos="3556080"/>
                          <a:tab algn="l" pos="4000680"/>
                          <a:tab algn="l" pos="4444920"/>
                          <a:tab algn="l" pos="4889520"/>
                          <a:tab algn="l" pos="5334120"/>
                          <a:tab algn="l" pos="5778360"/>
                          <a:tab algn="l" pos="6222960"/>
                          <a:tab algn="l" pos="6667560"/>
                          <a:tab algn="l" pos="7112160"/>
                          <a:tab algn="l" pos="7556400"/>
                          <a:tab algn="l" pos="8001000"/>
                          <a:tab algn="l" pos="8445600"/>
                          <a:tab algn="l" pos="88898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9" name="모서리가 둥근 직사각형 86"/>
                  <p:cNvSpPr/>
                  <p:nvPr/>
                </p:nvSpPr>
                <p:spPr>
                  <a:xfrm>
                    <a:off x="6537240" y="2602080"/>
                    <a:ext cx="2273760" cy="119844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ffffff">
                      <a:alpha val="90000"/>
                    </a:srgbClr>
                  </a:solidFill>
                  <a:ln w="19080">
                    <a:solidFill>
                      <a:srgbClr val="465f8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문제를 다른 말로 진술하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과거 문제와 관련 짓거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,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시각적으로 표현하는 단계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TextBox 118"/>
                <p:cNvSpPr/>
                <p:nvPr/>
              </p:nvSpPr>
              <p:spPr>
                <a:xfrm>
                  <a:off x="6714720" y="2300400"/>
                  <a:ext cx="9259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1800" spc="-1" strike="noStrike">
                      <a:solidFill>
                        <a:srgbClr val="ffffff"/>
                      </a:solidFill>
                      <a:latin typeface="휴먼모음T"/>
                      <a:ea typeface="휴먼모음T"/>
                    </a:rPr>
                    <a:t>문제의 표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1" name="그룹 126"/>
            <p:cNvGrpSpPr/>
            <p:nvPr/>
          </p:nvGrpSpPr>
          <p:grpSpPr>
            <a:xfrm>
              <a:off x="6500880" y="4449960"/>
              <a:ext cx="2333520" cy="1500120"/>
              <a:chOff x="6500880" y="4449960"/>
              <a:chExt cx="2333520" cy="1500120"/>
            </a:xfrm>
          </p:grpSpPr>
          <p:grpSp>
            <p:nvGrpSpPr>
              <p:cNvPr id="1182" name="그룹 108"/>
              <p:cNvGrpSpPr/>
              <p:nvPr/>
            </p:nvGrpSpPr>
            <p:grpSpPr>
              <a:xfrm>
                <a:off x="6500880" y="4449960"/>
                <a:ext cx="2333520" cy="1500120"/>
                <a:chOff x="6500880" y="4449960"/>
                <a:chExt cx="2333520" cy="1500120"/>
              </a:xfrm>
            </p:grpSpPr>
            <p:grpSp>
              <p:nvGrpSpPr>
                <p:cNvPr id="1183" name="그룹 57"/>
                <p:cNvGrpSpPr/>
                <p:nvPr/>
              </p:nvGrpSpPr>
              <p:grpSpPr>
                <a:xfrm>
                  <a:off x="6500880" y="4449960"/>
                  <a:ext cx="1811880" cy="812880"/>
                  <a:chOff x="6500880" y="4449960"/>
                  <a:chExt cx="1811880" cy="812880"/>
                </a:xfrm>
              </p:grpSpPr>
              <p:sp>
                <p:nvSpPr>
                  <p:cNvPr id="1184" name="모서리가 둥근 직사각형 82"/>
                  <p:cNvSpPr/>
                  <p:nvPr/>
                </p:nvSpPr>
                <p:spPr>
                  <a:xfrm>
                    <a:off x="6500880" y="4449960"/>
                    <a:ext cx="181188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4850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5" name="모서리가 둥근 직사각형 22"/>
                  <p:cNvSpPr/>
                  <p:nvPr/>
                </p:nvSpPr>
                <p:spPr>
                  <a:xfrm>
                    <a:off x="6500880" y="4449960"/>
                    <a:ext cx="181188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6" name="모서리가 둥근 직사각형 80"/>
                <p:cNvSpPr/>
                <p:nvPr/>
              </p:nvSpPr>
              <p:spPr>
                <a:xfrm>
                  <a:off x="6584400" y="4751280"/>
                  <a:ext cx="225000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4850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해결전략들을 생성한 후 가장 적절한 전략을 선택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실행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TextBox 119"/>
              <p:cNvSpPr/>
              <p:nvPr/>
            </p:nvSpPr>
            <p:spPr>
              <a:xfrm>
                <a:off x="6636240" y="4449960"/>
                <a:ext cx="1535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전략의 선택</a:t>
                </a:r>
                <a:r>
                  <a:rPr b="1" lang="en-US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1" lang="ko-KR" sz="14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실행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8" name="그룹 127"/>
            <p:cNvGrpSpPr/>
            <p:nvPr/>
          </p:nvGrpSpPr>
          <p:grpSpPr>
            <a:xfrm>
              <a:off x="3378240" y="4449960"/>
              <a:ext cx="2333160" cy="1500480"/>
              <a:chOff x="3378240" y="4449960"/>
              <a:chExt cx="2333160" cy="1500480"/>
            </a:xfrm>
          </p:grpSpPr>
          <p:grpSp>
            <p:nvGrpSpPr>
              <p:cNvPr id="1189" name="그룹 113"/>
              <p:cNvGrpSpPr/>
              <p:nvPr/>
            </p:nvGrpSpPr>
            <p:grpSpPr>
              <a:xfrm>
                <a:off x="3378240" y="4449960"/>
                <a:ext cx="2333160" cy="1500480"/>
                <a:chOff x="3378240" y="4449960"/>
                <a:chExt cx="2333160" cy="1500480"/>
              </a:xfrm>
            </p:grpSpPr>
            <p:grpSp>
              <p:nvGrpSpPr>
                <p:cNvPr id="1190" name="그룹 60"/>
                <p:cNvGrpSpPr/>
                <p:nvPr/>
              </p:nvGrpSpPr>
              <p:grpSpPr>
                <a:xfrm>
                  <a:off x="3378240" y="4449960"/>
                  <a:ext cx="1811160" cy="812880"/>
                  <a:chOff x="3378240" y="4449960"/>
                  <a:chExt cx="1811160" cy="812880"/>
                </a:xfrm>
              </p:grpSpPr>
              <p:sp>
                <p:nvSpPr>
                  <p:cNvPr id="1191" name="모서리가 둥근 직사각형 76"/>
                  <p:cNvSpPr/>
                  <p:nvPr/>
                </p:nvSpPr>
                <p:spPr>
                  <a:xfrm>
                    <a:off x="3378240" y="4449960"/>
                    <a:ext cx="181116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514a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모서리가 둥근 직사각형 28"/>
                  <p:cNvSpPr/>
                  <p:nvPr/>
                </p:nvSpPr>
                <p:spPr>
                  <a:xfrm>
                    <a:off x="3378240" y="4449960"/>
                    <a:ext cx="181116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3" name="모서리가 둥근 직사각형 74"/>
                <p:cNvSpPr/>
                <p:nvPr/>
              </p:nvSpPr>
              <p:spPr>
                <a:xfrm>
                  <a:off x="3449520" y="4751640"/>
                  <a:ext cx="226188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514a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하는 도중 문제가 제대로 해결되고 있는지 수시로 점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4" name="TextBox 120"/>
              <p:cNvSpPr/>
              <p:nvPr/>
            </p:nvSpPr>
            <p:spPr>
              <a:xfrm>
                <a:off x="3552120" y="4449960"/>
                <a:ext cx="147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과정의 점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그룹 122"/>
            <p:cNvGrpSpPr/>
            <p:nvPr/>
          </p:nvGrpSpPr>
          <p:grpSpPr>
            <a:xfrm>
              <a:off x="298440" y="4443480"/>
              <a:ext cx="2332800" cy="1512720"/>
              <a:chOff x="298440" y="4443480"/>
              <a:chExt cx="2332800" cy="1512720"/>
            </a:xfrm>
          </p:grpSpPr>
          <p:grpSp>
            <p:nvGrpSpPr>
              <p:cNvPr id="1196" name="그룹 114"/>
              <p:cNvGrpSpPr/>
              <p:nvPr/>
            </p:nvGrpSpPr>
            <p:grpSpPr>
              <a:xfrm>
                <a:off x="298440" y="4455720"/>
                <a:ext cx="2332800" cy="1500480"/>
                <a:chOff x="298440" y="4455720"/>
                <a:chExt cx="2332800" cy="1500480"/>
              </a:xfrm>
            </p:grpSpPr>
            <p:grpSp>
              <p:nvGrpSpPr>
                <p:cNvPr id="1197" name="그룹 63"/>
                <p:cNvGrpSpPr/>
                <p:nvPr/>
              </p:nvGrpSpPr>
              <p:grpSpPr>
                <a:xfrm>
                  <a:off x="298440" y="4455720"/>
                  <a:ext cx="1810800" cy="812880"/>
                  <a:chOff x="298440" y="4455720"/>
                  <a:chExt cx="1810800" cy="812880"/>
                </a:xfrm>
              </p:grpSpPr>
              <p:sp>
                <p:nvSpPr>
                  <p:cNvPr id="1198" name="모서리가 둥근 직사각형 69"/>
                  <p:cNvSpPr/>
                  <p:nvPr/>
                </p:nvSpPr>
                <p:spPr>
                  <a:xfrm>
                    <a:off x="298440" y="4455720"/>
                    <a:ext cx="1810800" cy="812880"/>
                  </a:xfrm>
                  <a:prstGeom prst="roundRect">
                    <a:avLst>
                      <a:gd name="adj" fmla="val 10000"/>
                    </a:avLst>
                  </a:prstGeom>
                  <a:solidFill>
                    <a:srgbClr val="624b85"/>
                  </a:soli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모서리가 둥근 직사각형 34"/>
                  <p:cNvSpPr/>
                  <p:nvPr/>
                </p:nvSpPr>
                <p:spPr>
                  <a:xfrm>
                    <a:off x="298440" y="4455720"/>
                    <a:ext cx="1810800" cy="49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1280" rIns="71280" tIns="71280" bIns="38160" anchor="t">
                    <a:noAutofit/>
                  </a:bodyPr>
                  <a:p>
                    <a:pPr>
                      <a:lnSpc>
                        <a:spcPct val="90000"/>
                      </a:lnSpc>
                      <a:spcAft>
                        <a:spcPts val="437"/>
                      </a:spcAft>
                      <a:tabLst>
                        <a:tab algn="l" pos="0"/>
                        <a:tab algn="l" pos="444600"/>
                        <a:tab algn="l" pos="888840"/>
                        <a:tab algn="l" pos="1333440"/>
                        <a:tab algn="l" pos="1778040"/>
                        <a:tab algn="l" pos="2222640"/>
                        <a:tab algn="l" pos="2666880"/>
                        <a:tab algn="l" pos="3111480"/>
                        <a:tab algn="l" pos="3556080"/>
                        <a:tab algn="l" pos="4000680"/>
                        <a:tab algn="l" pos="4444920"/>
                        <a:tab algn="l" pos="4889520"/>
                        <a:tab algn="l" pos="5334120"/>
                        <a:tab algn="l" pos="5778360"/>
                        <a:tab algn="l" pos="6222960"/>
                        <a:tab algn="l" pos="6667560"/>
                        <a:tab algn="l" pos="7112160"/>
                        <a:tab algn="l" pos="7556400"/>
                        <a:tab algn="l" pos="8001000"/>
                        <a:tab algn="l" pos="8445600"/>
                        <a:tab algn="l" pos="888984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00" name="모서리가 둥근 직사각형 67"/>
                <p:cNvSpPr/>
                <p:nvPr/>
              </p:nvSpPr>
              <p:spPr>
                <a:xfrm>
                  <a:off x="369720" y="4757400"/>
                  <a:ext cx="2261520" cy="1198800"/>
                </a:xfrm>
                <a:prstGeom prst="roundRect">
                  <a:avLst>
                    <a:gd name="adj" fmla="val 10000"/>
                  </a:avLst>
                </a:prstGeom>
                <a:solidFill>
                  <a:srgbClr val="ffffff">
                    <a:alpha val="90000"/>
                  </a:srgbClr>
                </a:solidFill>
                <a:ln w="19080">
                  <a:solidFill>
                    <a:srgbClr val="624b8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문제를 해결한 다음 해결책의 적절성을 평가하는 단계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1" name="TextBox 121"/>
              <p:cNvSpPr/>
              <p:nvPr/>
            </p:nvSpPr>
            <p:spPr>
              <a:xfrm>
                <a:off x="497520" y="4443480"/>
                <a:ext cx="1200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문제해결의 평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0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4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28"/>
          <p:cNvGrpSpPr/>
          <p:nvPr/>
        </p:nvGrpSpPr>
        <p:grpSpPr>
          <a:xfrm>
            <a:off x="4710240" y="2243160"/>
            <a:ext cx="4362480" cy="4186080"/>
            <a:chOff x="4710240" y="2243160"/>
            <a:chExt cx="4362480" cy="4186080"/>
          </a:xfrm>
        </p:grpSpPr>
        <p:sp>
          <p:nvSpPr>
            <p:cNvPr id="1214" name="모서리가 둥근 직사각형 21"/>
            <p:cNvSpPr/>
            <p:nvPr/>
          </p:nvSpPr>
          <p:spPr>
            <a:xfrm>
              <a:off x="4734000" y="2243160"/>
              <a:ext cx="4105440" cy="4186080"/>
            </a:xfrm>
            <a:custGeom>
              <a:avLst/>
              <a:gdLst>
                <a:gd name="textAreaLeft" fmla="*/ 81000 w 4105440"/>
                <a:gd name="textAreaRight" fmla="*/ 4024440 w 410544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4">
                  <a:moveTo>
                    <a:pt x="1458" y="0"/>
                  </a:moveTo>
                  <a:arcTo wR="1458" hR="1458" stAng="16200000" swAng="-5400000"/>
                  <a:lnTo>
                    <a:pt x="0" y="20566"/>
                  </a:lnTo>
                  <a:arcTo wR="1458" hR="1458" stAng="10800000" swAng="-5400000"/>
                  <a:lnTo>
                    <a:pt x="20142" y="22024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직사각형 22"/>
            <p:cNvSpPr/>
            <p:nvPr/>
          </p:nvSpPr>
          <p:spPr>
            <a:xfrm>
              <a:off x="4734000" y="2671560"/>
              <a:ext cx="410544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직사각형 23"/>
            <p:cNvSpPr/>
            <p:nvPr/>
          </p:nvSpPr>
          <p:spPr>
            <a:xfrm>
              <a:off x="4710240" y="3214440"/>
              <a:ext cx="4362480" cy="31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 성공했던 전략에 집착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머지 문제를 새로운 관점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지 못하는 상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신태세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거에 사용했던 방식으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려는 성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고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순된 증거에도 불구하고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을 고집하는 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확증편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평소 신념이나 아이디어에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치하는 정보만 탐색하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향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TextBox 149"/>
            <p:cNvSpPr/>
            <p:nvPr/>
          </p:nvSpPr>
          <p:spPr>
            <a:xfrm>
              <a:off x="5315760" y="2742840"/>
              <a:ext cx="29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방해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그룹 27"/>
          <p:cNvGrpSpPr/>
          <p:nvPr/>
        </p:nvGrpSpPr>
        <p:grpSpPr>
          <a:xfrm>
            <a:off x="357120" y="2243160"/>
            <a:ext cx="4124520" cy="4186080"/>
            <a:chOff x="357120" y="2243160"/>
            <a:chExt cx="4124520" cy="4186080"/>
          </a:xfrm>
        </p:grpSpPr>
        <p:sp>
          <p:nvSpPr>
            <p:cNvPr id="1219" name="모서리가 둥근 직사각형 17"/>
            <p:cNvSpPr/>
            <p:nvPr/>
          </p:nvSpPr>
          <p:spPr>
            <a:xfrm>
              <a:off x="375840" y="2243160"/>
              <a:ext cx="4105800" cy="4186080"/>
            </a:xfrm>
            <a:custGeom>
              <a:avLst/>
              <a:gdLst>
                <a:gd name="textAreaLeft" fmla="*/ 81000 w 4105800"/>
                <a:gd name="textAreaRight" fmla="*/ 4024800 w 4105800"/>
                <a:gd name="textAreaTop" fmla="*/ 81000 h 4186080"/>
                <a:gd name="textAreaBottom" fmla="*/ 4105080 h 4186080"/>
              </a:gdLst>
              <a:ahLst/>
              <a:rect l="textAreaLeft" t="textAreaTop" r="textAreaRight" b="textAreaBottom"/>
              <a:pathLst>
                <a:path w="21600" h="22022">
                  <a:moveTo>
                    <a:pt x="1458" y="0"/>
                  </a:moveTo>
                  <a:arcTo wR="1458" hR="1458" stAng="16200000" swAng="-5400000"/>
                  <a:lnTo>
                    <a:pt x="0" y="20564"/>
                  </a:lnTo>
                  <a:arcTo wR="1458" hR="1458" stAng="10800000" swAng="-5400000"/>
                  <a:lnTo>
                    <a:pt x="20142" y="22022"/>
                  </a:lnTo>
                  <a:arcTo wR="1458" hR="1458" stAng="5400000" swAng="-5400000"/>
                  <a:lnTo>
                    <a:pt x="21600" y="1458"/>
                  </a:lnTo>
                  <a:arcTo wR="1458" hR="1458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2240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직사각형 18"/>
            <p:cNvSpPr/>
            <p:nvPr/>
          </p:nvSpPr>
          <p:spPr>
            <a:xfrm>
              <a:off x="375840" y="2671560"/>
              <a:ext cx="4105800" cy="500040"/>
            </a:xfrm>
            <a:prstGeom prst="rect">
              <a:avLst/>
            </a:prstGeom>
            <a:solidFill>
              <a:srgbClr val="224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직사각형 19"/>
            <p:cNvSpPr/>
            <p:nvPr/>
          </p:nvSpPr>
          <p:spPr>
            <a:xfrm>
              <a:off x="357120" y="3510000"/>
              <a:ext cx="4124520" cy="22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698"/>
                </a:lnSpc>
                <a:spcAft>
                  <a:spcPts val="1199"/>
                </a:spcAft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통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를 해결하는데 필요한 정보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식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비교하여 관계를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악하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결합하는 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잠시 제쳐 두고 다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활동을 하면서 잠재의식수준에서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모색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Box 149"/>
            <p:cNvSpPr/>
            <p:nvPr/>
          </p:nvSpPr>
          <p:spPr>
            <a:xfrm>
              <a:off x="958680" y="2742840"/>
              <a:ext cx="294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문제해결을 촉진하는 요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7"/>
          <p:cNvGrpSpPr/>
          <p:nvPr/>
        </p:nvGrpSpPr>
        <p:grpSpPr>
          <a:xfrm>
            <a:off x="2889360" y="1928880"/>
            <a:ext cx="3483000" cy="552240"/>
            <a:chOff x="2889360" y="1928880"/>
            <a:chExt cx="3483000" cy="552240"/>
          </a:xfrm>
        </p:grpSpPr>
        <p:sp>
          <p:nvSpPr>
            <p:cNvPr id="1224" name="AutoShape 65"/>
            <p:cNvSpPr/>
            <p:nvPr/>
          </p:nvSpPr>
          <p:spPr>
            <a:xfrm>
              <a:off x="2889360" y="1928880"/>
              <a:ext cx="3483000" cy="552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69390a"/>
                </a:gs>
              </a:gsLst>
              <a:lin ang="5400000"/>
            </a:gradFill>
            <a:ln w="6480">
              <a:solidFill>
                <a:srgbClr val="6939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5" name="AutoShape 66"/>
            <p:cNvGrpSpPr/>
            <p:nvPr/>
          </p:nvGrpSpPr>
          <p:grpSpPr>
            <a:xfrm>
              <a:off x="3072240" y="1962720"/>
              <a:ext cx="3121200" cy="481680"/>
              <a:chOff x="3072240" y="1962720"/>
              <a:chExt cx="3121200" cy="481680"/>
            </a:xfrm>
          </p:grpSpPr>
          <p:pic>
            <p:nvPicPr>
              <p:cNvPr id="1226" name="AutoShape 66" descr=""/>
              <p:cNvPicPr/>
              <p:nvPr/>
            </p:nvPicPr>
            <p:blipFill>
              <a:blip r:embed="rId2"/>
              <a:stretch/>
            </p:blipFill>
            <p:spPr>
              <a:xfrm>
                <a:off x="3072240" y="1962720"/>
                <a:ext cx="3121200" cy="48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7" name=""/>
              <p:cNvSpPr/>
              <p:nvPr/>
            </p:nvSpPr>
            <p:spPr>
              <a:xfrm>
                <a:off x="3143880" y="2039760"/>
                <a:ext cx="297360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28" name="TextBox 16" descr=""/>
            <p:cNvPicPr/>
            <p:nvPr/>
          </p:nvPicPr>
          <p:blipFill>
            <a:blip r:embed="rId3"/>
            <a:stretch/>
          </p:blipFill>
          <p:spPr>
            <a:xfrm>
              <a:off x="3108960" y="1981080"/>
              <a:ext cx="3035880" cy="39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3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31" name="직사각형 13"/>
              <p:cNvSpPr/>
              <p:nvPr/>
            </p:nvSpPr>
            <p:spPr>
              <a:xfrm>
                <a:off x="173376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에 영향을 주는 요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36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3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8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1" name="그룹 37"/>
          <p:cNvGrpSpPr/>
          <p:nvPr/>
        </p:nvGrpSpPr>
        <p:grpSpPr>
          <a:xfrm>
            <a:off x="357120" y="3429000"/>
            <a:ext cx="8501040" cy="3197160"/>
            <a:chOff x="357120" y="3429000"/>
            <a:chExt cx="8501040" cy="3197160"/>
          </a:xfrm>
        </p:grpSpPr>
        <p:grpSp>
          <p:nvGrpSpPr>
            <p:cNvPr id="782" name="그룹 91"/>
            <p:cNvGrpSpPr/>
            <p:nvPr/>
          </p:nvGrpSpPr>
          <p:grpSpPr>
            <a:xfrm>
              <a:off x="357120" y="3429000"/>
              <a:ext cx="8501040" cy="3197160"/>
              <a:chOff x="357120" y="3429000"/>
              <a:chExt cx="8501040" cy="3197160"/>
            </a:xfrm>
          </p:grpSpPr>
          <p:pic>
            <p:nvPicPr>
              <p:cNvPr id="783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357120" y="3429000"/>
                <a:ext cx="8501040" cy="3197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784" name="직사각형 26"/>
              <p:cNvSpPr/>
              <p:nvPr/>
            </p:nvSpPr>
            <p:spPr>
              <a:xfrm>
                <a:off x="1357200" y="3608280"/>
                <a:ext cx="7500960" cy="34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그룹 91"/>
            <p:cNvGrpSpPr/>
            <p:nvPr/>
          </p:nvGrpSpPr>
          <p:grpSpPr>
            <a:xfrm>
              <a:off x="859320" y="3746160"/>
              <a:ext cx="2507760" cy="551160"/>
              <a:chOff x="859320" y="3746160"/>
              <a:chExt cx="2507760" cy="551160"/>
            </a:xfrm>
          </p:grpSpPr>
          <p:grpSp>
            <p:nvGrpSpPr>
              <p:cNvPr id="786" name="그룹 34"/>
              <p:cNvGrpSpPr/>
              <p:nvPr/>
            </p:nvGrpSpPr>
            <p:grpSpPr>
              <a:xfrm>
                <a:off x="859320" y="3873240"/>
                <a:ext cx="354960" cy="337320"/>
                <a:chOff x="859320" y="3873240"/>
                <a:chExt cx="354960" cy="337320"/>
              </a:xfrm>
            </p:grpSpPr>
            <p:pic>
              <p:nvPicPr>
                <p:cNvPr id="787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59320" y="3906720"/>
                  <a:ext cx="354960" cy="2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TextBox 36"/>
                <p:cNvSpPr/>
                <p:nvPr/>
              </p:nvSpPr>
              <p:spPr>
                <a:xfrm>
                  <a:off x="859320" y="3873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9" name="직사각형 22"/>
              <p:cNvSpPr/>
              <p:nvPr/>
            </p:nvSpPr>
            <p:spPr>
              <a:xfrm>
                <a:off x="1618200" y="3746160"/>
                <a:ext cx="17488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적 전이와 부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0" name="그룹 142"/>
          <p:cNvGrpSpPr/>
          <p:nvPr/>
        </p:nvGrpSpPr>
        <p:grpSpPr>
          <a:xfrm>
            <a:off x="993960" y="4357800"/>
            <a:ext cx="7183800" cy="916920"/>
            <a:chOff x="993960" y="4357800"/>
            <a:chExt cx="7183800" cy="916920"/>
          </a:xfrm>
        </p:grpSpPr>
        <p:grpSp>
          <p:nvGrpSpPr>
            <p:cNvPr id="791" name="그룹 97"/>
            <p:cNvGrpSpPr/>
            <p:nvPr/>
          </p:nvGrpSpPr>
          <p:grpSpPr>
            <a:xfrm>
              <a:off x="993960" y="4357800"/>
              <a:ext cx="295200" cy="337320"/>
              <a:chOff x="993960" y="4357800"/>
              <a:chExt cx="295200" cy="337320"/>
            </a:xfrm>
          </p:grpSpPr>
          <p:pic>
            <p:nvPicPr>
              <p:cNvPr id="792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1000080" y="4442400"/>
                <a:ext cx="284040" cy="22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3" name="TextBox 146"/>
              <p:cNvSpPr/>
              <p:nvPr/>
            </p:nvSpPr>
            <p:spPr>
              <a:xfrm>
                <a:off x="993960" y="435780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4" name="직사각형 34"/>
            <p:cNvSpPr/>
            <p:nvPr/>
          </p:nvSpPr>
          <p:spPr>
            <a:xfrm>
              <a:off x="1857960" y="4357800"/>
              <a:ext cx="6319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적 전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ositive transfer) 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선행학습이 후속학습을 촉진하는 현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교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5" name="TextBox 12" descr=""/>
          <p:cNvPicPr/>
          <p:nvPr/>
        </p:nvPicPr>
        <p:blipFill>
          <a:blip r:embed="rId4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796" name="그룹 35"/>
          <p:cNvGrpSpPr/>
          <p:nvPr/>
        </p:nvGrpSpPr>
        <p:grpSpPr>
          <a:xfrm>
            <a:off x="642960" y="3070080"/>
            <a:ext cx="8429760" cy="430200"/>
            <a:chOff x="642960" y="3070080"/>
            <a:chExt cx="8429760" cy="430200"/>
          </a:xfrm>
        </p:grpSpPr>
        <p:grpSp>
          <p:nvGrpSpPr>
            <p:cNvPr id="797" name="그룹 48"/>
            <p:cNvGrpSpPr/>
            <p:nvPr/>
          </p:nvGrpSpPr>
          <p:grpSpPr>
            <a:xfrm>
              <a:off x="642960" y="3098520"/>
              <a:ext cx="8429760" cy="401760"/>
              <a:chOff x="642960" y="3098520"/>
              <a:chExt cx="8429760" cy="401760"/>
            </a:xfrm>
          </p:grpSpPr>
          <p:sp>
            <p:nvSpPr>
              <p:cNvPr id="798" name="직사각형 13"/>
              <p:cNvSpPr/>
              <p:nvPr/>
            </p:nvSpPr>
            <p:spPr>
              <a:xfrm>
                <a:off x="1295640" y="30985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직선 연결선 18"/>
              <p:cNvSpPr/>
              <p:nvPr/>
            </p:nvSpPr>
            <p:spPr>
              <a:xfrm>
                <a:off x="642960" y="3498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0" name="그룹 49"/>
            <p:cNvGrpSpPr/>
            <p:nvPr/>
          </p:nvGrpSpPr>
          <p:grpSpPr>
            <a:xfrm>
              <a:off x="671400" y="3107880"/>
              <a:ext cx="328320" cy="319320"/>
              <a:chOff x="671400" y="3107880"/>
              <a:chExt cx="328320" cy="319320"/>
            </a:xfrm>
          </p:grpSpPr>
          <p:sp>
            <p:nvSpPr>
              <p:cNvPr id="801" name="AutoShape 4"/>
              <p:cNvSpPr/>
              <p:nvPr/>
            </p:nvSpPr>
            <p:spPr>
              <a:xfrm>
                <a:off x="671400" y="3107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2" name="Freeform 5"/>
              <p:cNvGrpSpPr/>
              <p:nvPr/>
            </p:nvGrpSpPr>
            <p:grpSpPr>
              <a:xfrm>
                <a:off x="688680" y="3120480"/>
                <a:ext cx="170640" cy="171000"/>
                <a:chOff x="688680" y="3120480"/>
                <a:chExt cx="170640" cy="171000"/>
              </a:xfrm>
            </p:grpSpPr>
            <p:pic>
              <p:nvPicPr>
                <p:cNvPr id="803" name="Freeform 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8680" y="312048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4" name=""/>
                <p:cNvSpPr/>
                <p:nvPr/>
              </p:nvSpPr>
              <p:spPr>
                <a:xfrm>
                  <a:off x="691920" y="3128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5" name="TextBox 88"/>
            <p:cNvSpPr/>
            <p:nvPr/>
          </p:nvSpPr>
          <p:spPr>
            <a:xfrm>
              <a:off x="678600" y="30700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그룹 90"/>
          <p:cNvGrpSpPr/>
          <p:nvPr/>
        </p:nvGrpSpPr>
        <p:grpSpPr>
          <a:xfrm>
            <a:off x="996840" y="5146560"/>
            <a:ext cx="8147160" cy="639720"/>
            <a:chOff x="996840" y="5146560"/>
            <a:chExt cx="8147160" cy="639720"/>
          </a:xfrm>
        </p:grpSpPr>
        <p:grpSp>
          <p:nvGrpSpPr>
            <p:cNvPr id="807" name="그룹 142"/>
            <p:cNvGrpSpPr/>
            <p:nvPr/>
          </p:nvGrpSpPr>
          <p:grpSpPr>
            <a:xfrm>
              <a:off x="996840" y="5146560"/>
              <a:ext cx="8147160" cy="505440"/>
              <a:chOff x="996840" y="5146560"/>
              <a:chExt cx="8147160" cy="505440"/>
            </a:xfrm>
          </p:grpSpPr>
          <p:grpSp>
            <p:nvGrpSpPr>
              <p:cNvPr id="808" name="그룹 97"/>
              <p:cNvGrpSpPr/>
              <p:nvPr/>
            </p:nvGrpSpPr>
            <p:grpSpPr>
              <a:xfrm>
                <a:off x="996840" y="5175720"/>
                <a:ext cx="305640" cy="337320"/>
                <a:chOff x="996840" y="5175720"/>
                <a:chExt cx="305640" cy="337320"/>
              </a:xfrm>
            </p:grpSpPr>
            <p:pic>
              <p:nvPicPr>
                <p:cNvPr id="80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5228640"/>
                  <a:ext cx="28620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0" name="TextBox 146"/>
                <p:cNvSpPr/>
                <p:nvPr/>
              </p:nvSpPr>
              <p:spPr>
                <a:xfrm>
                  <a:off x="996840" y="5175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1" name="직사각형 45"/>
              <p:cNvSpPr/>
              <p:nvPr/>
            </p:nvSpPr>
            <p:spPr>
              <a:xfrm>
                <a:off x="1071360" y="5146560"/>
                <a:ext cx="80726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gative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을 방해하는 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적 고착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직사각형 42"/>
            <p:cNvSpPr/>
            <p:nvPr/>
          </p:nvSpPr>
          <p:spPr>
            <a:xfrm>
              <a:off x="1315800" y="5439600"/>
              <a:ext cx="750132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그룹 90"/>
          <p:cNvGrpSpPr/>
          <p:nvPr/>
        </p:nvGrpSpPr>
        <p:grpSpPr>
          <a:xfrm>
            <a:off x="1000080" y="5857920"/>
            <a:ext cx="7858080" cy="784080"/>
            <a:chOff x="1000080" y="5857920"/>
            <a:chExt cx="7858080" cy="784080"/>
          </a:xfrm>
        </p:grpSpPr>
        <p:grpSp>
          <p:nvGrpSpPr>
            <p:cNvPr id="814" name="그룹 142"/>
            <p:cNvGrpSpPr/>
            <p:nvPr/>
          </p:nvGrpSpPr>
          <p:grpSpPr>
            <a:xfrm>
              <a:off x="1000080" y="5857920"/>
              <a:ext cx="7786800" cy="505440"/>
              <a:chOff x="1000080" y="5857920"/>
              <a:chExt cx="7786800" cy="505440"/>
            </a:xfrm>
          </p:grpSpPr>
          <p:grpSp>
            <p:nvGrpSpPr>
              <p:cNvPr id="815" name="그룹 97"/>
              <p:cNvGrpSpPr/>
              <p:nvPr/>
            </p:nvGrpSpPr>
            <p:grpSpPr>
              <a:xfrm>
                <a:off x="1000080" y="5904360"/>
                <a:ext cx="286920" cy="337320"/>
                <a:chOff x="1000080" y="5904360"/>
                <a:chExt cx="286920" cy="337320"/>
              </a:xfrm>
            </p:grpSpPr>
            <p:pic>
              <p:nvPicPr>
                <p:cNvPr id="81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5960880"/>
                  <a:ext cx="286920" cy="258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7" name="TextBox 146"/>
                <p:cNvSpPr/>
                <p:nvPr/>
              </p:nvSpPr>
              <p:spPr>
                <a:xfrm>
                  <a:off x="1002240" y="590436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8" name="직사각형 55"/>
              <p:cNvSpPr/>
              <p:nvPr/>
            </p:nvSpPr>
            <p:spPr>
              <a:xfrm>
                <a:off x="1071360" y="5857920"/>
                <a:ext cx="7715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zero transfer) 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아무런 영향을 미치지 않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52"/>
            <p:cNvSpPr/>
            <p:nvPr/>
          </p:nvSpPr>
          <p:spPr>
            <a:xfrm>
              <a:off x="1317600" y="6217200"/>
              <a:ext cx="7540560" cy="42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ts val="3197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35"/>
          <p:cNvGrpSpPr/>
          <p:nvPr/>
        </p:nvGrpSpPr>
        <p:grpSpPr>
          <a:xfrm>
            <a:off x="642960" y="1214280"/>
            <a:ext cx="8429760" cy="430200"/>
            <a:chOff x="642960" y="1214280"/>
            <a:chExt cx="8429760" cy="430200"/>
          </a:xfrm>
        </p:grpSpPr>
        <p:grpSp>
          <p:nvGrpSpPr>
            <p:cNvPr id="821" name="그룹 48"/>
            <p:cNvGrpSpPr/>
            <p:nvPr/>
          </p:nvGrpSpPr>
          <p:grpSpPr>
            <a:xfrm>
              <a:off x="642960" y="1242720"/>
              <a:ext cx="8429760" cy="401760"/>
              <a:chOff x="642960" y="1242720"/>
              <a:chExt cx="8429760" cy="401760"/>
            </a:xfrm>
          </p:grpSpPr>
          <p:sp>
            <p:nvSpPr>
              <p:cNvPr id="822" name="직사각형 13"/>
              <p:cNvSpPr/>
              <p:nvPr/>
            </p:nvSpPr>
            <p:spPr>
              <a:xfrm>
                <a:off x="1295640" y="124272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직선 연결선 18"/>
              <p:cNvSpPr/>
              <p:nvPr/>
            </p:nvSpPr>
            <p:spPr>
              <a:xfrm>
                <a:off x="642960" y="16430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4" name="그룹 49"/>
            <p:cNvGrpSpPr/>
            <p:nvPr/>
          </p:nvGrpSpPr>
          <p:grpSpPr>
            <a:xfrm>
              <a:off x="671400" y="1252080"/>
              <a:ext cx="328320" cy="319320"/>
              <a:chOff x="671400" y="1252080"/>
              <a:chExt cx="328320" cy="319320"/>
            </a:xfrm>
          </p:grpSpPr>
          <p:sp>
            <p:nvSpPr>
              <p:cNvPr id="825" name="AutoShape 4"/>
              <p:cNvSpPr/>
              <p:nvPr/>
            </p:nvSpPr>
            <p:spPr>
              <a:xfrm>
                <a:off x="671400" y="12520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6" name="Freeform 5"/>
              <p:cNvGrpSpPr/>
              <p:nvPr/>
            </p:nvGrpSpPr>
            <p:grpSpPr>
              <a:xfrm>
                <a:off x="688680" y="1267200"/>
                <a:ext cx="170640" cy="171000"/>
                <a:chOff x="688680" y="1267200"/>
                <a:chExt cx="170640" cy="171000"/>
              </a:xfrm>
            </p:grpSpPr>
            <p:pic>
              <p:nvPicPr>
                <p:cNvPr id="82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2672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28" name=""/>
                <p:cNvSpPr/>
                <p:nvPr/>
              </p:nvSpPr>
              <p:spPr>
                <a:xfrm>
                  <a:off x="691920" y="12722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9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0" name="Picture 5" descr="233"/>
          <p:cNvPicPr/>
          <p:nvPr/>
        </p:nvPicPr>
        <p:blipFill>
          <a:blip r:embed="rId9"/>
          <a:srcRect l="2544" t="0" r="24313" b="0"/>
          <a:stretch/>
        </p:blipFill>
        <p:spPr>
          <a:xfrm>
            <a:off x="714240" y="1857240"/>
            <a:ext cx="8072640" cy="10004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31" name="직사각형 63"/>
          <p:cNvSpPr/>
          <p:nvPr/>
        </p:nvSpPr>
        <p:spPr>
          <a:xfrm>
            <a:off x="785880" y="1785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장면에서 학습한 지식 및 기술이 새로운 장면의 학습이나 행동에 영향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치는 현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TextBox 12" descr=""/>
          <p:cNvPicPr/>
          <p:nvPr/>
        </p:nvPicPr>
        <p:blipFill>
          <a:blip r:embed="rId1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3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35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4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그룹 37"/>
          <p:cNvGrpSpPr/>
          <p:nvPr/>
        </p:nvGrpSpPr>
        <p:grpSpPr>
          <a:xfrm>
            <a:off x="285840" y="1928880"/>
            <a:ext cx="8501040" cy="4071960"/>
            <a:chOff x="285840" y="1928880"/>
            <a:chExt cx="8501040" cy="4071960"/>
          </a:xfrm>
        </p:grpSpPr>
        <p:grpSp>
          <p:nvGrpSpPr>
            <p:cNvPr id="844" name="그룹 91"/>
            <p:cNvGrpSpPr/>
            <p:nvPr/>
          </p:nvGrpSpPr>
          <p:grpSpPr>
            <a:xfrm>
              <a:off x="285840" y="2143080"/>
              <a:ext cx="8501040" cy="3857760"/>
              <a:chOff x="285840" y="2143080"/>
              <a:chExt cx="8501040" cy="3857760"/>
            </a:xfrm>
          </p:grpSpPr>
          <p:pic>
            <p:nvPicPr>
              <p:cNvPr id="84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43080"/>
                <a:ext cx="8501040" cy="3857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46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91"/>
            <p:cNvGrpSpPr/>
            <p:nvPr/>
          </p:nvGrpSpPr>
          <p:grpSpPr>
            <a:xfrm>
              <a:off x="928440" y="1928880"/>
              <a:ext cx="2360880" cy="551160"/>
              <a:chOff x="928440" y="1928880"/>
              <a:chExt cx="2360880" cy="551160"/>
            </a:xfrm>
          </p:grpSpPr>
          <p:grpSp>
            <p:nvGrpSpPr>
              <p:cNvPr id="848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49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1" name="직사각형 19"/>
              <p:cNvSpPr/>
              <p:nvPr/>
            </p:nvSpPr>
            <p:spPr>
              <a:xfrm>
                <a:off x="1671480" y="192888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일반전이와 특수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2" name="그룹 90"/>
          <p:cNvGrpSpPr/>
          <p:nvPr/>
        </p:nvGrpSpPr>
        <p:grpSpPr>
          <a:xfrm>
            <a:off x="1152720" y="2676600"/>
            <a:ext cx="7823160" cy="1005120"/>
            <a:chOff x="1152720" y="2676600"/>
            <a:chExt cx="7823160" cy="1005120"/>
          </a:xfrm>
        </p:grpSpPr>
        <p:grpSp>
          <p:nvGrpSpPr>
            <p:cNvPr id="853" name="그룹 142"/>
            <p:cNvGrpSpPr/>
            <p:nvPr/>
          </p:nvGrpSpPr>
          <p:grpSpPr>
            <a:xfrm>
              <a:off x="1152720" y="2676600"/>
              <a:ext cx="2675520" cy="505440"/>
              <a:chOff x="1152720" y="2676600"/>
              <a:chExt cx="2675520" cy="505440"/>
            </a:xfrm>
          </p:grpSpPr>
          <p:grpSp>
            <p:nvGrpSpPr>
              <p:cNvPr id="854" name="그룹 97"/>
              <p:cNvGrpSpPr/>
              <p:nvPr/>
            </p:nvGrpSpPr>
            <p:grpSpPr>
              <a:xfrm>
                <a:off x="1152720" y="2741400"/>
                <a:ext cx="295200" cy="337320"/>
                <a:chOff x="1152720" y="2741400"/>
                <a:chExt cx="295200" cy="337320"/>
              </a:xfrm>
            </p:grpSpPr>
            <p:pic>
              <p:nvPicPr>
                <p:cNvPr id="855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8840" y="2791800"/>
                  <a:ext cx="28404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TextBox 146"/>
                <p:cNvSpPr/>
                <p:nvPr/>
              </p:nvSpPr>
              <p:spPr>
                <a:xfrm>
                  <a:off x="1152720" y="27414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7" name="직사각형 31"/>
              <p:cNvSpPr/>
              <p:nvPr/>
            </p:nvSpPr>
            <p:spPr>
              <a:xfrm>
                <a:off x="1378440" y="2676600"/>
                <a:ext cx="2449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gener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8" name="직선 연결선 26"/>
            <p:cNvSpPr/>
            <p:nvPr/>
          </p:nvSpPr>
          <p:spPr>
            <a:xfrm>
              <a:off x="4643640" y="2962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14"/>
            <p:cNvGrpSpPr/>
            <p:nvPr/>
          </p:nvGrpSpPr>
          <p:grpSpPr>
            <a:xfrm>
              <a:off x="1376280" y="3176280"/>
              <a:ext cx="7599600" cy="505440"/>
              <a:chOff x="1376280" y="3176280"/>
              <a:chExt cx="7599600" cy="505440"/>
            </a:xfrm>
          </p:grpSpPr>
          <p:sp>
            <p:nvSpPr>
              <p:cNvPr id="860" name="직사각형 28"/>
              <p:cNvSpPr/>
              <p:nvPr/>
            </p:nvSpPr>
            <p:spPr>
              <a:xfrm>
                <a:off x="1538640" y="3176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획득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을 완전히 새로운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1" name="타원 29"/>
              <p:cNvGrpSpPr/>
              <p:nvPr/>
            </p:nvGrpSpPr>
            <p:grpSpPr>
              <a:xfrm>
                <a:off x="1376280" y="3346560"/>
                <a:ext cx="223560" cy="231480"/>
                <a:chOff x="1376280" y="3346560"/>
                <a:chExt cx="223560" cy="231480"/>
              </a:xfrm>
            </p:grpSpPr>
            <p:pic>
              <p:nvPicPr>
                <p:cNvPr id="862" name="타원 29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6280" y="33465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"/>
                <p:cNvSpPr/>
                <p:nvPr/>
              </p:nvSpPr>
              <p:spPr>
                <a:xfrm rot="10800000">
                  <a:off x="1455480" y="3404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64" name="그룹 90"/>
          <p:cNvGrpSpPr/>
          <p:nvPr/>
        </p:nvGrpSpPr>
        <p:grpSpPr>
          <a:xfrm>
            <a:off x="1155600" y="4154400"/>
            <a:ext cx="7820280" cy="1438200"/>
            <a:chOff x="1155600" y="4154400"/>
            <a:chExt cx="7820280" cy="1438200"/>
          </a:xfrm>
        </p:grpSpPr>
        <p:grpSp>
          <p:nvGrpSpPr>
            <p:cNvPr id="865" name="그룹 142"/>
            <p:cNvGrpSpPr/>
            <p:nvPr/>
          </p:nvGrpSpPr>
          <p:grpSpPr>
            <a:xfrm>
              <a:off x="1155600" y="4154400"/>
              <a:ext cx="2670120" cy="505440"/>
              <a:chOff x="1155600" y="4154400"/>
              <a:chExt cx="2670120" cy="505440"/>
            </a:xfrm>
          </p:grpSpPr>
          <p:grpSp>
            <p:nvGrpSpPr>
              <p:cNvPr id="866" name="그룹 97"/>
              <p:cNvGrpSpPr/>
              <p:nvPr/>
            </p:nvGrpSpPr>
            <p:grpSpPr>
              <a:xfrm>
                <a:off x="1155600" y="4219200"/>
                <a:ext cx="305640" cy="337320"/>
                <a:chOff x="1155600" y="4219200"/>
                <a:chExt cx="305640" cy="337320"/>
              </a:xfrm>
            </p:grpSpPr>
            <p:pic>
              <p:nvPicPr>
                <p:cNvPr id="86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266720"/>
                  <a:ext cx="28620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8" name="TextBox 146"/>
                <p:cNvSpPr/>
                <p:nvPr/>
              </p:nvSpPr>
              <p:spPr>
                <a:xfrm>
                  <a:off x="1155600" y="4219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9" name="직사각형 41"/>
              <p:cNvSpPr/>
              <p:nvPr/>
            </p:nvSpPr>
            <p:spPr>
              <a:xfrm>
                <a:off x="1398600" y="4154400"/>
                <a:ext cx="2427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pecific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0" name="직선 연결선 36"/>
            <p:cNvSpPr/>
            <p:nvPr/>
          </p:nvSpPr>
          <p:spPr>
            <a:xfrm>
              <a:off x="4643640" y="4439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1" name="그룹 114"/>
            <p:cNvGrpSpPr/>
            <p:nvPr/>
          </p:nvGrpSpPr>
          <p:grpSpPr>
            <a:xfrm>
              <a:off x="1376280" y="4675680"/>
              <a:ext cx="7599600" cy="916920"/>
              <a:chOff x="1376280" y="4675680"/>
              <a:chExt cx="7599600" cy="916920"/>
            </a:xfrm>
          </p:grpSpPr>
          <p:sp>
            <p:nvSpPr>
              <p:cNvPr id="872" name="직사각형 38"/>
              <p:cNvSpPr/>
              <p:nvPr/>
            </p:nvSpPr>
            <p:spPr>
              <a:xfrm>
                <a:off x="1538640" y="467568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장면에서 학습한 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법칙 등을 매우 유사한 장면에 적용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영어 학습이 불어 학습에 영향을 미치는 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타원 39"/>
              <p:cNvGrpSpPr/>
              <p:nvPr/>
            </p:nvGrpSpPr>
            <p:grpSpPr>
              <a:xfrm>
                <a:off x="1376280" y="4858200"/>
                <a:ext cx="223560" cy="231480"/>
                <a:chOff x="1376280" y="4858200"/>
                <a:chExt cx="223560" cy="231480"/>
              </a:xfrm>
            </p:grpSpPr>
            <p:pic>
              <p:nvPicPr>
                <p:cNvPr id="874" name="타원 39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8582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5" name=""/>
                <p:cNvSpPr/>
                <p:nvPr/>
              </p:nvSpPr>
              <p:spPr>
                <a:xfrm rot="10800000">
                  <a:off x="1455480" y="4916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그룹 37"/>
          <p:cNvGrpSpPr/>
          <p:nvPr/>
        </p:nvGrpSpPr>
        <p:grpSpPr>
          <a:xfrm>
            <a:off x="285840" y="1928880"/>
            <a:ext cx="8501040" cy="4286160"/>
            <a:chOff x="285840" y="1928880"/>
            <a:chExt cx="8501040" cy="4286160"/>
          </a:xfrm>
        </p:grpSpPr>
        <p:grpSp>
          <p:nvGrpSpPr>
            <p:cNvPr id="877" name="그룹 91"/>
            <p:cNvGrpSpPr/>
            <p:nvPr/>
          </p:nvGrpSpPr>
          <p:grpSpPr>
            <a:xfrm>
              <a:off x="285840" y="2143080"/>
              <a:ext cx="8501040" cy="4071960"/>
              <a:chOff x="285840" y="2143080"/>
              <a:chExt cx="8501040" cy="4071960"/>
            </a:xfrm>
          </p:grpSpPr>
          <p:pic>
            <p:nvPicPr>
              <p:cNvPr id="87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071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7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91"/>
            <p:cNvGrpSpPr/>
            <p:nvPr/>
          </p:nvGrpSpPr>
          <p:grpSpPr>
            <a:xfrm>
              <a:off x="928440" y="1928880"/>
              <a:ext cx="2937960" cy="551160"/>
              <a:chOff x="928440" y="1928880"/>
              <a:chExt cx="2937960" cy="551160"/>
            </a:xfrm>
          </p:grpSpPr>
          <p:grpSp>
            <p:nvGrpSpPr>
              <p:cNvPr id="881" name="그룹 34"/>
              <p:cNvGrpSpPr/>
              <p:nvPr/>
            </p:nvGrpSpPr>
            <p:grpSpPr>
              <a:xfrm>
                <a:off x="928440" y="2038320"/>
                <a:ext cx="349200" cy="361800"/>
                <a:chOff x="928440" y="2038320"/>
                <a:chExt cx="349200" cy="361800"/>
              </a:xfrm>
            </p:grpSpPr>
            <p:pic>
              <p:nvPicPr>
                <p:cNvPr id="882" name="Picture 177" descr="bull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928440" y="2047680"/>
                  <a:ext cx="349200" cy="352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3" name="TextBox 36"/>
                <p:cNvSpPr/>
                <p:nvPr/>
              </p:nvSpPr>
              <p:spPr>
                <a:xfrm>
                  <a:off x="957960" y="2038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4" name="직사각형 19"/>
              <p:cNvSpPr/>
              <p:nvPr/>
            </p:nvSpPr>
            <p:spPr>
              <a:xfrm>
                <a:off x="1812600" y="1928880"/>
                <a:ext cx="2053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수평적 전이와 수직적 전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85" name="그룹 90"/>
          <p:cNvGrpSpPr/>
          <p:nvPr/>
        </p:nvGrpSpPr>
        <p:grpSpPr>
          <a:xfrm>
            <a:off x="1152720" y="2714760"/>
            <a:ext cx="7823160" cy="1309320"/>
            <a:chOff x="1152720" y="2714760"/>
            <a:chExt cx="7823160" cy="1309320"/>
          </a:xfrm>
        </p:grpSpPr>
        <p:grpSp>
          <p:nvGrpSpPr>
            <p:cNvPr id="886" name="그룹 142"/>
            <p:cNvGrpSpPr/>
            <p:nvPr/>
          </p:nvGrpSpPr>
          <p:grpSpPr>
            <a:xfrm>
              <a:off x="1152720" y="2714760"/>
              <a:ext cx="3167640" cy="505440"/>
              <a:chOff x="1152720" y="2714760"/>
              <a:chExt cx="3167640" cy="505440"/>
            </a:xfrm>
          </p:grpSpPr>
          <p:grpSp>
            <p:nvGrpSpPr>
              <p:cNvPr id="887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888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9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0" name="직사각형 32"/>
              <p:cNvSpPr/>
              <p:nvPr/>
            </p:nvSpPr>
            <p:spPr>
              <a:xfrm>
                <a:off x="1437840" y="2714760"/>
                <a:ext cx="2882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orizont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1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2" name="그룹 114"/>
            <p:cNvGrpSpPr/>
            <p:nvPr/>
          </p:nvGrpSpPr>
          <p:grpSpPr>
            <a:xfrm>
              <a:off x="1376280" y="3107160"/>
              <a:ext cx="7599600" cy="916920"/>
              <a:chOff x="1376280" y="3107160"/>
              <a:chExt cx="7599600" cy="916920"/>
            </a:xfrm>
          </p:grpSpPr>
          <p:sp>
            <p:nvSpPr>
              <p:cNvPr id="893" name="직사각형 28"/>
              <p:cNvSpPr/>
              <p:nvPr/>
            </p:nvSpPr>
            <p:spPr>
              <a:xfrm>
                <a:off x="1538640" y="310716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과 후속학습의 수준이 비슷한 경우에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사시간에 학습한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1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운동이 국어시간의 독립선언문 학습에 영향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895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897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0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5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그룹 90"/>
          <p:cNvGrpSpPr/>
          <p:nvPr/>
        </p:nvGrpSpPr>
        <p:grpSpPr>
          <a:xfrm>
            <a:off x="1155600" y="4214880"/>
            <a:ext cx="7820280" cy="2131920"/>
            <a:chOff x="1155600" y="4214880"/>
            <a:chExt cx="7820280" cy="2131920"/>
          </a:xfrm>
        </p:grpSpPr>
        <p:grpSp>
          <p:nvGrpSpPr>
            <p:cNvPr id="909" name="그룹 142"/>
            <p:cNvGrpSpPr/>
            <p:nvPr/>
          </p:nvGrpSpPr>
          <p:grpSpPr>
            <a:xfrm>
              <a:off x="1155600" y="4214880"/>
              <a:ext cx="2903400" cy="505440"/>
              <a:chOff x="1155600" y="4214880"/>
              <a:chExt cx="2903400" cy="505440"/>
            </a:xfrm>
          </p:grpSpPr>
          <p:grpSp>
            <p:nvGrpSpPr>
              <p:cNvPr id="910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911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3" name="직사각형 42"/>
              <p:cNvSpPr/>
              <p:nvPr/>
            </p:nvSpPr>
            <p:spPr>
              <a:xfrm>
                <a:off x="1450800" y="4214880"/>
                <a:ext cx="2608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직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vertical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4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5" name="그룹 114"/>
            <p:cNvGrpSpPr/>
            <p:nvPr/>
          </p:nvGrpSpPr>
          <p:grpSpPr>
            <a:xfrm>
              <a:off x="1376280" y="4606920"/>
              <a:ext cx="7599600" cy="1739880"/>
              <a:chOff x="1376280" y="4606920"/>
              <a:chExt cx="7599600" cy="1739880"/>
            </a:xfrm>
          </p:grpSpPr>
          <p:sp>
            <p:nvSpPr>
              <p:cNvPr id="916" name="직사각형 39"/>
              <p:cNvSpPr/>
              <p:nvPr/>
            </p:nvSpPr>
            <p:spPr>
              <a:xfrm>
                <a:off x="1538640" y="460692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관계가 분명한 학습과제 사이에서 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 관계가 분명한 학습과제에서 생김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구단 학습이 곱셈과 나눗셈에 영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7" name="타원 40"/>
              <p:cNvGrpSpPr/>
              <p:nvPr/>
            </p:nvGrpSpPr>
            <p:grpSpPr>
              <a:xfrm>
                <a:off x="1376280" y="4778640"/>
                <a:ext cx="223560" cy="231480"/>
                <a:chOff x="1376280" y="4778640"/>
                <a:chExt cx="223560" cy="231480"/>
              </a:xfrm>
            </p:grpSpPr>
            <p:pic>
              <p:nvPicPr>
                <p:cNvPr id="918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86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9" name=""/>
                <p:cNvSpPr/>
                <p:nvPr/>
              </p:nvSpPr>
              <p:spPr>
                <a:xfrm rot="10800000">
                  <a:off x="1455480" y="4835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21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22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23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25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926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27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8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9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근접전이와 원격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0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1" name="그룹 90"/>
          <p:cNvGrpSpPr/>
          <p:nvPr/>
        </p:nvGrpSpPr>
        <p:grpSpPr>
          <a:xfrm>
            <a:off x="1152360" y="2714760"/>
            <a:ext cx="7823520" cy="898200"/>
            <a:chOff x="1152360" y="2714760"/>
            <a:chExt cx="7823520" cy="898200"/>
          </a:xfrm>
        </p:grpSpPr>
        <p:grpSp>
          <p:nvGrpSpPr>
            <p:cNvPr id="932" name="그룹 142"/>
            <p:cNvGrpSpPr/>
            <p:nvPr/>
          </p:nvGrpSpPr>
          <p:grpSpPr>
            <a:xfrm>
              <a:off x="1152360" y="2714760"/>
              <a:ext cx="2397240" cy="505440"/>
              <a:chOff x="1152360" y="2714760"/>
              <a:chExt cx="2397240" cy="505440"/>
            </a:xfrm>
          </p:grpSpPr>
          <p:grpSp>
            <p:nvGrpSpPr>
              <p:cNvPr id="933" name="그룹 97"/>
              <p:cNvGrpSpPr/>
              <p:nvPr/>
            </p:nvGrpSpPr>
            <p:grpSpPr>
              <a:xfrm>
                <a:off x="1152360" y="2779560"/>
                <a:ext cx="295200" cy="337320"/>
                <a:chOff x="1152360" y="2779560"/>
                <a:chExt cx="295200" cy="337320"/>
              </a:xfrm>
            </p:grpSpPr>
            <p:pic>
              <p:nvPicPr>
                <p:cNvPr id="93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36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5" name="TextBox 146"/>
                <p:cNvSpPr/>
                <p:nvPr/>
              </p:nvSpPr>
              <p:spPr>
                <a:xfrm>
                  <a:off x="115236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6" name="직사각형 32"/>
              <p:cNvSpPr/>
              <p:nvPr/>
            </p:nvSpPr>
            <p:spPr>
              <a:xfrm>
                <a:off x="1391040" y="2714760"/>
                <a:ext cx="21585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근접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ne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7" name="직선 연결선 26"/>
            <p:cNvSpPr/>
            <p:nvPr/>
          </p:nvSpPr>
          <p:spPr>
            <a:xfrm>
              <a:off x="4643640" y="3000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8" name="그룹 114"/>
            <p:cNvGrpSpPr/>
            <p:nvPr/>
          </p:nvGrpSpPr>
          <p:grpSpPr>
            <a:xfrm>
              <a:off x="1376280" y="3107520"/>
              <a:ext cx="7599600" cy="505440"/>
              <a:chOff x="1376280" y="3107520"/>
              <a:chExt cx="7599600" cy="505440"/>
            </a:xfrm>
          </p:grpSpPr>
          <p:sp>
            <p:nvSpPr>
              <p:cNvPr id="939" name="직사각형 28"/>
              <p:cNvSpPr/>
              <p:nvPr/>
            </p:nvSpPr>
            <p:spPr>
              <a:xfrm>
                <a:off x="1538640" y="310752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피상적인 특성은 물론 기저원리가 비슷한 장면 사이에 일어나는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0" name="타원 29"/>
              <p:cNvGrpSpPr/>
              <p:nvPr/>
            </p:nvGrpSpPr>
            <p:grpSpPr>
              <a:xfrm>
                <a:off x="1376280" y="3279960"/>
                <a:ext cx="223560" cy="231840"/>
                <a:chOff x="1376280" y="3279960"/>
                <a:chExt cx="223560" cy="231840"/>
              </a:xfrm>
            </p:grpSpPr>
            <p:pic>
              <p:nvPicPr>
                <p:cNvPr id="941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9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2" name=""/>
                <p:cNvSpPr/>
                <p:nvPr/>
              </p:nvSpPr>
              <p:spPr>
                <a:xfrm rot="10800000">
                  <a:off x="1455480" y="3336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43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6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4" name="그룹 90"/>
          <p:cNvGrpSpPr/>
          <p:nvPr/>
        </p:nvGrpSpPr>
        <p:grpSpPr>
          <a:xfrm>
            <a:off x="1155240" y="4214880"/>
            <a:ext cx="7820640" cy="897840"/>
            <a:chOff x="1155240" y="4214880"/>
            <a:chExt cx="7820640" cy="897840"/>
          </a:xfrm>
        </p:grpSpPr>
        <p:grpSp>
          <p:nvGrpSpPr>
            <p:cNvPr id="955" name="그룹 142"/>
            <p:cNvGrpSpPr/>
            <p:nvPr/>
          </p:nvGrpSpPr>
          <p:grpSpPr>
            <a:xfrm>
              <a:off x="1155240" y="4214880"/>
              <a:ext cx="2234520" cy="505440"/>
              <a:chOff x="1155240" y="4214880"/>
              <a:chExt cx="2234520" cy="505440"/>
            </a:xfrm>
          </p:grpSpPr>
          <p:grpSp>
            <p:nvGrpSpPr>
              <p:cNvPr id="956" name="그룹 97"/>
              <p:cNvGrpSpPr/>
              <p:nvPr/>
            </p:nvGrpSpPr>
            <p:grpSpPr>
              <a:xfrm>
                <a:off x="1155240" y="4279680"/>
                <a:ext cx="305640" cy="337320"/>
                <a:chOff x="1155240" y="4279680"/>
                <a:chExt cx="305640" cy="337320"/>
              </a:xfrm>
            </p:grpSpPr>
            <p:pic>
              <p:nvPicPr>
                <p:cNvPr id="957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58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8" name="TextBox 146"/>
                <p:cNvSpPr/>
                <p:nvPr/>
              </p:nvSpPr>
              <p:spPr>
                <a:xfrm>
                  <a:off x="115524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9" name="직사각형 42"/>
              <p:cNvSpPr/>
              <p:nvPr/>
            </p:nvSpPr>
            <p:spPr>
              <a:xfrm>
                <a:off x="1400040" y="4214880"/>
                <a:ext cx="1989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격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ar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0" name="직선 연결선 37"/>
            <p:cNvSpPr/>
            <p:nvPr/>
          </p:nvSpPr>
          <p:spPr>
            <a:xfrm>
              <a:off x="4643640" y="450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1" name="그룹 114"/>
            <p:cNvGrpSpPr/>
            <p:nvPr/>
          </p:nvGrpSpPr>
          <p:grpSpPr>
            <a:xfrm>
              <a:off x="1376280" y="4607280"/>
              <a:ext cx="7599600" cy="505440"/>
              <a:chOff x="1376280" y="4607280"/>
              <a:chExt cx="7599600" cy="505440"/>
            </a:xfrm>
          </p:grpSpPr>
          <p:sp>
            <p:nvSpPr>
              <p:cNvPr id="962" name="직사각형 39"/>
              <p:cNvSpPr/>
              <p:nvPr/>
            </p:nvSpPr>
            <p:spPr>
              <a:xfrm>
                <a:off x="1538640" y="4607280"/>
                <a:ext cx="74372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저원리는 동일하지만 피상적 특성이 다른 장면 사이에 일어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3" name="타원 40"/>
              <p:cNvGrpSpPr/>
              <p:nvPr/>
            </p:nvGrpSpPr>
            <p:grpSpPr>
              <a:xfrm>
                <a:off x="1376280" y="4779360"/>
                <a:ext cx="223560" cy="231840"/>
                <a:chOff x="1376280" y="4779360"/>
                <a:chExt cx="223560" cy="231840"/>
              </a:xfrm>
            </p:grpSpPr>
            <p:pic>
              <p:nvPicPr>
                <p:cNvPr id="964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36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"/>
                <p:cNvSpPr/>
                <p:nvPr/>
              </p:nvSpPr>
              <p:spPr>
                <a:xfrm rot="10800000">
                  <a:off x="1455480" y="4836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그룹 37"/>
          <p:cNvGrpSpPr/>
          <p:nvPr/>
        </p:nvGrpSpPr>
        <p:grpSpPr>
          <a:xfrm>
            <a:off x="285840" y="1928880"/>
            <a:ext cx="8501040" cy="3929040"/>
            <a:chOff x="285840" y="1928880"/>
            <a:chExt cx="8501040" cy="3929040"/>
          </a:xfrm>
        </p:grpSpPr>
        <p:grpSp>
          <p:nvGrpSpPr>
            <p:cNvPr id="967" name="그룹 91"/>
            <p:cNvGrpSpPr/>
            <p:nvPr/>
          </p:nvGrpSpPr>
          <p:grpSpPr>
            <a:xfrm>
              <a:off x="285840" y="2143080"/>
              <a:ext cx="8501040" cy="3714840"/>
              <a:chOff x="285840" y="2143080"/>
              <a:chExt cx="8501040" cy="3714840"/>
            </a:xfrm>
          </p:grpSpPr>
          <p:pic>
            <p:nvPicPr>
              <p:cNvPr id="968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3714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9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971" name="그룹 91"/>
              <p:cNvGrpSpPr/>
              <p:nvPr/>
            </p:nvGrpSpPr>
            <p:grpSpPr>
              <a:xfrm>
                <a:off x="928440" y="1928880"/>
                <a:ext cx="3142080" cy="551160"/>
                <a:chOff x="928440" y="1928880"/>
                <a:chExt cx="3142080" cy="551160"/>
              </a:xfrm>
            </p:grpSpPr>
            <p:grpSp>
              <p:nvGrpSpPr>
                <p:cNvPr id="97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973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7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75" name="직사각형 19"/>
                <p:cNvSpPr/>
                <p:nvPr/>
              </p:nvSpPr>
              <p:spPr>
                <a:xfrm>
                  <a:off x="1864440" y="1928880"/>
                  <a:ext cx="22060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식적 전이와 무의식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6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7" name="그룹 90"/>
          <p:cNvGrpSpPr/>
          <p:nvPr/>
        </p:nvGrpSpPr>
        <p:grpSpPr>
          <a:xfrm>
            <a:off x="1152720" y="2714760"/>
            <a:ext cx="7823160" cy="1171440"/>
            <a:chOff x="1152720" y="2714760"/>
            <a:chExt cx="7823160" cy="1171440"/>
          </a:xfrm>
        </p:grpSpPr>
        <p:grpSp>
          <p:nvGrpSpPr>
            <p:cNvPr id="978" name="그룹 142"/>
            <p:cNvGrpSpPr/>
            <p:nvPr/>
          </p:nvGrpSpPr>
          <p:grpSpPr>
            <a:xfrm>
              <a:off x="1152720" y="2714760"/>
              <a:ext cx="3146040" cy="505440"/>
              <a:chOff x="1152720" y="2714760"/>
              <a:chExt cx="3146040" cy="505440"/>
            </a:xfrm>
          </p:grpSpPr>
          <p:grpSp>
            <p:nvGrpSpPr>
              <p:cNvPr id="979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98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520"/>
                  <a:ext cx="28404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2" name="직사각형 32"/>
              <p:cNvSpPr/>
              <p:nvPr/>
            </p:nvSpPr>
            <p:spPr>
              <a:xfrm>
                <a:off x="1443600" y="2714760"/>
                <a:ext cx="285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high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3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4" name="그룹 114"/>
            <p:cNvGrpSpPr/>
            <p:nvPr/>
          </p:nvGrpSpPr>
          <p:grpSpPr>
            <a:xfrm>
              <a:off x="1376280" y="3106440"/>
              <a:ext cx="7599600" cy="779760"/>
              <a:chOff x="1376280" y="3106440"/>
              <a:chExt cx="7599600" cy="779760"/>
            </a:xfrm>
          </p:grpSpPr>
          <p:sp>
            <p:nvSpPr>
              <p:cNvPr id="985" name="직사각형 28"/>
              <p:cNvSpPr/>
              <p:nvPr/>
            </p:nvSpPr>
            <p:spPr>
              <a:xfrm>
                <a:off x="1538640" y="310644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에서 학습한 것을 새로운 학습에 의식적이고 의도적으로 적용할 때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타원 29"/>
              <p:cNvGrpSpPr/>
              <p:nvPr/>
            </p:nvGrpSpPr>
            <p:grpSpPr>
              <a:xfrm>
                <a:off x="1376280" y="3279240"/>
                <a:ext cx="223560" cy="231480"/>
                <a:chOff x="1376280" y="3279240"/>
                <a:chExt cx="223560" cy="231480"/>
              </a:xfrm>
            </p:grpSpPr>
            <p:pic>
              <p:nvPicPr>
                <p:cNvPr id="987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8" name=""/>
                <p:cNvSpPr/>
                <p:nvPr/>
              </p:nvSpPr>
              <p:spPr>
                <a:xfrm rot="10800000">
                  <a:off x="1455480" y="3334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989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9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2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7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그룹 90"/>
          <p:cNvGrpSpPr/>
          <p:nvPr/>
        </p:nvGrpSpPr>
        <p:grpSpPr>
          <a:xfrm>
            <a:off x="1155600" y="4214880"/>
            <a:ext cx="7820280" cy="1172160"/>
            <a:chOff x="1155600" y="4214880"/>
            <a:chExt cx="7820280" cy="1172160"/>
          </a:xfrm>
        </p:grpSpPr>
        <p:grpSp>
          <p:nvGrpSpPr>
            <p:cNvPr id="1001" name="그룹 142"/>
            <p:cNvGrpSpPr/>
            <p:nvPr/>
          </p:nvGrpSpPr>
          <p:grpSpPr>
            <a:xfrm>
              <a:off x="1155600" y="4214880"/>
              <a:ext cx="3218040" cy="505440"/>
              <a:chOff x="1155600" y="4214880"/>
              <a:chExt cx="3218040" cy="505440"/>
            </a:xfrm>
          </p:grpSpPr>
          <p:grpSp>
            <p:nvGrpSpPr>
              <p:cNvPr id="1002" name="그룹 97"/>
              <p:cNvGrpSpPr/>
              <p:nvPr/>
            </p:nvGrpSpPr>
            <p:grpSpPr>
              <a:xfrm>
                <a:off x="1155600" y="4279680"/>
                <a:ext cx="305640" cy="337320"/>
                <a:chOff x="1155600" y="4279680"/>
                <a:chExt cx="305640" cy="337320"/>
              </a:xfrm>
            </p:grpSpPr>
            <p:pic>
              <p:nvPicPr>
                <p:cNvPr id="100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3279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4" name="TextBox 146"/>
                <p:cNvSpPr/>
                <p:nvPr/>
              </p:nvSpPr>
              <p:spPr>
                <a:xfrm>
                  <a:off x="1155600" y="42796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직사각형 42"/>
              <p:cNvSpPr/>
              <p:nvPr/>
            </p:nvSpPr>
            <p:spPr>
              <a:xfrm>
                <a:off x="1474200" y="4214880"/>
                <a:ext cx="2899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무의식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low-road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6" name="직선 연결선 37"/>
            <p:cNvSpPr/>
            <p:nvPr/>
          </p:nvSpPr>
          <p:spPr>
            <a:xfrm>
              <a:off x="4643640" y="4500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7" name="그룹 114"/>
            <p:cNvGrpSpPr/>
            <p:nvPr/>
          </p:nvGrpSpPr>
          <p:grpSpPr>
            <a:xfrm>
              <a:off x="1376280" y="4607280"/>
              <a:ext cx="7599600" cy="779760"/>
              <a:chOff x="1376280" y="4607280"/>
              <a:chExt cx="7599600" cy="779760"/>
            </a:xfrm>
          </p:grpSpPr>
          <p:sp>
            <p:nvSpPr>
              <p:cNvPr id="1008" name="직사각형 39"/>
              <p:cNvSpPr/>
              <p:nvPr/>
            </p:nvSpPr>
            <p:spPr>
              <a:xfrm>
                <a:off x="1538640" y="4607280"/>
                <a:ext cx="743724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매우 유사한 학습과제의 문제해결에 자동적으로 적용할 경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타나는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타원 40"/>
              <p:cNvGrpSpPr/>
              <p:nvPr/>
            </p:nvGrpSpPr>
            <p:grpSpPr>
              <a:xfrm>
                <a:off x="1376280" y="4779000"/>
                <a:ext cx="223560" cy="231480"/>
                <a:chOff x="1376280" y="4779000"/>
                <a:chExt cx="223560" cy="231480"/>
              </a:xfrm>
            </p:grpSpPr>
            <p:pic>
              <p:nvPicPr>
                <p:cNvPr id="1010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47790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 rot="10800000">
                  <a:off x="1455480" y="4835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2" name="그룹 37"/>
          <p:cNvGrpSpPr/>
          <p:nvPr/>
        </p:nvGrpSpPr>
        <p:grpSpPr>
          <a:xfrm>
            <a:off x="285840" y="1928880"/>
            <a:ext cx="8501040" cy="4500360"/>
            <a:chOff x="285840" y="1928880"/>
            <a:chExt cx="8501040" cy="4500360"/>
          </a:xfrm>
        </p:grpSpPr>
        <p:grpSp>
          <p:nvGrpSpPr>
            <p:cNvPr id="1013" name="그룹 91"/>
            <p:cNvGrpSpPr/>
            <p:nvPr/>
          </p:nvGrpSpPr>
          <p:grpSpPr>
            <a:xfrm>
              <a:off x="285840" y="2143080"/>
              <a:ext cx="8501040" cy="4286160"/>
              <a:chOff x="285840" y="2143080"/>
              <a:chExt cx="8501040" cy="4286160"/>
            </a:xfrm>
          </p:grpSpPr>
          <p:pic>
            <p:nvPicPr>
              <p:cNvPr id="1014" name="Picture 5" descr="233"/>
              <p:cNvPicPr/>
              <p:nvPr/>
            </p:nvPicPr>
            <p:blipFill>
              <a:blip r:embed="rId1"/>
              <a:srcRect l="0" t="0" r="24313" b="0"/>
              <a:stretch/>
            </p:blipFill>
            <p:spPr>
              <a:xfrm>
                <a:off x="285840" y="2143080"/>
                <a:ext cx="8501040" cy="4286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15" name="직사각형 23"/>
              <p:cNvSpPr/>
              <p:nvPr/>
            </p:nvSpPr>
            <p:spPr>
              <a:xfrm>
                <a:off x="1285920" y="238428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6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17" name="그룹 91"/>
              <p:cNvGrpSpPr/>
              <p:nvPr/>
            </p:nvGrpSpPr>
            <p:grpSpPr>
              <a:xfrm>
                <a:off x="928440" y="1928880"/>
                <a:ext cx="2937960" cy="551160"/>
                <a:chOff x="928440" y="1928880"/>
                <a:chExt cx="2937960" cy="551160"/>
              </a:xfrm>
            </p:grpSpPr>
            <p:grpSp>
              <p:nvGrpSpPr>
                <p:cNvPr id="1018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19" name="Picture 177" descr="bull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0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6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1" name="직사각형 19"/>
                <p:cNvSpPr/>
                <p:nvPr/>
              </p:nvSpPr>
              <p:spPr>
                <a:xfrm>
                  <a:off x="1812600" y="1928880"/>
                  <a:ext cx="20538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전향적 전이와 역행적 전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2" name="직선 연결선 17"/>
              <p:cNvSpPr/>
              <p:nvPr/>
            </p:nvSpPr>
            <p:spPr>
              <a:xfrm>
                <a:off x="4786200" y="2214720"/>
                <a:ext cx="3716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3" name="그룹 90"/>
          <p:cNvGrpSpPr/>
          <p:nvPr/>
        </p:nvGrpSpPr>
        <p:grpSpPr>
          <a:xfrm>
            <a:off x="1152720" y="2714760"/>
            <a:ext cx="7823160" cy="2132280"/>
            <a:chOff x="1152720" y="2714760"/>
            <a:chExt cx="7823160" cy="2132280"/>
          </a:xfrm>
        </p:grpSpPr>
        <p:grpSp>
          <p:nvGrpSpPr>
            <p:cNvPr id="1024" name="그룹 142"/>
            <p:cNvGrpSpPr/>
            <p:nvPr/>
          </p:nvGrpSpPr>
          <p:grpSpPr>
            <a:xfrm>
              <a:off x="1152720" y="2714760"/>
              <a:ext cx="3091320" cy="505440"/>
              <a:chOff x="1152720" y="2714760"/>
              <a:chExt cx="3091320" cy="505440"/>
            </a:xfrm>
          </p:grpSpPr>
          <p:grpSp>
            <p:nvGrpSpPr>
              <p:cNvPr id="1025" name="그룹 97"/>
              <p:cNvGrpSpPr/>
              <p:nvPr/>
            </p:nvGrpSpPr>
            <p:grpSpPr>
              <a:xfrm>
                <a:off x="1152720" y="2779560"/>
                <a:ext cx="295200" cy="337320"/>
                <a:chOff x="1152720" y="2779560"/>
                <a:chExt cx="295200" cy="337320"/>
              </a:xfrm>
            </p:grpSpPr>
            <p:pic>
              <p:nvPicPr>
                <p:cNvPr id="1026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158840" y="2828160"/>
                  <a:ext cx="28404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7" name="TextBox 146"/>
                <p:cNvSpPr/>
                <p:nvPr/>
              </p:nvSpPr>
              <p:spPr>
                <a:xfrm>
                  <a:off x="1152720" y="2779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8" name="직사각형 32"/>
              <p:cNvSpPr/>
              <p:nvPr/>
            </p:nvSpPr>
            <p:spPr>
              <a:xfrm>
                <a:off x="1440720" y="2714760"/>
                <a:ext cx="28033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9" name="직선 연결선 26"/>
            <p:cNvSpPr/>
            <p:nvPr/>
          </p:nvSpPr>
          <p:spPr>
            <a:xfrm>
              <a:off x="4643640" y="300024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그룹 114"/>
            <p:cNvGrpSpPr/>
            <p:nvPr/>
          </p:nvGrpSpPr>
          <p:grpSpPr>
            <a:xfrm>
              <a:off x="1376280" y="3107160"/>
              <a:ext cx="7599600" cy="1739880"/>
              <a:chOff x="1376280" y="3107160"/>
              <a:chExt cx="7599600" cy="1739880"/>
            </a:xfrm>
          </p:grpSpPr>
          <p:sp>
            <p:nvSpPr>
              <p:cNvPr id="1031" name="직사각형 28"/>
              <p:cNvSpPr/>
              <p:nvPr/>
            </p:nvSpPr>
            <p:spPr>
              <a:xfrm>
                <a:off x="1538640" y="3107160"/>
                <a:ext cx="74372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학습이 후속학습에 영향을 미치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정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향적 부적 전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2" name="타원 29"/>
              <p:cNvGrpSpPr/>
              <p:nvPr/>
            </p:nvGrpSpPr>
            <p:grpSpPr>
              <a:xfrm>
                <a:off x="1376280" y="3279600"/>
                <a:ext cx="223560" cy="231480"/>
                <a:chOff x="1376280" y="3279600"/>
                <a:chExt cx="223560" cy="231480"/>
              </a:xfrm>
            </p:grpSpPr>
            <p:pic>
              <p:nvPicPr>
                <p:cNvPr id="1033" name="타원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376280" y="327960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"/>
                <p:cNvSpPr/>
                <p:nvPr/>
              </p:nvSpPr>
              <p:spPr>
                <a:xfrm rot="10800000">
                  <a:off x="1455480" y="3335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1035" name="TextBox 12" descr=""/>
          <p:cNvPicPr/>
          <p:nvPr/>
        </p:nvPicPr>
        <p:blipFill>
          <a:blip r:embed="rId5"/>
          <a:stretch/>
        </p:blipFill>
        <p:spPr>
          <a:xfrm>
            <a:off x="7527960" y="506520"/>
            <a:ext cx="151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3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3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8" name="직사각형 13"/>
              <p:cNvSpPr/>
              <p:nvPr/>
            </p:nvSpPr>
            <p:spPr>
              <a:xfrm>
                <a:off x="1295640" y="1385640"/>
                <a:ext cx="212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transfer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4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그룹 90"/>
          <p:cNvGrpSpPr/>
          <p:nvPr/>
        </p:nvGrpSpPr>
        <p:grpSpPr>
          <a:xfrm>
            <a:off x="1155600" y="4640400"/>
            <a:ext cx="7820280" cy="1309320"/>
            <a:chOff x="1155600" y="4640400"/>
            <a:chExt cx="7820280" cy="1309320"/>
          </a:xfrm>
        </p:grpSpPr>
        <p:grpSp>
          <p:nvGrpSpPr>
            <p:cNvPr id="1047" name="그룹 142"/>
            <p:cNvGrpSpPr/>
            <p:nvPr/>
          </p:nvGrpSpPr>
          <p:grpSpPr>
            <a:xfrm>
              <a:off x="1155600" y="4640400"/>
              <a:ext cx="3226320" cy="505440"/>
              <a:chOff x="1155600" y="4640400"/>
              <a:chExt cx="3226320" cy="505440"/>
            </a:xfrm>
          </p:grpSpPr>
          <p:grpSp>
            <p:nvGrpSpPr>
              <p:cNvPr id="1048" name="그룹 97"/>
              <p:cNvGrpSpPr/>
              <p:nvPr/>
            </p:nvGrpSpPr>
            <p:grpSpPr>
              <a:xfrm>
                <a:off x="1155600" y="4705200"/>
                <a:ext cx="305640" cy="337320"/>
                <a:chOff x="1155600" y="4705200"/>
                <a:chExt cx="305640" cy="337320"/>
              </a:xfrm>
            </p:grpSpPr>
            <p:pic>
              <p:nvPicPr>
                <p:cNvPr id="104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158840" y="4754520"/>
                  <a:ext cx="286200" cy="2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0" name="TextBox 146"/>
                <p:cNvSpPr/>
                <p:nvPr/>
              </p:nvSpPr>
              <p:spPr>
                <a:xfrm>
                  <a:off x="1155600" y="4705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직사각형 42"/>
              <p:cNvSpPr/>
              <p:nvPr/>
            </p:nvSpPr>
            <p:spPr>
              <a:xfrm>
                <a:off x="1432440" y="4640400"/>
                <a:ext cx="29494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역행적 전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troactive transf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2" name="직선 연결선 37"/>
            <p:cNvSpPr/>
            <p:nvPr/>
          </p:nvSpPr>
          <p:spPr>
            <a:xfrm>
              <a:off x="4643640" y="49258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3" name="그룹 114"/>
            <p:cNvGrpSpPr/>
            <p:nvPr/>
          </p:nvGrpSpPr>
          <p:grpSpPr>
            <a:xfrm>
              <a:off x="1376280" y="5032800"/>
              <a:ext cx="7599600" cy="916920"/>
              <a:chOff x="1376280" y="5032800"/>
              <a:chExt cx="7599600" cy="916920"/>
            </a:xfrm>
          </p:grpSpPr>
          <p:sp>
            <p:nvSpPr>
              <p:cNvPr id="1054" name="직사각형 39"/>
              <p:cNvSpPr/>
              <p:nvPr/>
            </p:nvSpPr>
            <p:spPr>
              <a:xfrm>
                <a:off x="1538640" y="5032800"/>
                <a:ext cx="74372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의 학습활동이 과거에 학습한 활동을 이해하는 데 영향을 주는 현상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오늘 신문에서 읽은 내용으로 어제 수업 내용을 더 정확하게 이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5" name="타원 40"/>
              <p:cNvGrpSpPr/>
              <p:nvPr/>
            </p:nvGrpSpPr>
            <p:grpSpPr>
              <a:xfrm>
                <a:off x="1376280" y="5205960"/>
                <a:ext cx="223560" cy="231480"/>
                <a:chOff x="1376280" y="5205960"/>
                <a:chExt cx="223560" cy="231480"/>
              </a:xfrm>
            </p:grpSpPr>
            <p:pic>
              <p:nvPicPr>
                <p:cNvPr id="1056" name="타원 4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6280" y="520596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7" name=""/>
                <p:cNvSpPr/>
                <p:nvPr/>
              </p:nvSpPr>
              <p:spPr>
                <a:xfrm rot="10800000">
                  <a:off x="1455480" y="52614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59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106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61" name="직사각형 13"/>
              <p:cNvSpPr/>
              <p:nvPr/>
            </p:nvSpPr>
            <p:spPr>
              <a:xfrm>
                <a:off x="143676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해결의 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6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6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8" name="TextBox 88"/>
            <p:cNvSpPr/>
            <p:nvPr/>
          </p:nvSpPr>
          <p:spPr>
            <a:xfrm>
              <a:off x="67860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9" name="Picture 5" descr="233"/>
          <p:cNvPicPr/>
          <p:nvPr/>
        </p:nvPicPr>
        <p:blipFill>
          <a:blip r:embed="rId3"/>
          <a:srcRect l="2544" t="0" r="24313" b="0"/>
          <a:stretch/>
        </p:blipFill>
        <p:spPr>
          <a:xfrm>
            <a:off x="714240" y="2286000"/>
            <a:ext cx="8072640" cy="350028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1070" name="그룹 13"/>
          <p:cNvGrpSpPr/>
          <p:nvPr/>
        </p:nvGrpSpPr>
        <p:grpSpPr>
          <a:xfrm>
            <a:off x="1071720" y="2308320"/>
            <a:ext cx="8072280" cy="2151360"/>
            <a:chOff x="1071720" y="2308320"/>
            <a:chExt cx="8072280" cy="2151360"/>
          </a:xfrm>
        </p:grpSpPr>
        <p:sp>
          <p:nvSpPr>
            <p:cNvPr id="1071" name="직사각형 51"/>
            <p:cNvSpPr/>
            <p:nvPr/>
          </p:nvSpPr>
          <p:spPr>
            <a:xfrm>
              <a:off x="1285920" y="247788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직사각형 40"/>
            <p:cNvSpPr/>
            <p:nvPr/>
          </p:nvSpPr>
          <p:spPr>
            <a:xfrm>
              <a:off x="1071720" y="2308320"/>
              <a:ext cx="80722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태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간의 격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1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에 제시된 조건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2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을 통해 달성하려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(3)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 혹은 경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에 도달하려는 인지적 조작 혹은 활동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problem-solving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상태를 바람직한 상태로 바꾸는 과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3" name="타원 41"/>
            <p:cNvGrpSpPr/>
            <p:nvPr/>
          </p:nvGrpSpPr>
          <p:grpSpPr>
            <a:xfrm>
              <a:off x="1072800" y="2383560"/>
              <a:ext cx="231480" cy="237600"/>
              <a:chOff x="1072800" y="2383560"/>
              <a:chExt cx="231480" cy="237600"/>
            </a:xfrm>
          </p:grpSpPr>
          <p:pic>
            <p:nvPicPr>
              <p:cNvPr id="1074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1072800" y="23835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5" name=""/>
              <p:cNvSpPr/>
              <p:nvPr/>
            </p:nvSpPr>
            <p:spPr>
              <a:xfrm rot="10800000">
                <a:off x="1157040" y="24429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6" name="타원 52"/>
            <p:cNvGrpSpPr/>
            <p:nvPr/>
          </p:nvGrpSpPr>
          <p:grpSpPr>
            <a:xfrm>
              <a:off x="1072800" y="4072680"/>
              <a:ext cx="231480" cy="231480"/>
              <a:chOff x="1072800" y="4072680"/>
              <a:chExt cx="231480" cy="231480"/>
            </a:xfrm>
          </p:grpSpPr>
          <p:pic>
            <p:nvPicPr>
              <p:cNvPr id="1077" name="타원 52" descr=""/>
              <p:cNvPicPr/>
              <p:nvPr/>
            </p:nvPicPr>
            <p:blipFill>
              <a:blip r:embed="rId5"/>
              <a:stretch/>
            </p:blipFill>
            <p:spPr>
              <a:xfrm>
                <a:off x="1072800" y="40726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8" name=""/>
              <p:cNvSpPr/>
              <p:nvPr/>
            </p:nvSpPr>
            <p:spPr>
              <a:xfrm rot="10800000">
                <a:off x="1157040" y="413100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9" name="그룹 56"/>
          <p:cNvGrpSpPr/>
          <p:nvPr/>
        </p:nvGrpSpPr>
        <p:grpSpPr>
          <a:xfrm>
            <a:off x="2286000" y="4786200"/>
            <a:ext cx="4572000" cy="571680"/>
            <a:chOff x="2286000" y="4786200"/>
            <a:chExt cx="4572000" cy="571680"/>
          </a:xfrm>
        </p:grpSpPr>
        <p:grpSp>
          <p:nvGrpSpPr>
            <p:cNvPr id="1080" name="모서리가 둥근 직사각형 53"/>
            <p:cNvGrpSpPr/>
            <p:nvPr/>
          </p:nvGrpSpPr>
          <p:grpSpPr>
            <a:xfrm>
              <a:off x="2286000" y="4786200"/>
              <a:ext cx="1728360" cy="571680"/>
              <a:chOff x="2286000" y="4786200"/>
              <a:chExt cx="1728360" cy="571680"/>
            </a:xfrm>
          </p:grpSpPr>
          <p:pic>
            <p:nvPicPr>
              <p:cNvPr id="1081" name="모서리가 둥근 직사각형 5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>
                <a:off x="243360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재 상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모서리가 둥근 직사각형 54"/>
            <p:cNvGrpSpPr/>
            <p:nvPr/>
          </p:nvGrpSpPr>
          <p:grpSpPr>
            <a:xfrm>
              <a:off x="5129640" y="4786200"/>
              <a:ext cx="1728360" cy="571680"/>
              <a:chOff x="5129640" y="4786200"/>
              <a:chExt cx="1728360" cy="571680"/>
            </a:xfrm>
          </p:grpSpPr>
          <p:pic>
            <p:nvPicPr>
              <p:cNvPr id="1084" name="모서리가 둥근 직사각형 5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29640" y="4786200"/>
                <a:ext cx="1728360" cy="571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>
                <a:off x="5278320" y="4886640"/>
                <a:ext cx="1437480" cy="35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오른쪽 화살표 55"/>
            <p:cNvGrpSpPr/>
            <p:nvPr/>
          </p:nvGrpSpPr>
          <p:grpSpPr>
            <a:xfrm>
              <a:off x="4239720" y="4947120"/>
              <a:ext cx="739800" cy="254160"/>
              <a:chOff x="4239720" y="4947120"/>
              <a:chExt cx="739800" cy="254160"/>
            </a:xfrm>
          </p:grpSpPr>
          <p:pic>
            <p:nvPicPr>
              <p:cNvPr id="1087" name="오른쪽 화살표 55" descr=""/>
              <p:cNvPicPr/>
              <p:nvPr/>
            </p:nvPicPr>
            <p:blipFill>
              <a:blip r:embed="rId8"/>
              <a:stretch/>
            </p:blipFill>
            <p:spPr>
              <a:xfrm>
                <a:off x="4239720" y="4947120"/>
                <a:ext cx="739800" cy="25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8" name=""/>
              <p:cNvSpPr/>
              <p:nvPr/>
            </p:nvSpPr>
            <p:spPr>
              <a:xfrm>
                <a:off x="4303800" y="5016960"/>
                <a:ext cx="55872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9" name="TextBox 9" descr=""/>
          <p:cNvPicPr/>
          <p:nvPr/>
        </p:nvPicPr>
        <p:blipFill>
          <a:blip r:embed="rId1"/>
          <a:stretch/>
        </p:blipFill>
        <p:spPr>
          <a:xfrm>
            <a:off x="6576840" y="506520"/>
            <a:ext cx="232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90" name="그룹 26"/>
          <p:cNvGrpSpPr/>
          <p:nvPr/>
        </p:nvGrpSpPr>
        <p:grpSpPr>
          <a:xfrm>
            <a:off x="928800" y="1895400"/>
            <a:ext cx="7505640" cy="4415040"/>
            <a:chOff x="928800" y="1895400"/>
            <a:chExt cx="7505640" cy="4415040"/>
          </a:xfrm>
        </p:grpSpPr>
        <p:sp>
          <p:nvSpPr>
            <p:cNvPr id="1091" name="AutoShape 4"/>
            <p:cNvSpPr/>
            <p:nvPr/>
          </p:nvSpPr>
          <p:spPr>
            <a:xfrm>
              <a:off x="5639040" y="364320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ef2cc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Text Box 5"/>
            <p:cNvSpPr/>
            <p:nvPr/>
          </p:nvSpPr>
          <p:spPr>
            <a:xfrm>
              <a:off x="5943600" y="368064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AutoShape 6"/>
            <p:cNvSpPr/>
            <p:nvPr/>
          </p:nvSpPr>
          <p:spPr>
            <a:xfrm>
              <a:off x="928800" y="3619440"/>
              <a:ext cx="2728800" cy="2667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c9e4ff"/>
                </a:gs>
              </a:gsLst>
              <a:lin ang="2700000"/>
            </a:gradFill>
            <a:ln w="38160">
              <a:solidFill>
                <a:srgbClr val="969696"/>
              </a:solidFill>
              <a:miter/>
            </a:ln>
            <a:effectLst>
              <a:outerShdw dist="91658" dir="338234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7"/>
            <p:cNvSpPr/>
            <p:nvPr/>
          </p:nvSpPr>
          <p:spPr>
            <a:xfrm>
              <a:off x="1214280" y="3702600"/>
              <a:ext cx="203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조화 문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AutoShape 8"/>
            <p:cNvSpPr/>
            <p:nvPr/>
          </p:nvSpPr>
          <p:spPr>
            <a:xfrm>
              <a:off x="3451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9"/>
            <p:cNvSpPr/>
            <p:nvPr/>
          </p:nvSpPr>
          <p:spPr>
            <a:xfrm>
              <a:off x="345132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aedfe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AutoShape 10"/>
            <p:cNvSpPr/>
            <p:nvPr/>
          </p:nvSpPr>
          <p:spPr>
            <a:xfrm flipH="1">
              <a:off x="4945320" y="3519360"/>
              <a:ext cx="909360" cy="12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1"/>
            <p:cNvSpPr/>
            <p:nvPr/>
          </p:nvSpPr>
          <p:spPr>
            <a:xfrm flipH="1">
              <a:off x="4928400" y="3522600"/>
              <a:ext cx="903240" cy="1241280"/>
            </a:xfrm>
            <a:prstGeom prst="pie">
              <a:avLst/>
            </a:prstGeom>
            <a:gradFill rotWithShape="0">
              <a:gsLst>
                <a:gs pos="0">
                  <a:srgbClr val="ff9966"/>
                </a:gs>
                <a:gs pos="100000">
                  <a:srgbClr val="ffdfc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9" name="Group 12"/>
            <p:cNvGrpSpPr/>
            <p:nvPr/>
          </p:nvGrpSpPr>
          <p:grpSpPr>
            <a:xfrm>
              <a:off x="3170160" y="1895400"/>
              <a:ext cx="2998440" cy="1600920"/>
              <a:chOff x="3170160" y="1895400"/>
              <a:chExt cx="2998440" cy="1600920"/>
            </a:xfrm>
          </p:grpSpPr>
          <p:grpSp>
            <p:nvGrpSpPr>
              <p:cNvPr id="1100" name="Group 13"/>
              <p:cNvGrpSpPr/>
              <p:nvPr/>
            </p:nvGrpSpPr>
            <p:grpSpPr>
              <a:xfrm>
                <a:off x="3170160" y="2037960"/>
                <a:ext cx="2998440" cy="1458360"/>
                <a:chOff x="3170160" y="2037960"/>
                <a:chExt cx="2998440" cy="1458360"/>
              </a:xfrm>
            </p:grpSpPr>
            <p:sp>
              <p:nvSpPr>
                <p:cNvPr id="1101" name="Oval 14"/>
                <p:cNvSpPr/>
                <p:nvPr/>
              </p:nvSpPr>
              <p:spPr>
                <a:xfrm>
                  <a:off x="3202920" y="208440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04882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Oval 15"/>
                <p:cNvSpPr/>
                <p:nvPr/>
              </p:nvSpPr>
              <p:spPr>
                <a:xfrm>
                  <a:off x="3170160" y="2037960"/>
                  <a:ext cx="2965680" cy="1411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5c0e9"/>
                    </a:gs>
                    <a:gs pos="100000">
                      <a:srgbClr val="3371cd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3" name="Oval 16"/>
              <p:cNvSpPr/>
              <p:nvPr/>
            </p:nvSpPr>
            <p:spPr>
              <a:xfrm>
                <a:off x="3311640" y="189540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6a583b"/>
                  </a:gs>
                  <a:gs pos="100000">
                    <a:srgbClr val="e6bf8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Oval 17"/>
              <p:cNvSpPr/>
              <p:nvPr/>
            </p:nvSpPr>
            <p:spPr>
              <a:xfrm>
                <a:off x="3346560" y="1902960"/>
                <a:ext cx="2619360" cy="1307880"/>
              </a:xfrm>
              <a:prstGeom prst="ellipse">
                <a:avLst/>
              </a:prstGeom>
              <a:gradFill rotWithShape="0">
                <a:gsLst>
                  <a:gs pos="0">
                    <a:srgbClr val="e6bf80">
                      <a:alpha val="0"/>
                    </a:srgbClr>
                  </a:gs>
                  <a:gs pos="100000">
                    <a:srgbClr val="f6e9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Oval 18"/>
              <p:cNvSpPr/>
              <p:nvPr/>
            </p:nvSpPr>
            <p:spPr>
              <a:xfrm>
                <a:off x="3373560" y="1915920"/>
                <a:ext cx="2492280" cy="1221840"/>
              </a:xfrm>
              <a:prstGeom prst="ellipse">
                <a:avLst/>
              </a:prstGeom>
              <a:gradFill rotWithShape="0">
                <a:gsLst>
                  <a:gs pos="0">
                    <a:srgbClr val="b69765"/>
                  </a:gs>
                  <a:gs pos="100000">
                    <a:srgbClr val="e6bf80">
                      <a:alpha val="48235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Oval 19"/>
              <p:cNvSpPr/>
              <p:nvPr/>
            </p:nvSpPr>
            <p:spPr>
              <a:xfrm>
                <a:off x="3505320" y="1942920"/>
                <a:ext cx="2193840" cy="99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6bf80">
                      <a:alpha val="38039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7" name="Text Box 20"/>
            <p:cNvSpPr/>
            <p:nvPr/>
          </p:nvSpPr>
          <p:spPr>
            <a:xfrm>
              <a:off x="4082400" y="226224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의 종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Text Box 7"/>
            <p:cNvSpPr/>
            <p:nvPr/>
          </p:nvSpPr>
          <p:spPr>
            <a:xfrm>
              <a:off x="113796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분명히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모두 존재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Text Box 7"/>
            <p:cNvSpPr/>
            <p:nvPr/>
          </p:nvSpPr>
          <p:spPr>
            <a:xfrm>
              <a:off x="5857920" y="4401360"/>
              <a:ext cx="2576520" cy="11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답이 모호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에 필요한 정보가 부족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제해결책이 분명하지 않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0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2" name="직사각형 13"/>
              <p:cNvSpPr/>
              <p:nvPr/>
            </p:nvSpPr>
            <p:spPr>
              <a:xfrm>
                <a:off x="13323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문제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9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타원 40"/>
          <p:cNvGrpSpPr/>
          <p:nvPr/>
        </p:nvGrpSpPr>
        <p:grpSpPr>
          <a:xfrm>
            <a:off x="987480" y="4486320"/>
            <a:ext cx="201600" cy="208080"/>
            <a:chOff x="987480" y="4486320"/>
            <a:chExt cx="201600" cy="208080"/>
          </a:xfrm>
        </p:grpSpPr>
        <p:pic>
          <p:nvPicPr>
            <p:cNvPr id="1121" name="타원 40" descr=""/>
            <p:cNvPicPr/>
            <p:nvPr/>
          </p:nvPicPr>
          <p:blipFill>
            <a:blip r:embed="rId3"/>
            <a:stretch/>
          </p:blipFill>
          <p:spPr>
            <a:xfrm>
              <a:off x="987480" y="448632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 rot="10800000">
              <a:off x="1068120" y="454140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타원 41"/>
          <p:cNvGrpSpPr/>
          <p:nvPr/>
        </p:nvGrpSpPr>
        <p:grpSpPr>
          <a:xfrm>
            <a:off x="987480" y="4883040"/>
            <a:ext cx="201600" cy="206640"/>
            <a:chOff x="987480" y="4883040"/>
            <a:chExt cx="201600" cy="206640"/>
          </a:xfrm>
        </p:grpSpPr>
        <p:pic>
          <p:nvPicPr>
            <p:cNvPr id="1124" name="타원 41" descr=""/>
            <p:cNvPicPr/>
            <p:nvPr/>
          </p:nvPicPr>
          <p:blipFill>
            <a:blip r:embed="rId4"/>
            <a:stretch/>
          </p:blipFill>
          <p:spPr>
            <a:xfrm>
              <a:off x="98748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5" name=""/>
            <p:cNvSpPr/>
            <p:nvPr/>
          </p:nvSpPr>
          <p:spPr>
            <a:xfrm rot="10800000">
              <a:off x="1068120" y="493848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타원 42"/>
          <p:cNvGrpSpPr/>
          <p:nvPr/>
        </p:nvGrpSpPr>
        <p:grpSpPr>
          <a:xfrm>
            <a:off x="987480" y="5529240"/>
            <a:ext cx="201600" cy="206280"/>
            <a:chOff x="987480" y="5529240"/>
            <a:chExt cx="201600" cy="206280"/>
          </a:xfrm>
        </p:grpSpPr>
        <p:pic>
          <p:nvPicPr>
            <p:cNvPr id="1127" name="타원 42" descr=""/>
            <p:cNvPicPr/>
            <p:nvPr/>
          </p:nvPicPr>
          <p:blipFill>
            <a:blip r:embed="rId5"/>
            <a:stretch/>
          </p:blipFill>
          <p:spPr>
            <a:xfrm>
              <a:off x="987480" y="5529240"/>
              <a:ext cx="2016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8" name=""/>
            <p:cNvSpPr/>
            <p:nvPr/>
          </p:nvSpPr>
          <p:spPr>
            <a:xfrm rot="10800000">
              <a:off x="1068120" y="55814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타원 43"/>
          <p:cNvGrpSpPr/>
          <p:nvPr/>
        </p:nvGrpSpPr>
        <p:grpSpPr>
          <a:xfrm>
            <a:off x="5718240" y="5522760"/>
            <a:ext cx="201600" cy="208080"/>
            <a:chOff x="5718240" y="5522760"/>
            <a:chExt cx="201600" cy="208080"/>
          </a:xfrm>
        </p:grpSpPr>
        <p:pic>
          <p:nvPicPr>
            <p:cNvPr id="1130" name="타원 43" descr=""/>
            <p:cNvPicPr/>
            <p:nvPr/>
          </p:nvPicPr>
          <p:blipFill>
            <a:blip r:embed="rId6"/>
            <a:stretch/>
          </p:blipFill>
          <p:spPr>
            <a:xfrm>
              <a:off x="5718240" y="5522760"/>
              <a:ext cx="20160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"/>
            <p:cNvSpPr/>
            <p:nvPr/>
          </p:nvSpPr>
          <p:spPr>
            <a:xfrm rot="10800000">
              <a:off x="5795640" y="557676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2" name="타원 44"/>
          <p:cNvGrpSpPr/>
          <p:nvPr/>
        </p:nvGrpSpPr>
        <p:grpSpPr>
          <a:xfrm>
            <a:off x="5718240" y="4883040"/>
            <a:ext cx="201600" cy="206640"/>
            <a:chOff x="5718240" y="4883040"/>
            <a:chExt cx="201600" cy="206640"/>
          </a:xfrm>
        </p:grpSpPr>
        <p:pic>
          <p:nvPicPr>
            <p:cNvPr id="1133" name="타원 44" descr=""/>
            <p:cNvPicPr/>
            <p:nvPr/>
          </p:nvPicPr>
          <p:blipFill>
            <a:blip r:embed="rId7"/>
            <a:stretch/>
          </p:blipFill>
          <p:spPr>
            <a:xfrm>
              <a:off x="5718240" y="4883040"/>
              <a:ext cx="20160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 rot="10800000">
              <a:off x="5795640" y="4933800"/>
              <a:ext cx="50760" cy="5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5" name="타원 45"/>
          <p:cNvGrpSpPr/>
          <p:nvPr/>
        </p:nvGrpSpPr>
        <p:grpSpPr>
          <a:xfrm>
            <a:off x="5718240" y="4492800"/>
            <a:ext cx="201600" cy="207720"/>
            <a:chOff x="5718240" y="4492800"/>
            <a:chExt cx="201600" cy="207720"/>
          </a:xfrm>
        </p:grpSpPr>
        <p:pic>
          <p:nvPicPr>
            <p:cNvPr id="1136" name="타원 45" descr=""/>
            <p:cNvPicPr/>
            <p:nvPr/>
          </p:nvPicPr>
          <p:blipFill>
            <a:blip r:embed="rId8"/>
            <a:stretch/>
          </p:blipFill>
          <p:spPr>
            <a:xfrm>
              <a:off x="5718240" y="4492800"/>
              <a:ext cx="201600" cy="2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 rot="10800000">
              <a:off x="5795640" y="4544640"/>
              <a:ext cx="5076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직선 연결선 47"/>
          <p:cNvSpPr/>
          <p:nvPr/>
        </p:nvSpPr>
        <p:spPr>
          <a:xfrm>
            <a:off x="114300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직선 연결선 50"/>
          <p:cNvSpPr/>
          <p:nvPr/>
        </p:nvSpPr>
        <p:spPr>
          <a:xfrm>
            <a:off x="5857920" y="4116240"/>
            <a:ext cx="22860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1:00:20Z</dcterms:modified>
  <cp:revision>403</cp:revision>
  <dc:subject/>
  <dc:title>PowerPoint Template</dc:title>
</cp:coreProperties>
</file>