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1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FA8B-3E4C-4409-97C5-A711E179D1FC}" type="slidenum">
              <a:rPr b="0" lang="ko-K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8CF-86EE-4AF8-A0B7-BA56B14B3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7F72-FB8E-493C-AEA9-BE6ACFD0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CE02C-0543-458B-BFD6-C34AA05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C1BC7-D7C1-4467-9374-3B5F32D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98806-832E-4168-BFAB-8F799C6A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D58AAF-D96B-4609-89FB-B38301B09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59A87-BB43-4707-B4A2-51A29191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305DE-5C42-4576-8367-A793E14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FD716-44DE-4462-9CE0-E1777948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E26AE-A618-449A-AFCD-75BD20E50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F93A5-CBB1-4410-9FBC-5171AD2C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57B7A-4BD2-40AC-B040-D7A79132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51C-82AD-4B8F-82A4-706438B5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FAF81-0EAD-4BE2-94E3-0C81C17A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F0351D-F1A9-4709-97F5-75A20F5C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DB564-8ABC-42A9-9909-BC66F7503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DE7A25-0858-49C0-B302-8666F08D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82973-EEFD-4651-AE94-142B771E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AE390-2CD7-44DE-8D76-73C0BCCA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F442A-3474-4502-9A9E-0833F47B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5CB16-6C49-4019-A26F-06B7C4CE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CC4C17-5769-4A63-BA33-58B7FDD3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B5822B-9DAD-4510-9C43-37CFA73EF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88BD-5C8C-46EF-9749-323AC86A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6F58-B700-4618-A770-81D2A523B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235A1-4D7C-4CF3-B4FF-A6F44A50D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14ED7-9778-42CF-A5F3-CC8929A6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AFA04-5DF2-4E20-9EBC-7A42649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C8965-F56E-45F4-82B1-3CD1440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37352-E5F9-4CE1-A7AC-FFAF7C7D8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B9C4D-E827-4FC8-AD4C-160AF5F7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DF7B4-D6E0-4704-9EF5-F1B9F76D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B1775A-A886-4107-8852-397A630E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FFCED-8497-4C82-95EC-4E42F360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8BF0-8067-46BA-9892-D0258DE7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C53B8-CE8D-4FC6-874F-9F4916A13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BB827B-C8DB-4D3C-BCDE-CCDF22DE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62A34-B40B-4DDA-A259-0FB7313A1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53354-4DA6-47FD-9876-23CEB333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EE6BF1-1210-40C1-886A-E4C5AE234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419314-9DA9-47F4-A293-D87A70F5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8C306-FEA1-412F-8B02-FE338C37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E1E62B-E87A-4C93-B0E8-22C5A4B4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3B70C-53FC-4980-8FDB-F55FD34E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D83F5E-1C22-4D4F-928A-75F413953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36CF-7BA6-4C57-9B0A-EED96BDBD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CF89CD-E7BA-469D-9D9F-C7CE8E4F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CC898-4829-4EDE-9D30-ECBC4695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B8A6F-D860-4A27-A24F-2B6B89818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A4C71-A86E-4F0C-80CE-351035567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A297F6-436D-415B-9277-CD6ECC234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B07FF9-429D-48E6-AD0D-446D2D40B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35A764-3EC3-4C13-AE55-CDAE9732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0291D6-9C89-4667-99EA-C4010589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EFCC6A-6180-444B-B3DA-15CE6EF37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EF4284-5860-4560-916B-C30FD290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B75E-47D1-40F0-8624-3BB9BEB2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8B7E58-17DB-483D-9096-422201C2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88F8A3D-5ABD-41D1-A6BD-EE708D4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4B5A60-8F36-459A-ADCB-01D3B05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C032417-74EA-4334-AC06-B25FCCA2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B524A7-D9DD-481A-A96A-93297AE33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96A70-FA04-49B0-868A-37F555F2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D01B9C-3592-4301-A277-A2BB290FE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A460B-802C-4513-B9C2-E75F7A21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445-B88E-4FFD-A78B-69F10052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F4AE-E2BA-4D75-B09F-EE0397444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A7E4F-593B-4FD5-8C0C-767D56C6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255F-D0E9-497A-AFB2-3114FAF7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5597-A975-4AC2-96FA-87F82AC0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CBFA-ECDD-43BE-895C-673C97BB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D1C3-AD7B-43D6-8AB2-E84E843D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FDAF-8303-4126-BDEA-B37B53B62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977-948B-4C5F-9DF9-FB4F6E40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1362-4070-490E-9321-60C348BD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C2AE-B6C3-447B-B3C9-7CF11D87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8F2B-47BB-48D7-BBC8-3F676B91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1EF16-3649-4378-8F6B-965A11A8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6044A-4F3E-4AA4-A767-3C35D643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50A-EDFF-483E-BC4B-52A07108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6D10F-F853-4FEC-96E7-3CA93A8C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F5B8-FE77-44BB-BBD0-05F19C11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603F-2EC6-4219-BF95-54B2607F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17725-0188-4D39-A517-17D570A1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2DE3-9956-47BA-804D-E1214C90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A4E6B-C729-4C64-AF2A-8CCC3AB2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310C-FAC8-4AA5-ACA1-BC3C65CA3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50EB0-B5EB-47F1-91B5-71685E4E6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ACDDE-DEF9-4667-953F-54042DE1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597C9-C682-474A-9AD6-3658064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3A9-0FF5-42B6-95E5-5844A283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488FA-FBA2-49A6-9877-B0A4D093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B78B-7795-4DCA-9DC3-1A254DDF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461AE-FC2B-4978-B7A4-479194D0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1815B-992D-4847-BE82-A28BFBA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85092-9818-438D-BC2C-4D222C78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4DCD5-62A9-4BEF-B818-2C633738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C3AEB6-F341-4770-A154-7885E4F85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7744-75F0-423A-B3BC-1D875CD5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B5AC8-BBF9-470D-9430-6E207D34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B2474-7E18-458E-8283-35AEC0103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EBC0-51D8-47EA-A88C-3C5EE891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00E8B-B1FC-4394-BF32-953A1223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1911-8A6A-4E25-BEE0-11DEDC3F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CF2F8-6A07-4840-A46B-10133FA3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64C0-8A22-40CC-9395-49934D66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567A8-3818-45D0-863A-DE324B65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2FCD9-BB1C-478C-8059-EEF48D6B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5EBC7-C82C-4A07-A5D4-3655B104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A197-D31E-4FA2-9E1F-402C75D4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A41CC-7C91-45A9-AB2B-B2DD5CB15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864F-7B81-449D-96EE-8AD46862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F13-A92F-4851-9FB6-20CA8118B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D4F61-2F79-4523-A7B4-682D18E12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65B88-0B6F-4F40-87CB-4A3DEDABE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EBBB0A-68C3-4104-9055-BF8B1B0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B8B057-FE7A-45B9-94F6-A6F88AAE5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66C644-F6ED-41A1-96FF-B4CC2B96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2AB60-4A7C-48D1-BE32-365F35C1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76332D-8299-425E-BEB3-E0293EA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8ECB6-FF2B-49F6-B3D3-ECCDD9B8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E4D1B8-D4BC-4DE6-BB49-1211A326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82A094-F46A-408D-A0E3-7F39C740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3915-03FC-412D-A220-654D2454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83146-0C34-40B1-ACE3-5488E6F1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4AAAA8-0C18-4CDA-ABA6-74EEBFCE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DA9766-6B98-4052-B6F4-48917C4D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D9E814-5E0F-419F-9A21-84E326425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37878-3099-4F29-9288-E01D0235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980E-F92C-4486-963A-5C4872B3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CCD0A-8560-4A45-89F0-ACFB0AB4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6EC99-D738-4BE0-8D4B-51A4121D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9A30D-3BCE-42B2-AC36-B861DFC0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EB34C-F685-4DD9-A540-23475992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AAC-E9F0-4EB7-BE09-D4C2D38F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0676E-84F0-4287-B9BE-F160583B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30105-D6F3-420E-8635-7B970CF0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66C22-D72A-4DC5-8933-2ADDF52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9A75D5-6C7D-42ED-BBAA-B5E7BE94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C051B-C42F-49EC-A9F3-235B24E7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B809D-AC9A-4CCC-98D7-F29BA8C2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FFE9B-E621-4090-BCE8-4B229B45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C96C4-3FCE-4A62-84C8-438EBE2A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61680-BEFB-463E-9B8B-C2F6F573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6F35-D9D9-4707-8EAE-F4CF1054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4F9-299E-4276-966E-9259D96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309AB-4F5F-4E5B-801F-9A911C567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F741-98D6-4864-8867-7851C4C2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49A7E6-50A6-4EB2-985B-48173EA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4242A-0296-4F02-8C71-B811F577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0EC80-591C-43E2-A9F1-557F20A1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87EAF-8CEB-435C-A53E-CBFE10322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F57D5-BE96-4A9A-AF5B-B0191927D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B97D08-F566-4425-A0D0-09430F3E3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B069E-F774-41BF-A6BA-0942B358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2AA2E4-4200-46B6-BF49-4FB32848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28FD-9B1D-403E-8C38-6B54E44EF3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38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9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EE46-41B2-48D4-B6D2-1A0CB045AE1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597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8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9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B8FB-3A02-477F-A87A-3C9BF1D4D80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656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2F325-4CB6-4B61-B6F5-A71AD44FE3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71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ftr" idx="3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sldNum" idx="3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0D69F-5F26-41BA-99C2-1FC77277DAA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dt" idx="3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직사각형 24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직사각형 26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직사각형 40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직사각형 41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42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모서리가 둥근 직사각형 43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모서리가 둥근 직사각형 44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45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직사각형 46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직사각형 47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4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2361-A19C-42D2-BC5B-E2C38C6FE6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25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CFF4-F322-491D-BF2C-1FF776FA34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184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0119-1038-414F-8FEB-AAAD8EA519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243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A9B7-043A-4B7C-87F4-A85F44DCF9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02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997F-363E-46A3-942D-AF4F31DD0F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ftr" idx="1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361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19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BA3D-4E72-4714-AB11-F0B685E6F5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20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DC5FC-A72D-4EB9-BD10-6341FEAB9D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직사각형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직사각형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직사각형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직사각형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직사각형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모서리가 둥근 직사각형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모서리가 둥근 직사각형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직사각형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직사각형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직사각형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직사각형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직사각형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직사각형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그룹 7"/>
          <p:cNvGrpSpPr/>
          <p:nvPr/>
        </p:nvGrpSpPr>
        <p:grpSpPr>
          <a:xfrm>
            <a:off x="5830200" y="1030320"/>
            <a:ext cx="3170880" cy="5841360"/>
            <a:chOff x="5830200" y="1030320"/>
            <a:chExt cx="3170880" cy="5841360"/>
          </a:xfrm>
        </p:grpSpPr>
        <p:pic>
          <p:nvPicPr>
            <p:cNvPr id="479" name="Picture 176" descr="bull"/>
            <p:cNvPicPr/>
            <p:nvPr/>
          </p:nvPicPr>
          <p:blipFill>
            <a:blip r:embed="rId2"/>
            <a:stretch/>
          </p:blipFill>
          <p:spPr>
            <a:xfrm>
              <a:off x="872352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77" descr="bull"/>
            <p:cNvPicPr/>
            <p:nvPr/>
          </p:nvPicPr>
          <p:blipFill>
            <a:blip r:embed="rId3"/>
            <a:stretch/>
          </p:blipFill>
          <p:spPr>
            <a:xfrm>
              <a:off x="815184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178" descr="bull"/>
            <p:cNvPicPr/>
            <p:nvPr/>
          </p:nvPicPr>
          <p:blipFill>
            <a:blip r:embed="rId4"/>
            <a:stretch/>
          </p:blipFill>
          <p:spPr>
            <a:xfrm>
              <a:off x="8437680" y="1030320"/>
              <a:ext cx="277560" cy="27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TextBox 25"/>
            <p:cNvSpPr/>
            <p:nvPr/>
          </p:nvSpPr>
          <p:spPr>
            <a:xfrm>
              <a:off x="5830200" y="6564600"/>
              <a:ext cx="2403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제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10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장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개인차</a:t>
              </a:r>
              <a:r>
                <a:rPr b="1" lang="en-US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(Ⅰ) – </a:t>
              </a:r>
              <a:r>
                <a:rPr b="1" lang="ko-KR" sz="1400" spc="-1" strike="noStrike">
                  <a:solidFill>
                    <a:srgbClr val="ffffff"/>
                  </a:solidFill>
                  <a:latin typeface="휴먼엑스포"/>
                  <a:ea typeface="휴먼엑스포"/>
                </a:rPr>
                <a:t>지능과 특수학습자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E96F-3F98-4410-8A9E-3DCEC81B18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12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TextBox 54" descr=""/>
          <p:cNvPicPr/>
          <p:nvPr/>
        </p:nvPicPr>
        <p:blipFill>
          <a:blip r:embed="rId1"/>
          <a:stretch/>
        </p:blipFill>
        <p:spPr>
          <a:xfrm>
            <a:off x="5394240" y="317520"/>
            <a:ext cx="3500640" cy="901800"/>
          </a:xfrm>
          <a:prstGeom prst="rect">
            <a:avLst/>
          </a:prstGeom>
          <a:ln w="0">
            <a:noFill/>
          </a:ln>
        </p:spPr>
      </p:pic>
      <p:grpSp>
        <p:nvGrpSpPr>
          <p:cNvPr id="767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768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769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002060"/>
              </a:solidFill>
              <a:ln w="9360">
                <a:solidFill>
                  <a:srgbClr val="a04da3"/>
                </a:solidFill>
                <a:miter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002060"/>
              </a:solidFill>
              <a:ln w="0">
                <a:noFill/>
              </a:ln>
              <a:effectLst>
                <a:outerShdw dist="12600" dir="5400000" blurRad="0" rotWithShape="0">
                  <a:srgbClr val="000000">
                    <a:alpha val="4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1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772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83a7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5" name="직사각형 5" descr=""/>
          <p:cNvPicPr/>
          <p:nvPr/>
        </p:nvPicPr>
        <p:blipFill>
          <a:blip r:embed="rId2"/>
          <a:stretch/>
        </p:blipFill>
        <p:spPr>
          <a:xfrm>
            <a:off x="401760" y="2401920"/>
            <a:ext cx="2322360" cy="1054080"/>
          </a:xfrm>
          <a:prstGeom prst="rect">
            <a:avLst/>
          </a:prstGeom>
          <a:ln w="0">
            <a:noFill/>
          </a:ln>
        </p:spPr>
      </p:pic>
      <p:pic>
        <p:nvPicPr>
          <p:cNvPr id="776" name="직사각형 6" descr=""/>
          <p:cNvPicPr/>
          <p:nvPr/>
        </p:nvPicPr>
        <p:blipFill>
          <a:blip r:embed="rId3"/>
          <a:stretch/>
        </p:blipFill>
        <p:spPr>
          <a:xfrm>
            <a:off x="487440" y="3316320"/>
            <a:ext cx="3133800" cy="1719360"/>
          </a:xfrm>
          <a:prstGeom prst="rect">
            <a:avLst/>
          </a:prstGeom>
          <a:ln w="0">
            <a:noFill/>
          </a:ln>
        </p:spPr>
      </p:pic>
      <p:sp>
        <p:nvSpPr>
          <p:cNvPr id="777" name="직사각형 45"/>
          <p:cNvSpPr/>
          <p:nvPr/>
        </p:nvSpPr>
        <p:spPr>
          <a:xfrm>
            <a:off x="4861800" y="234468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직사각형 45"/>
          <p:cNvSpPr/>
          <p:nvPr/>
        </p:nvSpPr>
        <p:spPr>
          <a:xfrm>
            <a:off x="5343480" y="3267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의 이해 및 해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직사각형 45"/>
          <p:cNvSpPr/>
          <p:nvPr/>
        </p:nvSpPr>
        <p:spPr>
          <a:xfrm>
            <a:off x="5256360" y="4187880"/>
            <a:ext cx="26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표준화 검사에 대한 쟁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837720" y="4935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600" spc="-1" strike="noStrike">
              <a:solidFill>
                <a:srgbClr val="424456"/>
              </a:solidFill>
              <a:latin typeface="Trebuchet MS"/>
              <a:ea typeface="굴림"/>
            </a:endParaRPr>
          </a:p>
        </p:txBody>
      </p:sp>
      <p:sp>
        <p:nvSpPr>
          <p:cNvPr id="781" name="슬라이드 번호 개체 틀 17"/>
          <p:cNvSpPr/>
          <p:nvPr/>
        </p:nvSpPr>
        <p:spPr>
          <a:xfrm>
            <a:off x="8174160" y="1440"/>
            <a:ext cx="76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85F1-FD84-446B-AD18-94BBD33FA1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TextBox 9" descr=""/>
          <p:cNvPicPr/>
          <p:nvPr/>
        </p:nvPicPr>
        <p:blipFill>
          <a:blip r:embed="rId1"/>
          <a:stretch/>
        </p:blipFill>
        <p:spPr>
          <a:xfrm>
            <a:off x="5894280" y="506520"/>
            <a:ext cx="2884680" cy="590400"/>
          </a:xfrm>
          <a:prstGeom prst="rect">
            <a:avLst/>
          </a:prstGeom>
          <a:ln w="0">
            <a:noFill/>
          </a:ln>
        </p:spPr>
      </p:pic>
      <p:sp>
        <p:nvSpPr>
          <p:cNvPr id="78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5087-BB96-472F-A576-EDCB7578DCC3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78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786" name="직사각형 14"/>
              <p:cNvSpPr/>
              <p:nvPr/>
            </p:nvSpPr>
            <p:spPr>
              <a:xfrm>
                <a:off x="1051920" y="1386000"/>
                <a:ext cx="3162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란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그룹 43"/>
          <p:cNvGrpSpPr/>
          <p:nvPr/>
        </p:nvGrpSpPr>
        <p:grpSpPr>
          <a:xfrm>
            <a:off x="571680" y="1876320"/>
            <a:ext cx="8072280" cy="3052800"/>
            <a:chOff x="571680" y="1876320"/>
            <a:chExt cx="8072280" cy="3052800"/>
          </a:xfrm>
        </p:grpSpPr>
        <p:pic>
          <p:nvPicPr>
            <p:cNvPr id="79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052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9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79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9" name="직사각형 19"/>
            <p:cNvSpPr/>
            <p:nvPr/>
          </p:nvSpPr>
          <p:spPr>
            <a:xfrm>
              <a:off x="928800" y="1991880"/>
              <a:ext cx="766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동일한 조건에서 많은 수의 학생들을 대상으로 시행되고 동일한 절차에 따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채점되는 평가도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직사각형 16"/>
          <p:cNvSpPr/>
          <p:nvPr/>
        </p:nvSpPr>
        <p:spPr>
          <a:xfrm>
            <a:off x="928800" y="29941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규준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표성을 띠는 개인들의 집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이러한 개인들의 표준화 점수를 가지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 전국적 규준을 구성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타원 20"/>
          <p:cNvGrpSpPr/>
          <p:nvPr/>
        </p:nvGrpSpPr>
        <p:grpSpPr>
          <a:xfrm>
            <a:off x="835200" y="3170160"/>
            <a:ext cx="225360" cy="225360"/>
            <a:chOff x="835200" y="3170160"/>
            <a:chExt cx="225360" cy="225360"/>
          </a:xfrm>
        </p:grpSpPr>
        <p:pic>
          <p:nvPicPr>
            <p:cNvPr id="80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317016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3" name=""/>
            <p:cNvSpPr/>
            <p:nvPr/>
          </p:nvSpPr>
          <p:spPr>
            <a:xfrm rot="10800000">
              <a:off x="915840" y="32270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직사각형 21"/>
          <p:cNvSpPr/>
          <p:nvPr/>
        </p:nvSpPr>
        <p:spPr>
          <a:xfrm>
            <a:off x="928800" y="399240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규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전국에서 선발된 대표 학생들이 표준화 검사에서 획득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타원 22"/>
          <p:cNvGrpSpPr/>
          <p:nvPr/>
        </p:nvGrpSpPr>
        <p:grpSpPr>
          <a:xfrm>
            <a:off x="835200" y="4170240"/>
            <a:ext cx="225360" cy="219240"/>
            <a:chOff x="835200" y="4170240"/>
            <a:chExt cx="225360" cy="219240"/>
          </a:xfrm>
        </p:grpSpPr>
        <p:pic>
          <p:nvPicPr>
            <p:cNvPr id="806" name="타원 22" descr=""/>
            <p:cNvPicPr/>
            <p:nvPr/>
          </p:nvPicPr>
          <p:blipFill>
            <a:blip r:embed="rId6"/>
            <a:stretch/>
          </p:blipFill>
          <p:spPr>
            <a:xfrm>
              <a:off x="835200" y="4170240"/>
              <a:ext cx="22536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7" name=""/>
            <p:cNvSpPr/>
            <p:nvPr/>
          </p:nvSpPr>
          <p:spPr>
            <a:xfrm rot="10800000">
              <a:off x="915840" y="422712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09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14D7-EEBE-4FA6-9EF5-D106ACDF2B05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11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12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기능 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15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6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17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9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그룹 43"/>
          <p:cNvGrpSpPr/>
          <p:nvPr/>
        </p:nvGrpSpPr>
        <p:grpSpPr>
          <a:xfrm>
            <a:off x="571680" y="1876320"/>
            <a:ext cx="8072280" cy="3267360"/>
            <a:chOff x="571680" y="1876320"/>
            <a:chExt cx="8072280" cy="3267360"/>
          </a:xfrm>
        </p:grpSpPr>
        <p:pic>
          <p:nvPicPr>
            <p:cNvPr id="821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267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22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23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4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5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 평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진척에 대한 객관적인 정보제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직사각형 16"/>
          <p:cNvSpPr/>
          <p:nvPr/>
        </p:nvSpPr>
        <p:spPr>
          <a:xfrm>
            <a:off x="928800" y="2571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장단점 진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" name="타원 20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828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직사각형 21"/>
          <p:cNvSpPr/>
          <p:nvPr/>
        </p:nvSpPr>
        <p:spPr>
          <a:xfrm>
            <a:off x="928800" y="37148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프로그램 평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프로그램에 대한 정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타원 22"/>
          <p:cNvGrpSpPr/>
          <p:nvPr/>
        </p:nvGrpSpPr>
        <p:grpSpPr>
          <a:xfrm>
            <a:off x="858960" y="3889440"/>
            <a:ext cx="226800" cy="225360"/>
            <a:chOff x="858960" y="3889440"/>
            <a:chExt cx="226800" cy="225360"/>
          </a:xfrm>
        </p:grpSpPr>
        <p:pic>
          <p:nvPicPr>
            <p:cNvPr id="832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388944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3" name=""/>
            <p:cNvSpPr/>
            <p:nvPr/>
          </p:nvSpPr>
          <p:spPr>
            <a:xfrm rot="10800000">
              <a:off x="942840" y="3941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4" name="직사각형 23"/>
          <p:cNvSpPr/>
          <p:nvPr/>
        </p:nvSpPr>
        <p:spPr>
          <a:xfrm>
            <a:off x="928800" y="3135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선발과 배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별한 목적이 수업에 선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타원 25"/>
          <p:cNvGrpSpPr/>
          <p:nvPr/>
        </p:nvGrpSpPr>
        <p:grpSpPr>
          <a:xfrm>
            <a:off x="835200" y="3316320"/>
            <a:ext cx="225360" cy="225360"/>
            <a:chOff x="835200" y="3316320"/>
            <a:chExt cx="225360" cy="225360"/>
          </a:xfrm>
        </p:grpSpPr>
        <p:pic>
          <p:nvPicPr>
            <p:cNvPr id="836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31632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7" name=""/>
            <p:cNvSpPr/>
            <p:nvPr/>
          </p:nvSpPr>
          <p:spPr>
            <a:xfrm rot="10800000">
              <a:off x="915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8" name="직사각형 26"/>
          <p:cNvSpPr/>
          <p:nvPr/>
        </p:nvSpPr>
        <p:spPr>
          <a:xfrm>
            <a:off x="928800" y="427824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성적에 대한 책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지역의 학교들의 상대적인 수행에 대한 정보제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9" name="타원 27"/>
          <p:cNvGrpSpPr/>
          <p:nvPr/>
        </p:nvGrpSpPr>
        <p:grpSpPr>
          <a:xfrm>
            <a:off x="858960" y="4456080"/>
            <a:ext cx="226800" cy="225360"/>
            <a:chOff x="858960" y="4456080"/>
            <a:chExt cx="226800" cy="225360"/>
          </a:xfrm>
        </p:grpSpPr>
        <p:pic>
          <p:nvPicPr>
            <p:cNvPr id="840" name="타원 27" descr=""/>
            <p:cNvPicPr/>
            <p:nvPr/>
          </p:nvPicPr>
          <p:blipFill>
            <a:blip r:embed="rId8"/>
            <a:stretch/>
          </p:blipFill>
          <p:spPr>
            <a:xfrm>
              <a:off x="858960" y="4456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1" name=""/>
            <p:cNvSpPr/>
            <p:nvPr/>
          </p:nvSpPr>
          <p:spPr>
            <a:xfrm rot="10800000">
              <a:off x="942840" y="4512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4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8082F-C3F0-431F-BF21-FB419E3908D4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4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4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의  종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4" name="그룹 43"/>
          <p:cNvGrpSpPr/>
          <p:nvPr/>
        </p:nvGrpSpPr>
        <p:grpSpPr>
          <a:xfrm>
            <a:off x="571680" y="1876320"/>
            <a:ext cx="8072280" cy="3838680"/>
            <a:chOff x="571680" y="1876320"/>
            <a:chExt cx="8072280" cy="3838680"/>
          </a:xfrm>
        </p:grpSpPr>
        <p:pic>
          <p:nvPicPr>
            <p:cNvPr id="85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3838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5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5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9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취도 검사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의 특정한 내용 영역에서 얼마나 많이 배웠는지 측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직사각형 16"/>
          <p:cNvSpPr/>
          <p:nvPr/>
        </p:nvSpPr>
        <p:spPr>
          <a:xfrm>
            <a:off x="928800" y="27781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진단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특정한 기능영역에서 학생들의 장점과 단점을 상세히 설명해 주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타원 20"/>
          <p:cNvGrpSpPr/>
          <p:nvPr/>
        </p:nvGrpSpPr>
        <p:grpSpPr>
          <a:xfrm>
            <a:off x="835200" y="2938320"/>
            <a:ext cx="225360" cy="225720"/>
            <a:chOff x="835200" y="2938320"/>
            <a:chExt cx="225360" cy="225720"/>
          </a:xfrm>
        </p:grpSpPr>
        <p:pic>
          <p:nvPicPr>
            <p:cNvPr id="862" name="타원 20" descr=""/>
            <p:cNvPicPr/>
            <p:nvPr/>
          </p:nvPicPr>
          <p:blipFill>
            <a:blip r:embed="rId5"/>
            <a:stretch/>
          </p:blipFill>
          <p:spPr>
            <a:xfrm>
              <a:off x="835200" y="293832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"/>
            <p:cNvSpPr/>
            <p:nvPr/>
          </p:nvSpPr>
          <p:spPr>
            <a:xfrm rot="10800000">
              <a:off x="915840" y="29937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4" name="직사각형 21"/>
          <p:cNvSpPr/>
          <p:nvPr/>
        </p:nvSpPr>
        <p:spPr>
          <a:xfrm>
            <a:off x="928800" y="457668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성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습을 위한 잠재력을 예측하며 오랜 시간에 걸쳐 개발된 일반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하는 검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타원 22"/>
          <p:cNvGrpSpPr/>
          <p:nvPr/>
        </p:nvGrpSpPr>
        <p:grpSpPr>
          <a:xfrm>
            <a:off x="858960" y="4743360"/>
            <a:ext cx="226800" cy="225360"/>
            <a:chOff x="858960" y="4743360"/>
            <a:chExt cx="226800" cy="225360"/>
          </a:xfrm>
        </p:grpSpPr>
        <p:pic>
          <p:nvPicPr>
            <p:cNvPr id="866" name="타원 22" descr=""/>
            <p:cNvPicPr/>
            <p:nvPr/>
          </p:nvPicPr>
          <p:blipFill>
            <a:blip r:embed="rId6"/>
            <a:stretch/>
          </p:blipFill>
          <p:spPr>
            <a:xfrm>
              <a:off x="858960" y="4743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7" name=""/>
            <p:cNvSpPr/>
            <p:nvPr/>
          </p:nvSpPr>
          <p:spPr>
            <a:xfrm rot="10800000">
              <a:off x="942840" y="4799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직사각형 23"/>
          <p:cNvSpPr/>
          <p:nvPr/>
        </p:nvSpPr>
        <p:spPr>
          <a:xfrm>
            <a:off x="928800" y="3505320"/>
            <a:ext cx="76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능검사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식을 습득할 수 있는 개인의 능력과 추상적인 것을 사고하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추론하는 능력과 새로운 문제를 해결할 수 있는 능력을 측정하는 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9" name="타원 25"/>
          <p:cNvGrpSpPr/>
          <p:nvPr/>
        </p:nvGrpSpPr>
        <p:grpSpPr>
          <a:xfrm>
            <a:off x="835200" y="3724200"/>
            <a:ext cx="225360" cy="225360"/>
            <a:chOff x="835200" y="3724200"/>
            <a:chExt cx="225360" cy="225360"/>
          </a:xfrm>
        </p:grpSpPr>
        <p:pic>
          <p:nvPicPr>
            <p:cNvPr id="870" name="타원 25" descr=""/>
            <p:cNvPicPr/>
            <p:nvPr/>
          </p:nvPicPr>
          <p:blipFill>
            <a:blip r:embed="rId7"/>
            <a:stretch/>
          </p:blipFill>
          <p:spPr>
            <a:xfrm>
              <a:off x="835200" y="3724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"/>
            <p:cNvSpPr/>
            <p:nvPr/>
          </p:nvSpPr>
          <p:spPr>
            <a:xfrm rot="10800000">
              <a:off x="915840" y="378000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873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9A7F-3DBA-4F57-A2E4-DBC444216E06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875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876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표준화 검사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3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88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6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887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8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9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내용타당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가르쳐진 내용을 대표할 수 있는 문항으로 구성되었는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습자가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그 내용을 얼마나 이해하고 있는지를 측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시험 내용과 교과과정의 목표를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비교해서 결정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0" name="직사각형 16"/>
          <p:cNvSpPr/>
          <p:nvPr/>
        </p:nvSpPr>
        <p:spPr>
          <a:xfrm>
            <a:off x="928800" y="342900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언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래의 수행을 측정하는 검사의 능력에 대한 지표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검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와 성적간의 상관관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직사각형 21"/>
          <p:cNvSpPr/>
          <p:nvPr/>
        </p:nvSpPr>
        <p:spPr>
          <a:xfrm>
            <a:off x="928800" y="4446720"/>
            <a:ext cx="7669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구성타당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과 그 시험이 측정하려는 것 사이의 논리적 연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예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학능력시험의 문제들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단어와 수에 대해 추상적인 사고를 할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능력을 측정으로 이상의 것들을 대학에서 다뤄야 할 과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2" name="타원 22"/>
          <p:cNvGrpSpPr/>
          <p:nvPr/>
        </p:nvGrpSpPr>
        <p:grpSpPr>
          <a:xfrm>
            <a:off x="858960" y="4651200"/>
            <a:ext cx="226800" cy="219240"/>
            <a:chOff x="858960" y="4651200"/>
            <a:chExt cx="226800" cy="219240"/>
          </a:xfrm>
        </p:grpSpPr>
        <p:pic>
          <p:nvPicPr>
            <p:cNvPr id="893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4651200"/>
              <a:ext cx="226800" cy="21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 rot="10800000">
              <a:off x="942840" y="47080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타원 25"/>
          <p:cNvGrpSpPr/>
          <p:nvPr/>
        </p:nvGrpSpPr>
        <p:grpSpPr>
          <a:xfrm>
            <a:off x="835200" y="3602160"/>
            <a:ext cx="225360" cy="226800"/>
            <a:chOff x="835200" y="3602160"/>
            <a:chExt cx="225360" cy="226800"/>
          </a:xfrm>
        </p:grpSpPr>
        <p:pic>
          <p:nvPicPr>
            <p:cNvPr id="896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3602160"/>
              <a:ext cx="225360" cy="22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 rot="10800000">
              <a:off x="915840" y="365616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직사각형 20"/>
          <p:cNvSpPr/>
          <p:nvPr/>
        </p:nvSpPr>
        <p:spPr>
          <a:xfrm>
            <a:off x="928800" y="600552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**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와 신뢰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TextBox 9" descr=""/>
          <p:cNvPicPr/>
          <p:nvPr/>
        </p:nvPicPr>
        <p:blipFill>
          <a:blip r:embed="rId1"/>
          <a:stretch/>
        </p:blipFill>
        <p:spPr>
          <a:xfrm>
            <a:off x="6029280" y="506520"/>
            <a:ext cx="2870280" cy="590400"/>
          </a:xfrm>
          <a:prstGeom prst="rect">
            <a:avLst/>
          </a:prstGeom>
          <a:ln w="0">
            <a:noFill/>
          </a:ln>
        </p:spPr>
      </p:pic>
      <p:sp>
        <p:nvSpPr>
          <p:cNvPr id="900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56AEC-1DAF-4C12-A53B-AE29DEA5AA0E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02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03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사의 역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0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0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0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12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13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14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6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표준화 검사 점수가 타당한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들이 배운 것을 정확히 반영하는지 확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직사각형 16"/>
          <p:cNvSpPr/>
          <p:nvPr/>
        </p:nvSpPr>
        <p:spPr>
          <a:xfrm>
            <a:off x="928800" y="27147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결과를 학생과 부모에게 전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직사각형 21"/>
          <p:cNvSpPr/>
          <p:nvPr/>
        </p:nvSpPr>
        <p:spPr>
          <a:xfrm>
            <a:off x="928800" y="3357720"/>
            <a:ext cx="766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험 결과를 바탕으로 자신의 교수법에 변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타원 22"/>
          <p:cNvGrpSpPr/>
          <p:nvPr/>
        </p:nvGrpSpPr>
        <p:grpSpPr>
          <a:xfrm>
            <a:off x="858960" y="3529080"/>
            <a:ext cx="226800" cy="225360"/>
            <a:chOff x="858960" y="3529080"/>
            <a:chExt cx="226800" cy="225360"/>
          </a:xfrm>
        </p:grpSpPr>
        <p:pic>
          <p:nvPicPr>
            <p:cNvPr id="920" name="타원 22" descr=""/>
            <p:cNvPicPr/>
            <p:nvPr/>
          </p:nvPicPr>
          <p:blipFill>
            <a:blip r:embed="rId5"/>
            <a:stretch/>
          </p:blipFill>
          <p:spPr>
            <a:xfrm>
              <a:off x="858960" y="352908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1" name=""/>
            <p:cNvSpPr/>
            <p:nvPr/>
          </p:nvSpPr>
          <p:spPr>
            <a:xfrm rot="10800000">
              <a:off x="942840" y="35841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2" name="타원 25"/>
          <p:cNvGrpSpPr/>
          <p:nvPr/>
        </p:nvGrpSpPr>
        <p:grpSpPr>
          <a:xfrm>
            <a:off x="835200" y="2882880"/>
            <a:ext cx="225360" cy="231840"/>
            <a:chOff x="835200" y="2882880"/>
            <a:chExt cx="225360" cy="231840"/>
          </a:xfrm>
        </p:grpSpPr>
        <p:pic>
          <p:nvPicPr>
            <p:cNvPr id="923" name="타원 25" descr=""/>
            <p:cNvPicPr/>
            <p:nvPr/>
          </p:nvPicPr>
          <p:blipFill>
            <a:blip r:embed="rId6"/>
            <a:stretch/>
          </p:blipFill>
          <p:spPr>
            <a:xfrm>
              <a:off x="835200" y="2882880"/>
              <a:ext cx="225360" cy="23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4" name=""/>
            <p:cNvSpPr/>
            <p:nvPr/>
          </p:nvSpPr>
          <p:spPr>
            <a:xfrm rot="10800000">
              <a:off x="915840" y="29412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직사각형 23"/>
          <p:cNvSpPr/>
          <p:nvPr/>
        </p:nvSpPr>
        <p:spPr>
          <a:xfrm>
            <a:off x="928800" y="3890880"/>
            <a:ext cx="76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lt;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수 전략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선택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내용이 수업 내용과 일치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들에게 배울 수 있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회를 제공하는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적절한 규준집단을 가지고 있는지 확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준비시키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 실시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항상 동일하게 실시하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2520">
              <a:lnSpc>
                <a:spcPct val="150000"/>
              </a:lnSpc>
              <a:buClr>
                <a:srgbClr val="000000"/>
              </a:buClr>
              <a:buFont typeface="휴먼모음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검사결과 해석하기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“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생 및 학부모와 공유하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2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2D47-65AF-4067-B887-51DA765BC6C8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2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3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기술 통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3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3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3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3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3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4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4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빈도분석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몇 명 인지 점수의 분포를 보여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4" name="직사각형 16"/>
          <p:cNvSpPr/>
          <p:nvPr/>
        </p:nvSpPr>
        <p:spPr>
          <a:xfrm>
            <a:off x="928800" y="257184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집중 경향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한 집단의 전체적인 수행을 양적으로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4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8" name="직사각형 20"/>
          <p:cNvSpPr/>
          <p:nvPr/>
        </p:nvSpPr>
        <p:spPr>
          <a:xfrm>
            <a:off x="928800" y="435780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변산도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들이 얼마나 퍼져 있는지 기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편차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vs.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분산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타원 24"/>
          <p:cNvGrpSpPr/>
          <p:nvPr/>
        </p:nvGrpSpPr>
        <p:grpSpPr>
          <a:xfrm>
            <a:off x="858960" y="4529160"/>
            <a:ext cx="226800" cy="225360"/>
            <a:chOff x="858960" y="4529160"/>
            <a:chExt cx="226800" cy="225360"/>
          </a:xfrm>
        </p:grpSpPr>
        <p:pic>
          <p:nvPicPr>
            <p:cNvPr id="95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45291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"/>
            <p:cNvSpPr/>
            <p:nvPr/>
          </p:nvSpPr>
          <p:spPr>
            <a:xfrm rot="10800000">
              <a:off x="942840" y="458424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직사각형 26"/>
          <p:cNvSpPr/>
          <p:nvPr/>
        </p:nvSpPr>
        <p:spPr>
          <a:xfrm>
            <a:off x="928800" y="5786280"/>
            <a:ext cx="77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정상분포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중앙치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=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최빈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좌우 대칭의 종 모양의 분포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타원 27"/>
          <p:cNvGrpSpPr/>
          <p:nvPr/>
        </p:nvGrpSpPr>
        <p:grpSpPr>
          <a:xfrm>
            <a:off x="858960" y="5937120"/>
            <a:ext cx="226800" cy="225720"/>
            <a:chOff x="858960" y="5937120"/>
            <a:chExt cx="226800" cy="225720"/>
          </a:xfrm>
        </p:grpSpPr>
        <p:pic>
          <p:nvPicPr>
            <p:cNvPr id="954" name="타원 27" descr=""/>
            <p:cNvPicPr/>
            <p:nvPr/>
          </p:nvPicPr>
          <p:blipFill>
            <a:blip r:embed="rId7"/>
            <a:stretch/>
          </p:blipFill>
          <p:spPr>
            <a:xfrm>
              <a:off x="858960" y="5937120"/>
              <a:ext cx="2268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 rot="10800000">
              <a:off x="942840" y="5994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TextBox 9" descr=""/>
          <p:cNvPicPr/>
          <p:nvPr/>
        </p:nvPicPr>
        <p:blipFill>
          <a:blip r:embed="rId1"/>
          <a:stretch/>
        </p:blipFill>
        <p:spPr>
          <a:xfrm>
            <a:off x="3297240" y="506520"/>
            <a:ext cx="5597640" cy="590400"/>
          </a:xfrm>
          <a:prstGeom prst="rect">
            <a:avLst/>
          </a:prstGeom>
          <a:ln w="0">
            <a:noFill/>
          </a:ln>
        </p:spPr>
      </p:pic>
      <p:sp>
        <p:nvSpPr>
          <p:cNvPr id="95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84D4-C898-42EA-B8CA-4170D5E4AB8D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5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6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이해 및 해석잏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6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6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6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6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97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97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3" name="직사각형 19"/>
            <p:cNvSpPr/>
            <p:nvPr/>
          </p:nvSpPr>
          <p:spPr>
            <a:xfrm>
              <a:off x="928800" y="1991880"/>
              <a:ext cx="766908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목적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: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서로 다른 학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나라에 살고 있는 학생들과 비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직사각형 16"/>
          <p:cNvSpPr/>
          <p:nvPr/>
        </p:nvSpPr>
        <p:spPr>
          <a:xfrm>
            <a:off x="928800" y="257184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원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이 표준화 검사 혹은 그 하위 검사에서 정확하게 반응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5" name="타원 25"/>
          <p:cNvGrpSpPr/>
          <p:nvPr/>
        </p:nvGrpSpPr>
        <p:grpSpPr>
          <a:xfrm>
            <a:off x="835200" y="2743200"/>
            <a:ext cx="225360" cy="225360"/>
            <a:chOff x="835200" y="2743200"/>
            <a:chExt cx="225360" cy="225360"/>
          </a:xfrm>
        </p:grpSpPr>
        <p:pic>
          <p:nvPicPr>
            <p:cNvPr id="976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2743200"/>
              <a:ext cx="22536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rot="10800000">
              <a:off x="915840" y="279828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8" name="직사각형 20"/>
          <p:cNvSpPr/>
          <p:nvPr/>
        </p:nvSpPr>
        <p:spPr>
          <a:xfrm>
            <a:off x="928800" y="3143160"/>
            <a:ext cx="7786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백분위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개인의 검수를 다른 모든 학생들의 점수와 비교하여 나온 등위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타원 24"/>
          <p:cNvGrpSpPr/>
          <p:nvPr/>
        </p:nvGrpSpPr>
        <p:grpSpPr>
          <a:xfrm>
            <a:off x="858960" y="3316320"/>
            <a:ext cx="226800" cy="225360"/>
            <a:chOff x="858960" y="3316320"/>
            <a:chExt cx="226800" cy="225360"/>
          </a:xfrm>
        </p:grpSpPr>
        <p:pic>
          <p:nvPicPr>
            <p:cNvPr id="980" name="타원 24" descr=""/>
            <p:cNvPicPr/>
            <p:nvPr/>
          </p:nvPicPr>
          <p:blipFill>
            <a:blip r:embed="rId6"/>
            <a:stretch/>
          </p:blipFill>
          <p:spPr>
            <a:xfrm>
              <a:off x="858960" y="331632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"/>
            <p:cNvSpPr/>
            <p:nvPr/>
          </p:nvSpPr>
          <p:spPr>
            <a:xfrm rot="10800000">
              <a:off x="942840" y="336996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직사각형 21"/>
          <p:cNvSpPr/>
          <p:nvPr/>
        </p:nvSpPr>
        <p:spPr>
          <a:xfrm>
            <a:off x="928800" y="3676680"/>
            <a:ext cx="77864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표준화 점수에서 학생이 얼마나 잘했는지 표준편차를 기본단위로 해서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    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기술한 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Z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점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평균값으로부터 몇 표준편차 만큼 떨어져 있는지에 관한 점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타원 22"/>
          <p:cNvGrpSpPr/>
          <p:nvPr/>
        </p:nvGrpSpPr>
        <p:grpSpPr>
          <a:xfrm>
            <a:off x="858960" y="3816360"/>
            <a:ext cx="226800" cy="225360"/>
            <a:chOff x="858960" y="3816360"/>
            <a:chExt cx="226800" cy="225360"/>
          </a:xfrm>
        </p:grpSpPr>
        <p:pic>
          <p:nvPicPr>
            <p:cNvPr id="984" name="타원 22" descr=""/>
            <p:cNvPicPr/>
            <p:nvPr/>
          </p:nvPicPr>
          <p:blipFill>
            <a:blip r:embed="rId7"/>
            <a:stretch/>
          </p:blipFill>
          <p:spPr>
            <a:xfrm>
              <a:off x="858960" y="3816360"/>
              <a:ext cx="22680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 rot="10800000">
              <a:off x="942840" y="3870000"/>
              <a:ext cx="6984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TextBox 9" descr=""/>
          <p:cNvPicPr/>
          <p:nvPr/>
        </p:nvPicPr>
        <p:blipFill>
          <a:blip r:embed="rId1"/>
          <a:stretch/>
        </p:blipFill>
        <p:spPr>
          <a:xfrm>
            <a:off x="4730760" y="506520"/>
            <a:ext cx="4168800" cy="590400"/>
          </a:xfrm>
          <a:prstGeom prst="rect">
            <a:avLst/>
          </a:prstGeom>
          <a:ln w="0">
            <a:noFill/>
          </a:ln>
        </p:spPr>
      </p:pic>
      <p:sp>
        <p:nvSpPr>
          <p:cNvPr id="987" name="슬라이드 번호 개체 틀 6"/>
          <p:cNvSpPr/>
          <p:nvPr/>
        </p:nvSpPr>
        <p:spPr>
          <a:xfrm>
            <a:off x="65865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7EB1-822B-444E-9550-4593CBC57982}" type="slidenum">
              <a:rPr b="0" lang="en-US" sz="800" spc="-1" strike="noStrike">
                <a:solidFill>
                  <a:srgbClr val="438086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8" name="그룹 35"/>
          <p:cNvGrpSpPr/>
          <p:nvPr/>
        </p:nvGrpSpPr>
        <p:grpSpPr>
          <a:xfrm>
            <a:off x="642960" y="1386000"/>
            <a:ext cx="8429760" cy="401400"/>
            <a:chOff x="642960" y="1386000"/>
            <a:chExt cx="8429760" cy="401400"/>
          </a:xfrm>
        </p:grpSpPr>
        <p:grpSp>
          <p:nvGrpSpPr>
            <p:cNvPr id="989" name="그룹 48"/>
            <p:cNvGrpSpPr/>
            <p:nvPr/>
          </p:nvGrpSpPr>
          <p:grpSpPr>
            <a:xfrm>
              <a:off x="642960" y="1386000"/>
              <a:ext cx="8429760" cy="401400"/>
              <a:chOff x="642960" y="1386000"/>
              <a:chExt cx="8429760" cy="401400"/>
            </a:xfrm>
          </p:grpSpPr>
          <p:sp>
            <p:nvSpPr>
              <p:cNvPr id="990" name="직사각형 14"/>
              <p:cNvSpPr/>
              <p:nvPr/>
            </p:nvSpPr>
            <p:spPr>
              <a:xfrm>
                <a:off x="1051920" y="1386000"/>
                <a:ext cx="409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쟁점 사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직선 연결선 15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2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993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4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99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96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97" name="TextBox 88"/>
            <p:cNvSpPr/>
            <p:nvPr/>
          </p:nvSpPr>
          <p:spPr>
            <a:xfrm>
              <a:off x="670320" y="1390680"/>
              <a:ext cx="290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그룹 43"/>
          <p:cNvGrpSpPr/>
          <p:nvPr/>
        </p:nvGrpSpPr>
        <p:grpSpPr>
          <a:xfrm>
            <a:off x="571680" y="1876320"/>
            <a:ext cx="8072280" cy="4981680"/>
            <a:chOff x="571680" y="1876320"/>
            <a:chExt cx="8072280" cy="4981680"/>
          </a:xfrm>
        </p:grpSpPr>
        <p:pic>
          <p:nvPicPr>
            <p:cNvPr id="999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571680" y="1876320"/>
              <a:ext cx="8072280" cy="4981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00" name="타원 18"/>
            <p:cNvGrpSpPr/>
            <p:nvPr/>
          </p:nvGrpSpPr>
          <p:grpSpPr>
            <a:xfrm>
              <a:off x="859680" y="2139480"/>
              <a:ext cx="225360" cy="225360"/>
              <a:chOff x="859680" y="2139480"/>
              <a:chExt cx="225360" cy="225360"/>
            </a:xfrm>
          </p:grpSpPr>
          <p:pic>
            <p:nvPicPr>
              <p:cNvPr id="1001" name="타원 18" descr=""/>
              <p:cNvPicPr/>
              <p:nvPr/>
            </p:nvPicPr>
            <p:blipFill>
              <a:blip r:embed="rId4"/>
              <a:stretch/>
            </p:blipFill>
            <p:spPr>
              <a:xfrm>
                <a:off x="859680" y="2139480"/>
                <a:ext cx="225360" cy="22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2" name=""/>
              <p:cNvSpPr/>
              <p:nvPr/>
            </p:nvSpPr>
            <p:spPr>
              <a:xfrm rot="10800000">
                <a:off x="943200" y="2192760"/>
                <a:ext cx="69120" cy="6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3" name="직사각형 19"/>
            <p:cNvSpPr/>
            <p:nvPr/>
          </p:nvSpPr>
          <p:spPr>
            <a:xfrm>
              <a:off x="928800" y="1991880"/>
              <a:ext cx="766908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학생의 다양성과 검사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검사 내용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절차 및 사용의 편파성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타원 25"/>
          <p:cNvGrpSpPr/>
          <p:nvPr/>
        </p:nvGrpSpPr>
        <p:grpSpPr>
          <a:xfrm>
            <a:off x="835200" y="3078000"/>
            <a:ext cx="225360" cy="225720"/>
            <a:chOff x="835200" y="3078000"/>
            <a:chExt cx="225360" cy="225720"/>
          </a:xfrm>
        </p:grpSpPr>
        <p:pic>
          <p:nvPicPr>
            <p:cNvPr id="1005" name="타원 25" descr=""/>
            <p:cNvPicPr/>
            <p:nvPr/>
          </p:nvPicPr>
          <p:blipFill>
            <a:blip r:embed="rId5"/>
            <a:stretch/>
          </p:blipFill>
          <p:spPr>
            <a:xfrm>
              <a:off x="835200" y="3078000"/>
              <a:ext cx="22536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rot="10800000">
              <a:off x="915840" y="3137040"/>
              <a:ext cx="6984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직사각형 21"/>
          <p:cNvSpPr/>
          <p:nvPr/>
        </p:nvSpPr>
        <p:spPr>
          <a:xfrm>
            <a:off x="928800" y="2928960"/>
            <a:ext cx="77864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대안적인 평가를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학급 관찰 및 기타 사항을 고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목표와 기준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미리 정한 교육목표 측정에 대한 동의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시간이 많이 걸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당도의 문제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11-03T23:57:37Z</dcterms:modified>
  <cp:revision>375</cp:revision>
  <dc:subject/>
  <dc:title>PowerPoint Template</dc:title>
</cp:coreProperties>
</file>