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38E1A-1A44-4AC8-85C0-C2762A855F6D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E28A3-1124-407E-8079-22B90F34C2D2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067D-35B2-4EB9-97F3-70392A009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C83D-65DA-4989-AFD2-C2D0C3B65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CFCC-3A88-4F2C-ABAE-A8C6961A6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EA97-E304-4E86-8734-16C6535D2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A233-2ACE-47F9-94F4-62F203A3B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C8A6-AED1-442F-8F14-2D71FFF26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9D5D-5D26-4184-ABCA-8B5A4D593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ECD3-B058-44C3-9F96-9EC91A36C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FC91-AE89-444B-9681-FF1CCA4EC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5DA0-82DB-496E-91DD-561AE5721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1CF8-85F9-401D-B733-3DD134BD1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26F4-5044-4778-9CC6-F97338842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2D477-35E2-4DF7-892E-B94CB786752B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2481120"/>
          <a:ext cx="6205680" cy="124164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  <a:gridCol w="1143000"/>
                <a:gridCol w="714600"/>
                <a:gridCol w="718920"/>
                <a:gridCol w="1297080"/>
                <a:gridCol w="54936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4287960"/>
          <a:ext cx="6215040" cy="107316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78040"/>
                <a:gridCol w="695160"/>
              </a:tblGrid>
              <a:tr h="23292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5359320"/>
          <a:ext cx="6215040" cy="201312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719280"/>
                <a:gridCol w="695160"/>
              </a:tblGrid>
              <a:tr h="36612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3718080"/>
          <a:ext cx="6215040" cy="56808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19548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191448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357120" y="70344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1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357120" y="736776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987480"/>
                <a:gridCol w="1081080"/>
                <a:gridCol w="1008000"/>
                <a:gridCol w="1871640"/>
                <a:gridCol w="69516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* </a:t>
            </a: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7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3"/>
          <p:cNvSpPr/>
          <p:nvPr/>
        </p:nvSpPr>
        <p:spPr>
          <a:xfrm>
            <a:off x="5801760" y="35712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경력사원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기재 필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1"/>
          <p:cNvSpPr/>
          <p:nvPr/>
        </p:nvSpPr>
        <p:spPr>
          <a:xfrm>
            <a:off x="2746800" y="214200"/>
            <a:ext cx="137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2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계속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6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476280" y="509760"/>
          <a:ext cx="5952960" cy="26524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52380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2868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Rectangle 1"/>
          <p:cNvSpPr/>
          <p:nvPr/>
        </p:nvSpPr>
        <p:spPr>
          <a:xfrm>
            <a:off x="412920" y="7918200"/>
            <a:ext cx="5945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5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76280" y="3435480"/>
          <a:ext cx="5952960" cy="227952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227952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0" name="Picture 240" descr=""/>
          <p:cNvPicPr/>
          <p:nvPr/>
        </p:nvPicPr>
        <p:blipFill>
          <a:blip r:embed="rId1"/>
          <a:stretch/>
        </p:blipFill>
        <p:spPr>
          <a:xfrm>
            <a:off x="474840" y="4608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" name=""/>
          <p:cNvGraphicFramePr/>
          <p:nvPr/>
        </p:nvGraphicFramePr>
        <p:xfrm>
          <a:off x="500040" y="585792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3286080" y="6864480"/>
          <a:ext cx="3143160" cy="981000"/>
        </p:xfrm>
        <a:graphic>
          <a:graphicData uri="http://schemas.openxmlformats.org/drawingml/2006/table">
            <a:tbl>
              <a:tblPr/>
              <a:tblGrid>
                <a:gridCol w="785880"/>
                <a:gridCol w="785880"/>
                <a:gridCol w="785880"/>
                <a:gridCol w="785520"/>
              </a:tblGrid>
              <a:tr h="287280"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96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승진년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연봉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센티브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제외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500040" y="6858000"/>
          <a:ext cx="2722680" cy="987480"/>
        </p:xfrm>
        <a:graphic>
          <a:graphicData uri="http://schemas.openxmlformats.org/drawingml/2006/table">
            <a:tbl>
              <a:tblPr/>
              <a:tblGrid>
                <a:gridCol w="841320"/>
                <a:gridCol w="1881360"/>
              </a:tblGrid>
              <a:tr h="28908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연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7T02:54:13Z</dcterms:modified>
  <cp:revision>143</cp:revision>
  <dc:subject/>
  <dc:title>슬라이드 1</dc:title>
</cp:coreProperties>
</file>