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7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3.jpeg" ContentType="image/jpeg"/>
  <Override PartName="/ppt/media/image11.png" ContentType="image/png"/>
  <Override PartName="/ppt/media/image19.jpeg" ContentType="image/jpeg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png" ContentType="image/png"/>
  <Override PartName="/ppt/media/image27.jpeg" ContentType="image/jpeg"/>
  <Override PartName="/ppt/media/image5.jpeg" ContentType="image/jpeg"/>
  <Override PartName="/ppt/media/image26.jpeg" ContentType="image/jpeg"/>
  <Override PartName="/ppt/media/image29.jpeg" ContentType="image/jpeg"/>
  <Override PartName="/ppt/media/image28.jpeg" ContentType="image/jpeg"/>
  <Override PartName="/ppt/media/image21.jpeg" ContentType="image/jpeg"/>
  <Override PartName="/ppt/media/image16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media/image25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B6AA3-0493-4813-BF20-A330FBC01DA5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종이나 의복 등 습기에 약한 물품을 보관하는데 최고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!!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4713B-80BE-4A3D-98E3-C8C1C11E745C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습기에 약하므로 욕실 노노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E0ADA-89CE-4A66-9274-E580758359AE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습기에 약해 욕실 노노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4956A-C7DD-44D0-8269-D93FBD57AEA0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선각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문자 일반적일때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평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환각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문자가 넓을때 활용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95D47-39A9-4421-8535-CF355384648C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양평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일반적으로 양각이라 한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양변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솟아 오른 자면에 산각을 하는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양환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솟아 오른 자면의 모서리를 없애고          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 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둥근모양으로 표현하는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양음환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솟아 오른 자면에 음환각을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다시 표현하는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85341-9409-487D-BC79-F9FC6996354F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구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보통 음양각이라 하며 맥부분을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둥글게 표현한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산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맥부분을 산처럼 뾰족하게 표현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한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55B20-0BB3-4468-B106-2C6CCA893ACA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E3F83-1BDD-4523-90CA-A576C58C5FE2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52788-5327-41A4-9549-308C4959918A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47592-3E98-47C0-82C7-8A78F61E57FB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오른쪽 사진 두 장은 류장발교수님방에서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BB505-167D-49C7-A3D4-13A59834D0BF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부채사진은 이덕재교수님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왼쪽사진은 권태호교수님방 목베게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3DEC3-FA96-4EE7-A18E-8F322FB78998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4E5EA-418F-4583-9E5B-293C421E2C74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E5854-4AEA-4F40-9FC5-59BB78FC2385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벽화에 보이는 평상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6005B-3CD0-4884-8190-79AC7E898A0F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나전칠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목공예품에 장식하는것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그림 큰건 대장경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작은건 나전칠기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B134F-08EF-48D1-9757-B78F175F2E20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그림 연상이라는것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06465-A7AA-4C09-B3E7-C3B18DFBEEE0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48498-9377-424B-AE70-BC9C6094D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7E62A-FA0D-46EE-8971-93C7435BC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AFA45-3684-49BE-81D3-215554597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81F19-2038-40AD-8904-0897FDE67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E8043-0B3A-489C-9061-BFC77B166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3DE69-C9B7-4844-80E8-88684BE44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166C0-E92A-42A8-B5B9-4CF9B3607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FBC50-6D72-4CC8-8A2D-1D822DBA8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452F4-C1F6-4361-B910-20EF876C3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F8659-E870-4EC9-B5E9-AFF648676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93465-375D-437F-B5B1-6E815AB6E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01693-BF04-440F-B887-B2791A3BE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3A730-98A1-4208-8E0A-AD1095483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322DA-1271-462D-ACAA-D760682EC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02AE7-AA49-4E80-AD80-4B0EAEEE7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B5389-B8DB-4737-8445-986BF7AD8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7ADD3-6891-4FB4-9E93-6DC4C878B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123025-2C7E-491E-A378-EE88230FE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701D88-DFF6-417C-B229-50D869F99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51B17B-6D7C-4291-AE36-6BCFE303E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E75976-E3EC-4314-B5C4-40032435E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A98FAE-B509-4781-A7F8-CBF0738B4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E39AD-5F34-42ED-A2CA-224CB6907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57578B-C906-46DA-9FCE-7844628D0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E4C1E0-C2F8-4847-A3A0-D4341D615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8A484A-87FE-4CBF-9779-2C52CBAA5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FE3235-D627-4214-9556-D9195D9D4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1539F7-215E-4E03-9C42-9C9E551FB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B3425A-B507-4A4C-A90A-994489B87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4E1B8E-E016-4D11-BB14-91C5180B8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27AC2-6E70-4648-9F0C-D1C55474D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D7C55-DBB9-4943-BC64-0CCD974F6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6FAF7-60E1-4563-B1F6-DA5CB255A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F49BC-28AA-475A-ACDD-57FDEAFE5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50D2C-A889-45D3-BBF0-24FF8EB3C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2CA68-8A12-49D6-B1D5-C84363771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D0F5F-1431-4E31-BD5A-3195F2E96DB9}" type="slidenum"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94320-040A-4CFE-9021-65B734C3572D}" type="slidenum"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6AADB-4FD5-487F-83C5-F8C3FEBC19FB}" type="slidenum"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174400" y="431280"/>
            <a:ext cx="7432920" cy="131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000000"/>
                </a:solidFill>
                <a:latin typeface="SJ깊은물빛"/>
              </a:rPr>
              <a:t>Woodcraft</a:t>
            </a:r>
            <a:endParaRPr b="0" lang="en-US" sz="90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855720" y="2828880"/>
            <a:ext cx="7074000" cy="96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5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조 정동진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김영훈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최덕현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이수연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소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한옥의 기둥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실내가구에 사용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수축팽창의 변화가 별로 없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나무 결이 고우며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윤기가 남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촉감이 부드럽고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습기에 강함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부엌가구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구의 기둥과 쇠목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동자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골재와 장롱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오동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종이나 의복 등 습기에 약한 물품을 보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판재의 색이 희고 표면이 무름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표면은 검고 광택이 없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장롱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거문고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문방가구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책장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문갑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필통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등에 많이 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느티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높고 굵게 잘 자라 무늬결이 독특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건습에 예민하여 수축팽창의 폭이 심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뒤틀리는 단점이 있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무늬결이 좋아 목가구의 쓰임새 폭이 넓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목공소품이나 미장재료에 널리 활용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먹감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얇게 판재를 쓰면 쉽게 비틀어지거나 터짐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참죽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굵은 선의 나무결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붉은색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뒤틀림이 별로 없고 큰 힘을 견딤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배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나무가 탄력이 있고 단단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무늬결이 강하지 않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은행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터지거나 휘지 않음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벼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탄력이 있어 흠이 잘 생기지 않고 벌레가 먹지 않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소반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장롱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마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조각재 등에 많이 쓰임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피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부드럽고 온순한 재질로 넣고 두꺼운 재료로 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함지와 가리방 원반등에 사용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735120" y="318924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MDF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목섬유와 합성수지 접착제에 의해 밀도가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500~800kg/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SJ깊은물빛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로 생산된 판상재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grpSp>
        <p:nvGrpSpPr>
          <p:cNvPr id="165" name="그룹 5"/>
          <p:cNvGrpSpPr/>
          <p:nvPr/>
        </p:nvGrpSpPr>
        <p:grpSpPr>
          <a:xfrm>
            <a:off x="615960" y="2109960"/>
            <a:ext cx="2803680" cy="769680"/>
            <a:chOff x="615960" y="2109960"/>
            <a:chExt cx="2803680" cy="769680"/>
          </a:xfrm>
        </p:grpSpPr>
        <p:sp>
          <p:nvSpPr>
            <p:cNvPr id="166" name="모서리가 둥근 직사각형 6"/>
            <p:cNvSpPr/>
            <p:nvPr/>
          </p:nvSpPr>
          <p:spPr>
            <a:xfrm>
              <a:off x="615960" y="2109960"/>
              <a:ext cx="2803680" cy="76968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모서리가 둥근 직사각형 4"/>
            <p:cNvSpPr/>
            <p:nvPr/>
          </p:nvSpPr>
          <p:spPr>
            <a:xfrm>
              <a:off x="657000" y="2146320"/>
              <a:ext cx="2721240" cy="69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44720" rIns="144720" tIns="144720" bIns="144720" anchor="ctr">
              <a:noAutofit/>
            </a:bodyPr>
            <a:p>
              <a:pPr algn="ctr">
                <a:lnSpc>
                  <a:spcPct val="90000"/>
                </a:lnSpc>
                <a:spcAft>
                  <a:spcPts val="1661"/>
                </a:spcAft>
                <a:tabLst>
                  <a:tab algn="l" pos="0"/>
                  <a:tab algn="l" pos="1689120"/>
                  <a:tab algn="l" pos="3378240"/>
                  <a:tab algn="l" pos="5067360"/>
                  <a:tab algn="l" pos="6756480"/>
                  <a:tab algn="l" pos="8445600"/>
                  <a:tab algn="l" pos="10134720"/>
                </a:tabLst>
              </a:pPr>
              <a:r>
                <a:rPr b="0" lang="ko-KR" sz="3800" spc="-1" strike="noStrike">
                  <a:solidFill>
                    <a:srgbClr val="ffffff"/>
                  </a:solidFill>
                  <a:latin typeface="SJ깊은물빛"/>
                  <a:ea typeface="SJ깊은물빛"/>
                </a:rPr>
                <a:t>가공목재</a:t>
              </a:r>
              <a:endParaRPr b="0" lang="en-US" sz="3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제목 1"/>
          <p:cNvSpPr/>
          <p:nvPr/>
        </p:nvSpPr>
        <p:spPr>
          <a:xfrm>
            <a:off x="735120" y="1511280"/>
            <a:ext cx="752940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MDF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의 장단점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9" name="다이어그램 4" descr=""/>
          <p:cNvPicPr/>
          <p:nvPr/>
        </p:nvPicPr>
        <p:blipFill>
          <a:blip r:embed="rId1"/>
          <a:stretch/>
        </p:blipFill>
        <p:spPr>
          <a:xfrm>
            <a:off x="536400" y="1865160"/>
            <a:ext cx="8406000" cy="471816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조각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5000"/>
          </a:bodyPr>
          <a:p>
            <a:pPr marL="119880" indent="-119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음각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259920" indent="-997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문자의 선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점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획 등이 음으로 표현하는 기법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73" name="그림 3" descr="음각.bmp"/>
          <p:cNvPicPr/>
          <p:nvPr/>
        </p:nvPicPr>
        <p:blipFill>
          <a:blip r:embed="rId1"/>
          <a:stretch/>
        </p:blipFill>
        <p:spPr>
          <a:xfrm>
            <a:off x="735120" y="3549600"/>
            <a:ext cx="7553160" cy="1411200"/>
          </a:xfrm>
          <a:prstGeom prst="rect">
            <a:avLst/>
          </a:prstGeom>
          <a:ln w="0">
            <a:noFill/>
          </a:ln>
        </p:spPr>
      </p:pic>
      <p:sp>
        <p:nvSpPr>
          <p:cNvPr id="174" name="TextBox 4"/>
          <p:cNvSpPr/>
          <p:nvPr/>
        </p:nvSpPr>
        <p:spPr>
          <a:xfrm>
            <a:off x="974880" y="5234040"/>
            <a:ext cx="21589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선각</a:t>
            </a:r>
            <a:r>
              <a:rPr b="0" lang="ko-KR" sz="1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TextBox 5"/>
          <p:cNvSpPr/>
          <p:nvPr/>
        </p:nvSpPr>
        <p:spPr>
          <a:xfrm>
            <a:off x="3613320" y="5234040"/>
            <a:ext cx="21571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평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TextBox 6"/>
          <p:cNvSpPr/>
          <p:nvPr/>
        </p:nvSpPr>
        <p:spPr>
          <a:xfrm>
            <a:off x="6130800" y="5234040"/>
            <a:ext cx="215748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환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그림 3" descr="양각.bmp"/>
          <p:cNvPicPr/>
          <p:nvPr/>
        </p:nvPicPr>
        <p:blipFill>
          <a:blip r:embed="rId1"/>
          <a:stretch/>
        </p:blipFill>
        <p:spPr>
          <a:xfrm>
            <a:off x="735120" y="3789360"/>
            <a:ext cx="7673760" cy="12700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조각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5000"/>
          </a:bodyPr>
          <a:p>
            <a:pPr marL="119880" indent="-119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양각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259920" indent="-997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문자 외 부분을 파내어 글자가 위로 솟게 하는 표현기법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80" name="TextBox 10"/>
          <p:cNvSpPr/>
          <p:nvPr/>
        </p:nvSpPr>
        <p:spPr>
          <a:xfrm>
            <a:off x="814320" y="5388120"/>
            <a:ext cx="19177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양평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TextBox 11"/>
          <p:cNvSpPr/>
          <p:nvPr/>
        </p:nvSpPr>
        <p:spPr>
          <a:xfrm>
            <a:off x="2732040" y="5388120"/>
            <a:ext cx="19177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양변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TextBox 12"/>
          <p:cNvSpPr/>
          <p:nvPr/>
        </p:nvSpPr>
        <p:spPr>
          <a:xfrm>
            <a:off x="4649760" y="5388120"/>
            <a:ext cx="191916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양환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TextBox 13"/>
          <p:cNvSpPr/>
          <p:nvPr/>
        </p:nvSpPr>
        <p:spPr>
          <a:xfrm>
            <a:off x="6448320" y="5388120"/>
            <a:ext cx="19195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양음환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조각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5000"/>
          </a:bodyPr>
          <a:p>
            <a:pPr marL="119880" indent="-119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음양각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259920" indent="-997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획의 중심인 맥은 양으로 하고 획의 외부선 부분은 음으로 하는 기법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86" name="TextBox 11"/>
          <p:cNvSpPr/>
          <p:nvPr/>
        </p:nvSpPr>
        <p:spPr>
          <a:xfrm>
            <a:off x="2289240" y="5273640"/>
            <a:ext cx="19177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구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TextBox 12"/>
          <p:cNvSpPr/>
          <p:nvPr/>
        </p:nvSpPr>
        <p:spPr>
          <a:xfrm>
            <a:off x="5645160" y="5273640"/>
            <a:ext cx="191916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산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8" name="그림 8" descr="음양각.bmp"/>
          <p:cNvPicPr/>
          <p:nvPr/>
        </p:nvPicPr>
        <p:blipFill>
          <a:blip r:embed="rId1"/>
          <a:stretch/>
        </p:blipFill>
        <p:spPr>
          <a:xfrm>
            <a:off x="1568520" y="3595680"/>
            <a:ext cx="6138720" cy="14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95360" y="31104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 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차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615960" y="1630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정의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역사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특징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재료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기법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작품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전망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맞춤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연귀맞춤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면과 면을 서로 엇베어 맞추는 방법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91" name="그림 8" descr="연귀.JPG"/>
          <p:cNvPicPr/>
          <p:nvPr/>
        </p:nvPicPr>
        <p:blipFill>
          <a:blip r:embed="rId1"/>
          <a:stretch/>
        </p:blipFill>
        <p:spPr>
          <a:xfrm>
            <a:off x="974880" y="2949480"/>
            <a:ext cx="7445160" cy="35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맞춤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사개맞춤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두 개의 목재가 직각으로 접합이 되도록 요철되게 절개하여 맞추는 방법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(=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손가락 맞춤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94" name="그림 4" descr="사개맞춤.jpg"/>
          <p:cNvPicPr/>
          <p:nvPr/>
        </p:nvPicPr>
        <p:blipFill>
          <a:blip r:embed="rId1"/>
          <a:stretch/>
        </p:blipFill>
        <p:spPr>
          <a:xfrm>
            <a:off x="1095480" y="3789360"/>
            <a:ext cx="3836880" cy="2373480"/>
          </a:xfrm>
          <a:prstGeom prst="rect">
            <a:avLst/>
          </a:prstGeom>
          <a:ln w="0">
            <a:noFill/>
          </a:ln>
        </p:spPr>
      </p:pic>
      <p:pic>
        <p:nvPicPr>
          <p:cNvPr id="195" name="그림 5" descr="사개맞춤1.JPG"/>
          <p:cNvPicPr/>
          <p:nvPr/>
        </p:nvPicPr>
        <p:blipFill>
          <a:blip r:embed="rId2"/>
          <a:stretch/>
        </p:blipFill>
        <p:spPr>
          <a:xfrm>
            <a:off x="5651640" y="3068640"/>
            <a:ext cx="2997000" cy="16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맞춤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장부맞춤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한쪽 목재에는 장부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다른 한 쪽에 장부 홈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구멍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을 만들어 서로 맞추는 방법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98" name="그림 6" descr="장부맞춤.JPG"/>
          <p:cNvPicPr/>
          <p:nvPr/>
        </p:nvPicPr>
        <p:blipFill>
          <a:blip r:embed="rId1"/>
          <a:stretch/>
        </p:blipFill>
        <p:spPr>
          <a:xfrm>
            <a:off x="5291280" y="3629160"/>
            <a:ext cx="3597120" cy="2466720"/>
          </a:xfrm>
          <a:prstGeom prst="rect">
            <a:avLst/>
          </a:prstGeom>
          <a:ln w="0">
            <a:noFill/>
          </a:ln>
        </p:spPr>
      </p:pic>
      <p:pic>
        <p:nvPicPr>
          <p:cNvPr id="199" name="그림 7" descr="장부맞춤1.JPG"/>
          <p:cNvPicPr/>
          <p:nvPr/>
        </p:nvPicPr>
        <p:blipFill>
          <a:blip r:embed="rId2"/>
          <a:stretch/>
        </p:blipFill>
        <p:spPr>
          <a:xfrm>
            <a:off x="844560" y="3929040"/>
            <a:ext cx="3963960" cy="21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76200" y="310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 작품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5411520" y="1869840"/>
            <a:ext cx="3136680" cy="43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2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장식용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 algn="ctr">
              <a:lnSpc>
                <a:spcPct val="2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생필품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 algn="ctr">
              <a:lnSpc>
                <a:spcPct val="2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문화재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202" name="그림 4" descr="ing.jpg"/>
          <p:cNvPicPr/>
          <p:nvPr/>
        </p:nvPicPr>
        <p:blipFill>
          <a:blip r:embed="rId1"/>
          <a:stretch/>
        </p:blipFill>
        <p:spPr>
          <a:xfrm>
            <a:off x="1555920" y="1860480"/>
            <a:ext cx="340992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작품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장식용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204" name="Picture 4" descr="장식품"/>
          <p:cNvPicPr/>
          <p:nvPr/>
        </p:nvPicPr>
        <p:blipFill>
          <a:blip r:embed="rId1"/>
          <a:stretch/>
        </p:blipFill>
        <p:spPr>
          <a:xfrm>
            <a:off x="376200" y="1751040"/>
            <a:ext cx="1704960" cy="276372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5"/>
          <p:cNvSpPr/>
          <p:nvPr/>
        </p:nvSpPr>
        <p:spPr>
          <a:xfrm>
            <a:off x="855720" y="4987800"/>
            <a:ext cx="6980040" cy="12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원목의 느낌을 살려 전통적인 감각을 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주로 오동나무 사용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06" name="그림 4" descr="화분받이.JPG"/>
          <p:cNvPicPr/>
          <p:nvPr/>
        </p:nvPicPr>
        <p:blipFill>
          <a:blip r:embed="rId2"/>
          <a:stretch/>
        </p:blipFill>
        <p:spPr>
          <a:xfrm>
            <a:off x="2293920" y="1870200"/>
            <a:ext cx="2432160" cy="2571480"/>
          </a:xfrm>
          <a:prstGeom prst="rect">
            <a:avLst/>
          </a:prstGeom>
          <a:ln w="0">
            <a:noFill/>
          </a:ln>
        </p:spPr>
      </p:pic>
      <p:pic>
        <p:nvPicPr>
          <p:cNvPr id="207" name="그림 7" descr="장식1.JPG"/>
          <p:cNvPicPr/>
          <p:nvPr/>
        </p:nvPicPr>
        <p:blipFill>
          <a:blip r:embed="rId3"/>
          <a:stretch/>
        </p:blipFill>
        <p:spPr>
          <a:xfrm>
            <a:off x="6969240" y="1511280"/>
            <a:ext cx="1828800" cy="3355920"/>
          </a:xfrm>
          <a:prstGeom prst="rect">
            <a:avLst/>
          </a:prstGeom>
          <a:ln w="0">
            <a:noFill/>
          </a:ln>
        </p:spPr>
      </p:pic>
      <p:pic>
        <p:nvPicPr>
          <p:cNvPr id="208" name="그림 9" descr="장식2.JPG"/>
          <p:cNvPicPr/>
          <p:nvPr/>
        </p:nvPicPr>
        <p:blipFill>
          <a:blip r:embed="rId4"/>
          <a:stretch/>
        </p:blipFill>
        <p:spPr>
          <a:xfrm>
            <a:off x="5051520" y="1511280"/>
            <a:ext cx="1670040" cy="33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작품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생필품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210" name="Picture 6" descr="제기"/>
          <p:cNvPicPr/>
          <p:nvPr/>
        </p:nvPicPr>
        <p:blipFill>
          <a:blip r:embed="rId1"/>
          <a:stretch/>
        </p:blipFill>
        <p:spPr>
          <a:xfrm>
            <a:off x="6249960" y="4987800"/>
            <a:ext cx="2538360" cy="1438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1" name=""/>
          <p:cNvGraphicFramePr/>
          <p:nvPr/>
        </p:nvGraphicFramePr>
        <p:xfrm>
          <a:off x="974880" y="2230560"/>
          <a:ext cx="5187960" cy="1938240"/>
        </p:xfrm>
        <a:graphic>
          <a:graphicData uri="http://schemas.openxmlformats.org/drawingml/2006/table">
            <a:tbl>
              <a:tblPr/>
              <a:tblGrid>
                <a:gridCol w="1930320"/>
                <a:gridCol w="3257640"/>
              </a:tblGrid>
              <a:tr h="594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오동나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틀어짐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,</a:t>
                      </a: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휘어짐이 없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43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물푸레나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비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무늬가 더 고풍스러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단단함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12" name="Picture 28" descr="식탁"/>
          <p:cNvPicPr/>
          <p:nvPr/>
        </p:nvPicPr>
        <p:blipFill>
          <a:blip r:embed="rId2"/>
          <a:stretch/>
        </p:blipFill>
        <p:spPr>
          <a:xfrm>
            <a:off x="3732120" y="4508640"/>
            <a:ext cx="1897200" cy="1744560"/>
          </a:xfrm>
          <a:prstGeom prst="rect">
            <a:avLst/>
          </a:prstGeom>
          <a:ln w="0">
            <a:noFill/>
          </a:ln>
        </p:spPr>
      </p:pic>
      <p:pic>
        <p:nvPicPr>
          <p:cNvPr id="213" name="그림 7" descr="베게.JPG"/>
          <p:cNvPicPr/>
          <p:nvPr/>
        </p:nvPicPr>
        <p:blipFill>
          <a:blip r:embed="rId3"/>
          <a:stretch/>
        </p:blipFill>
        <p:spPr>
          <a:xfrm>
            <a:off x="735120" y="4748040"/>
            <a:ext cx="2465280" cy="1544760"/>
          </a:xfrm>
          <a:prstGeom prst="rect">
            <a:avLst/>
          </a:prstGeom>
          <a:ln w="0">
            <a:noFill/>
          </a:ln>
        </p:spPr>
      </p:pic>
      <p:pic>
        <p:nvPicPr>
          <p:cNvPr id="214" name="그림 8" descr="cycameraimage(3).jpg"/>
          <p:cNvPicPr/>
          <p:nvPr/>
        </p:nvPicPr>
        <p:blipFill>
          <a:blip r:embed="rId4"/>
          <a:stretch/>
        </p:blipFill>
        <p:spPr>
          <a:xfrm>
            <a:off x="6729480" y="1751040"/>
            <a:ext cx="1617480" cy="26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작품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문화재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216" name="Picture 3" descr="장승"/>
          <p:cNvPicPr/>
          <p:nvPr/>
        </p:nvPicPr>
        <p:blipFill>
          <a:blip r:embed="rId1"/>
          <a:stretch/>
        </p:blipFill>
        <p:spPr>
          <a:xfrm>
            <a:off x="6261120" y="1619280"/>
            <a:ext cx="2292480" cy="4795920"/>
          </a:xfrm>
          <a:prstGeom prst="rect">
            <a:avLst/>
          </a:prstGeom>
          <a:ln w="0">
            <a:noFill/>
          </a:ln>
        </p:spPr>
      </p:pic>
      <p:pic>
        <p:nvPicPr>
          <p:cNvPr id="217" name="그림 5" descr="하회탈.JPG"/>
          <p:cNvPicPr/>
          <p:nvPr/>
        </p:nvPicPr>
        <p:blipFill>
          <a:blip r:embed="rId2"/>
          <a:stretch/>
        </p:blipFill>
        <p:spPr>
          <a:xfrm>
            <a:off x="974880" y="1751040"/>
            <a:ext cx="2398680" cy="1677960"/>
          </a:xfrm>
          <a:prstGeom prst="rect">
            <a:avLst/>
          </a:prstGeom>
          <a:ln w="0">
            <a:noFill/>
          </a:ln>
        </p:spPr>
      </p:pic>
      <p:sp>
        <p:nvSpPr>
          <p:cNvPr id="218" name="TextBox 5"/>
          <p:cNvSpPr/>
          <p:nvPr/>
        </p:nvSpPr>
        <p:spPr>
          <a:xfrm>
            <a:off x="615960" y="3549600"/>
            <a:ext cx="3716280" cy="30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밤나무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잘 썩지 않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오리나무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조각 잘 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자작나무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결 좋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은행나무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뽀얀 색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19" name="그림 6" descr="솟대.jpg"/>
          <p:cNvPicPr/>
          <p:nvPr/>
        </p:nvPicPr>
        <p:blipFill>
          <a:blip r:embed="rId3"/>
          <a:stretch/>
        </p:blipFill>
        <p:spPr>
          <a:xfrm>
            <a:off x="4332240" y="1722600"/>
            <a:ext cx="1677960" cy="45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전망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6840" y="1599840"/>
            <a:ext cx="8550360" cy="42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결을 부각시키고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단점을 보안하여 자연미의 표현가능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나무 공예와 친환경이 트렌드가 되면서 인기를 얻음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친환경장난감의 출시로 여러방향으로 발전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목공예전문가가 없어지는 추세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유행에 민감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000000"/>
                </a:solidFill>
                <a:latin typeface="SJ깊은물빛"/>
              </a:rPr>
              <a:t>목공예의 정의</a:t>
            </a:r>
            <a:endParaRPr b="0" lang="en-US" sz="48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75840" y="1870200"/>
            <a:ext cx="8309160" cy="256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400" spc="-1" strike="noStrike">
                <a:solidFill>
                  <a:srgbClr val="000000"/>
                </a:solidFill>
                <a:latin typeface="SJ깊은물빛"/>
              </a:rPr>
              <a:t>목재를 이용하여 음각</a:t>
            </a:r>
            <a:r>
              <a:rPr b="0" lang="en-US" sz="34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3400" spc="-1" strike="noStrike">
                <a:solidFill>
                  <a:srgbClr val="000000"/>
                </a:solidFill>
                <a:latin typeface="SJ깊은물빛"/>
              </a:rPr>
              <a:t>양각</a:t>
            </a:r>
            <a:r>
              <a:rPr b="0" lang="en-US" sz="34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3400" spc="-1" strike="noStrike">
                <a:solidFill>
                  <a:srgbClr val="000000"/>
                </a:solidFill>
                <a:latin typeface="SJ깊은물빛"/>
              </a:rPr>
              <a:t>투각 등의 기법으로 문양을 새기거나 외형을 완성하는 공예품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36" name="그림 3" descr="%B9%DD~1.JPG"/>
          <p:cNvPicPr/>
          <p:nvPr/>
        </p:nvPicPr>
        <p:blipFill>
          <a:blip r:embed="rId1"/>
          <a:stretch/>
        </p:blipFill>
        <p:spPr>
          <a:xfrm>
            <a:off x="5770440" y="3605040"/>
            <a:ext cx="3373560" cy="32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95360" y="191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역사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95360" y="1511280"/>
            <a:ext cx="8229600" cy="479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12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세기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~13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세기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고딕 건축양식이 발달하여 유럽에서는 의자나 테이블이 대량 생산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제작기술도 고도화하여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	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많은 고전양식의 가구가 출현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17∼18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세기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구를 중심으로 한 목공예의 황금시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20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세기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목공기계와 강력한 접착제의 출현으로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	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공장생산으로 이행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95360" y="191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역사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95360" y="4748040"/>
            <a:ext cx="8229600" cy="16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고려시대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목공예가 가장 화려하게 꽃피운 시대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나전칠기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대장경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41" name="그림 5" descr="대장경.JPG"/>
          <p:cNvPicPr/>
          <p:nvPr/>
        </p:nvPicPr>
        <p:blipFill>
          <a:blip r:embed="rId1"/>
          <a:stretch/>
        </p:blipFill>
        <p:spPr>
          <a:xfrm>
            <a:off x="615960" y="1717560"/>
            <a:ext cx="7074000" cy="2643480"/>
          </a:xfrm>
          <a:prstGeom prst="rect">
            <a:avLst/>
          </a:prstGeom>
          <a:ln w="0">
            <a:noFill/>
          </a:ln>
        </p:spPr>
      </p:pic>
      <p:pic>
        <p:nvPicPr>
          <p:cNvPr id="142" name="그림 6" descr="나전칠기.JPG"/>
          <p:cNvPicPr/>
          <p:nvPr/>
        </p:nvPicPr>
        <p:blipFill>
          <a:blip r:embed="rId2"/>
          <a:stretch/>
        </p:blipFill>
        <p:spPr>
          <a:xfrm>
            <a:off x="6130800" y="3549600"/>
            <a:ext cx="2651400" cy="15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95360" y="191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역사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95360" y="1990800"/>
            <a:ext cx="8229600" cy="26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조선시대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자연 목리의 미로써 통일성을 나타냄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45" name="그림 5" descr="연상.JPG"/>
          <p:cNvPicPr/>
          <p:nvPr/>
        </p:nvPicPr>
        <p:blipFill>
          <a:blip r:embed="rId1"/>
          <a:stretch/>
        </p:blipFill>
        <p:spPr>
          <a:xfrm>
            <a:off x="615960" y="3668760"/>
            <a:ext cx="8001000" cy="26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특징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1095480" y="2230560"/>
          <a:ext cx="7432560" cy="2757240"/>
        </p:xfrm>
        <a:graphic>
          <a:graphicData uri="http://schemas.openxmlformats.org/drawingml/2006/table">
            <a:tbl>
              <a:tblPr/>
              <a:tblGrid>
                <a:gridCol w="1917720"/>
                <a:gridCol w="5514840"/>
              </a:tblGrid>
              <a:tr h="1558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장점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비중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, </a:t>
                      </a: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열전도도가 적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강도가 크고 가공이 용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무늬가 있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8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단점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가연성과 부패성이 있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함수율에 의한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 </a:t>
                      </a: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변형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49" name="다이어그램 5" descr=""/>
          <p:cNvPicPr/>
          <p:nvPr/>
        </p:nvPicPr>
        <p:blipFill>
          <a:blip r:embed="rId1"/>
          <a:stretch/>
        </p:blipFill>
        <p:spPr>
          <a:xfrm>
            <a:off x="476280" y="1620720"/>
            <a:ext cx="8296200" cy="407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76200" y="2470320"/>
            <a:ext cx="8229600" cy="407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침엽수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백송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해송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육송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잣나무는 접착력이 약함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공이 쉽고 곧으며 긴재료를 얻을 수 있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2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활엽수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단단함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구 기물로 이용하며 무늬가 좋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재질이 단단하고 무늬와 색상이 강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강도는 침엽수보다 강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52" name="그룹 3" descr=""/>
          <p:cNvPicPr/>
          <p:nvPr/>
        </p:nvPicPr>
        <p:blipFill>
          <a:blip r:embed="rId1"/>
          <a:stretch/>
        </p:blipFill>
        <p:spPr>
          <a:xfrm>
            <a:off x="596880" y="1536840"/>
            <a:ext cx="2914560" cy="82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8T02:56:58Z</dcterms:created>
  <dc:creator>sec</dc:creator>
  <dc:description/>
  <dc:language>en-US</dc:language>
  <cp:lastModifiedBy>이수연</cp:lastModifiedBy>
  <dcterms:modified xsi:type="dcterms:W3CDTF">2011-05-30T14:39:10Z</dcterms:modified>
  <cp:revision>131</cp:revision>
  <dc:subject/>
  <dc:title>목공예품</dc:title>
</cp:coreProperties>
</file>