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EE31-1D7A-4740-B445-83ABBB8BE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3244-E5A3-42DE-8DBA-816655793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5937-C5F0-4A03-8EBA-2D627D04F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7441-65F2-4712-AC64-59C33F486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9E67B-595B-4D8D-BFCD-D5A73BF43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E207B-499D-4A1F-8D67-2632F2B74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282BE-4070-4112-AFA8-F8C22CF71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C8618-85A4-47DA-979C-F875F491A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CB4B6-D03C-405F-8EB9-6C9C66C7C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5D90C-9EA7-4DDC-912D-68AFA2EBA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78B9C-390D-4FCD-9D49-24BDACA29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536A-2505-4812-8F46-A61A9F90D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2021E-B7CD-4D21-9B9A-F8EEB2497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CB951-95B1-4E12-BDC0-A98DC2691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8CB78-8F74-45E0-86D6-07464D6F4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EBBA0-9E9F-41C2-BD7F-4410294E3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0E930-F337-4EB9-A0D4-E20FA448C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475D-65B1-4562-8022-0C96789BA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CD77-D2A7-4132-98CD-2F482CF74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58EB-F933-45A9-932E-510B9EC02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3BD6-48BC-47D3-920A-06B5D726E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E47B-09AD-493E-AC92-6BBEB8D27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4EC4-BDFE-4C73-AFB6-B30FEE06D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4E1B-7CDC-4BF7-9F6D-8B686F0E6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1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C613F-74F6-49D8-88F7-C99ED1CECBF4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45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grpSp>
        <p:nvGrpSpPr>
          <p:cNvPr id="47" name="자유형 7"/>
          <p:cNvGrpSpPr/>
          <p:nvPr/>
        </p:nvGrpSpPr>
        <p:grpSpPr>
          <a:xfrm>
            <a:off x="6815160" y="420840"/>
            <a:ext cx="2335320" cy="6016320"/>
            <a:chOff x="6815160" y="420840"/>
            <a:chExt cx="2335320" cy="6016320"/>
          </a:xfrm>
        </p:grpSpPr>
        <p:pic>
          <p:nvPicPr>
            <p:cNvPr id="48" name="자유형 7" descr=""/>
            <p:cNvPicPr/>
            <p:nvPr/>
          </p:nvPicPr>
          <p:blipFill>
            <a:blip r:embed="rId4"/>
            <a:stretch/>
          </p:blipFill>
          <p:spPr>
            <a:xfrm>
              <a:off x="6815160" y="420840"/>
              <a:ext cx="2335320" cy="601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6819840" y="4287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AC78B-B0FB-463F-B9E5-1CBB1FF118A1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395280" y="2060640"/>
            <a:ext cx="842472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0" spc="-1" strike="noStrike">
                <a:solidFill>
                  <a:srgbClr val="6c6c6c"/>
                </a:solidFill>
                <a:latin typeface="Cambria"/>
              </a:rPr>
              <a:t>대구 경상병원</a:t>
            </a:r>
            <a:endParaRPr b="0" lang="en-US" sz="10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내용 개체 틀 5" descr="map1.JPG"/>
          <p:cNvPicPr/>
          <p:nvPr/>
        </p:nvPicPr>
        <p:blipFill>
          <a:blip r:embed="rId2"/>
          <a:stretch/>
        </p:blipFill>
        <p:spPr>
          <a:xfrm>
            <a:off x="4859280" y="2060640"/>
            <a:ext cx="3959280" cy="4176720"/>
          </a:xfrm>
          <a:prstGeom prst="rect">
            <a:avLst/>
          </a:prstGeom>
          <a:ln w="0">
            <a:noFill/>
          </a:ln>
        </p:spPr>
      </p:pic>
      <p:sp>
        <p:nvSpPr>
          <p:cNvPr id="93" name="부제목 2"/>
          <p:cNvSpPr/>
          <p:nvPr/>
        </p:nvSpPr>
        <p:spPr>
          <a:xfrm>
            <a:off x="324000" y="260280"/>
            <a:ext cx="388764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위치와 소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1484280"/>
            <a:ext cx="424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지하철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호선 두류역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" name="내용 개체 틀 2"/>
          <p:cNvSpPr/>
          <p:nvPr/>
        </p:nvSpPr>
        <p:spPr>
          <a:xfrm>
            <a:off x="-252360" y="2492280"/>
            <a:ext cx="69120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노인 전문 </a:t>
            </a:r>
            <a:r>
              <a:rPr b="0" lang="ko-KR" sz="3000" spc="-1" strike="noStrike">
                <a:solidFill>
                  <a:srgbClr val="f76b04"/>
                </a:solidFill>
                <a:latin typeface="Cambria"/>
              </a:rPr>
              <a:t>요양병원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중추신경계 환자 위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f76b04"/>
                </a:solidFill>
                <a:latin typeface="Cambria"/>
              </a:rPr>
              <a:t>  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뇌질환</a:t>
            </a:r>
            <a:r>
              <a:rPr b="0" lang="en-US" sz="2500" spc="-1" strike="noStrike">
                <a:solidFill>
                  <a:srgbClr val="f76b04"/>
                </a:solidFill>
                <a:latin typeface="Cambria"/>
              </a:rPr>
              <a:t>(CVA,TBI),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척수손상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통증치료실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모달리티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68360" y="134136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 근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/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 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8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2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5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0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~ 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무료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7" name="부제목 2"/>
          <p:cNvSpPr/>
          <p:nvPr/>
        </p:nvSpPr>
        <p:spPr>
          <a:xfrm>
            <a:off x="324000" y="260280"/>
            <a:ext cx="338436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 환경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내용 개체 틀 2"/>
          <p:cNvSpPr/>
          <p:nvPr/>
        </p:nvSpPr>
        <p:spPr>
          <a:xfrm>
            <a:off x="468360" y="3573360"/>
            <a:ext cx="822960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담당선생님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주일씩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4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명의 선생님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연차순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24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복 장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가 운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자율복장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편안한 복장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내화 착용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6836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 습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담당선생님의 스케줄에 따라 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, 2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이동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치료사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인당 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5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~20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Observation + FES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 Hot Pack + TENS + FES + Tilt Table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습과제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논문 번역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최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레포트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케이스 발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부제목 2"/>
          <p:cNvSpPr/>
          <p:nvPr/>
        </p:nvSpPr>
        <p:spPr>
          <a:xfrm>
            <a:off x="324000" y="260280"/>
            <a:ext cx="496872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내용</a:t>
            </a: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&amp;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과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장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환자들은 확실히 볼 수 있음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점심 무료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하철 역 바로 앞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호선 두류역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Transfer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하지 않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남자 간병인이 함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단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케이스 부족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나치게 신경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뇌줄중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편중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다른 학교 실습생들이 없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보건대와 대구대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과제수기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" name="부제목 2"/>
          <p:cNvSpPr/>
          <p:nvPr/>
        </p:nvSpPr>
        <p:spPr>
          <a:xfrm>
            <a:off x="324000" y="260280"/>
            <a:ext cx="374328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장점와 단점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14:17:26Z</dcterms:created>
  <dc:creator>XP_USER</dc:creator>
  <dc:description/>
  <dc:language>en-US</dc:language>
  <cp:lastModifiedBy>Staff</cp:lastModifiedBy>
  <dcterms:modified xsi:type="dcterms:W3CDTF">2009-04-11T08:25:26Z</dcterms:modified>
  <cp:revision>12</cp:revision>
  <dc:subject/>
  <dc:title>병원 실습 발표</dc:title>
</cp:coreProperties>
</file>