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3.png" ContentType="image/png"/>
  <Override PartName="/ppt/media/image8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75F65-A12B-4AA3-B9A0-04E114B70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81262-09DD-4204-9481-91EB9164A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A9F31-BCBE-4CBD-BD7D-45245F065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55DCD-38E7-4FE6-A0A6-2DA4EB41F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1E535-6C76-41DD-A0BA-F37EE2E73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37255-7433-4018-BA20-453F58C29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987A6-0E45-4F0D-9201-C0B31B0BF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0FFD8-AF39-4A57-B595-3FFE88A59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CF061-5FD4-4F94-9BB9-299429D25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3DDAD-2513-440D-9608-76FBCE63F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D8492-5E60-4D2E-B568-B2AED65A4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C8C63-D7A4-4E2D-8A4C-9DABD30D0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6C62F-C116-4EC3-87B7-38F78839F900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42960" y="8571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000" spc="-1" strike="noStrike">
                <a:solidFill>
                  <a:srgbClr val="7030a0"/>
                </a:solidFill>
                <a:latin typeface="맑은 고딕"/>
              </a:rPr>
              <a:t>자동차의 피부 </a:t>
            </a:r>
            <a:br>
              <a:rPr sz="5000"/>
            </a:br>
            <a:r>
              <a:rPr b="0" lang="en-US" sz="4400" spc="-1" strike="noStrike">
                <a:solidFill>
                  <a:srgbClr val="7030a0"/>
                </a:solidFill>
                <a:latin typeface="맑은 고딕"/>
              </a:rPr>
              <a:t>-</a:t>
            </a:r>
            <a:r>
              <a:rPr b="0" lang="ko-KR" sz="4400" spc="-1" strike="noStrike">
                <a:solidFill>
                  <a:srgbClr val="7030a0"/>
                </a:solidFill>
                <a:latin typeface="맑은 고딕"/>
              </a:rPr>
              <a:t>도장</a:t>
            </a:r>
            <a:r>
              <a:rPr b="0" lang="en-US" sz="4400" spc="-1" strike="noStrike">
                <a:solidFill>
                  <a:srgbClr val="7030a0"/>
                </a:solidFill>
                <a:latin typeface="맑은 고딕"/>
              </a:rPr>
              <a:t>-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57184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4000" spc="-1" strike="noStrike">
                <a:solidFill>
                  <a:srgbClr val="ffffff"/>
                </a:solidFill>
                <a:latin typeface="맑은 고딕"/>
              </a:rPr>
              <a:t>     </a:t>
            </a:r>
            <a:r>
              <a:rPr b="0" lang="en-US" sz="4000" spc="-1" strike="noStrike">
                <a:solidFill>
                  <a:srgbClr val="ffffff"/>
                </a:solidFill>
                <a:latin typeface="맑은 고딕"/>
              </a:rPr>
              <a:t>5</a:t>
            </a:r>
            <a:r>
              <a:rPr b="0" lang="ko-KR" sz="4000" spc="-1" strike="noStrike">
                <a:solidFill>
                  <a:srgbClr val="ffffff"/>
                </a:solidFill>
                <a:latin typeface="맑은 고딕"/>
              </a:rPr>
              <a:t>조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김만수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유상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신준혁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장재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김동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3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표면처리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1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탈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알칼리클리너로 방청유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압연유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프레스유등을제거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2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표면조정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티탄을 주성분으로 하는 처리제 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로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의 피막형성 반응성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높여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세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치밀한 결정을 생성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3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피막화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처리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4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수절건조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75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전착도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하도도막은 주로 방청기능을 분담한다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카티온형 전착도료 채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에폭시 수지를 베이스로 하는 카티온형 전착도료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①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처리피막의 용출이 없다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 ②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부식반응의 억제 효과 ③부착력 유지효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78" name="그림 3" descr="Pic_PROC_PARTS03_PIC.jpg"/>
          <p:cNvPicPr/>
          <p:nvPr/>
        </p:nvPicPr>
        <p:blipFill>
          <a:blip r:embed="rId2"/>
          <a:stretch/>
        </p:blipFill>
        <p:spPr>
          <a:xfrm>
            <a:off x="1214280" y="1643040"/>
            <a:ext cx="6786720" cy="43578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51912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하도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전착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)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도장의 방청기능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&amp; 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상도도장의 미장기능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최대한 발휘위한 보조적 역할수행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도장계 전체의 도장품질향상의 기능 가짐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▶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중도도장공정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실제의 도장라인에서는 어느정도 피할 수 없는 하지불량 커버하므로서 도장불량 낮추는데 공헌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중도도료→</a:t>
            </a:r>
            <a:r>
              <a:rPr b="0" lang="ko-KR" sz="25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2500" spc="-1" strike="noStrike">
                <a:solidFill>
                  <a:srgbClr val="ff0000"/>
                </a:solidFill>
                <a:latin typeface="맑은 고딕"/>
              </a:rPr>
              <a:t>Oil Free Polyester </a:t>
            </a:r>
            <a:r>
              <a:rPr b="0" lang="ko-KR" sz="2500" spc="-1" strike="noStrike">
                <a:solidFill>
                  <a:srgbClr val="ff0000"/>
                </a:solidFill>
                <a:latin typeface="맑은 고딕"/>
              </a:rPr>
              <a:t>수지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기본수지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멜라민 수지와 최근 우레탄을 도입열경화 시키는 타입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82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막의 내구기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수성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흡수성 낮고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Blister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의 발생 억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01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2.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칩핑성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돌이 튀었을때의 충격 에너지흡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  →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소지까지 이르는 도막손상 경감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  →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Scab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의 발생을 억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3.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후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외선 열화 小 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도도막의 옥외 폭로박리 억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85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막의 미장기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하지피복성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전착도막의 표면조도 피복       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              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→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완성된 외관 평활화 기여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2.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용제성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상도도료 용제에 의한 중도도막의 팽윤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용해억제 → 고선영성의 외관품질 얻어짐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3.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색채조정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중도도막은 통상 회색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0000"/>
                </a:solidFill>
                <a:latin typeface="맑은 고딕"/>
              </a:rPr>
              <a:t>최근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착색시킴 → 은폐성 낮은 상도도색 적용 가능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88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45336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중도도막에 요구되어지는 품질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칩핑성 양호할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하지은폐성 우수할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전착도막과 밀착성 좋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평활할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상도를 광소실하지 않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상도와의 밀착성 좋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광선 열화성 좋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91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료의 구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93" name="내용 개체 틀 3" descr="title_3_5_7s.gif"/>
          <p:cNvPicPr/>
          <p:nvPr/>
        </p:nvPicPr>
        <p:blipFill>
          <a:blip r:embed="rId2"/>
          <a:stretch/>
        </p:blipFill>
        <p:spPr>
          <a:xfrm>
            <a:off x="928800" y="1643040"/>
            <a:ext cx="7572240" cy="46004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의 부여와 또 그것을 보호 유지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도도막의 최대 기능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색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표면의 평활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광택감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선영성 등의 품질항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                      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미관을 </a:t>
            </a:r>
            <a:r>
              <a:rPr b="1" lang="ko-KR" sz="3200" spc="-1" strike="noStrike">
                <a:solidFill>
                  <a:srgbClr val="000000"/>
                </a:solidFill>
                <a:latin typeface="맑은 고딕"/>
              </a:rPr>
              <a:t>장기간 보호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유지 능력 요구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맑은 고딕"/>
              </a:rPr>
              <a:t>* </a:t>
            </a:r>
            <a:r>
              <a:rPr b="0" lang="ko-KR" sz="1500" spc="-1" strike="noStrike">
                <a:solidFill>
                  <a:srgbClr val="ffffff"/>
                </a:solidFill>
                <a:latin typeface="맑은 고딕"/>
              </a:rPr>
              <a:t>선영성</a:t>
            </a:r>
            <a:r>
              <a:rPr b="0" lang="en-US" sz="15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1500" spc="-1" strike="noStrike">
                <a:solidFill>
                  <a:srgbClr val="ffffff"/>
                </a:solidFill>
                <a:latin typeface="맑은 고딕"/>
              </a:rPr>
              <a:t>도막의 물체의 상을 선명하게 비추는 능력</a:t>
            </a:r>
            <a:endParaRPr b="0" lang="en-US" sz="15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97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500040" y="1428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도료에 적용된 안료 종류에 따라 색상이 구분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박편상의 알루미늄분 등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flake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안료 사용 유무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마이카 칼라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메칼릭 칼라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솔리드 칼라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00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색감별로 상도분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02" name="내용 개체 틀 3" descr="살쾡이.gif"/>
          <p:cNvPicPr/>
          <p:nvPr/>
        </p:nvPicPr>
        <p:blipFill>
          <a:blip r:embed="rId2"/>
          <a:stretch/>
        </p:blipFill>
        <p:spPr>
          <a:xfrm>
            <a:off x="928800" y="2143080"/>
            <a:ext cx="7156440" cy="40719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   </a:t>
            </a: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목  차</a:t>
            </a:r>
            <a:r>
              <a:rPr b="0" lang="en-US" sz="4400" spc="-1" strike="noStrike">
                <a:solidFill>
                  <a:srgbClr val="ffffff"/>
                </a:solidFill>
                <a:latin typeface="맑은 고딕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도료의 정의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 도장공정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래 자동차 도장의 개발방향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6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솔리드칼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알루미늄분 포함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X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착색안료 덮힘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색 거의 도막 표면의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반사광만 결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후성 향상 및 초기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광택감 유지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클리어가 도장되는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2Coat 1Bake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타입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적색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청색 착색안료의 원색이 그대로나타남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2"/>
          <a:stretch/>
        </p:blipFill>
        <p:spPr>
          <a:xfrm>
            <a:off x="4929120" y="1571760"/>
            <a:ext cx="3990960" cy="27860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메칼릭 칼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642840" y="2214720"/>
            <a:ext cx="5286600" cy="202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반투명 에나멜</a:t>
            </a: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+ </a:t>
            </a: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알루미늄분 혼합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도막중에 알루미늄 가루의 뜨고 가라앉음</a:t>
            </a: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배열방식에 따라 에나멜 층을 통해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금속의 독특한 광택 나타내도록 만들어짐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2"/>
          <a:stretch/>
        </p:blipFill>
        <p:spPr>
          <a:xfrm>
            <a:off x="357120" y="1571760"/>
            <a:ext cx="3286080" cy="2614320"/>
          </a:xfrm>
          <a:prstGeom prst="rect">
            <a:avLst/>
          </a:prstGeom>
          <a:ln w="0">
            <a:noFill/>
          </a:ln>
        </p:spPr>
      </p:pic>
      <p:sp>
        <p:nvSpPr>
          <p:cNvPr id="111" name="TextBox 5"/>
          <p:cNvSpPr/>
          <p:nvPr/>
        </p:nvSpPr>
        <p:spPr>
          <a:xfrm>
            <a:off x="785880" y="4714920"/>
            <a:ext cx="778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메탈릭 도료의 위에는 도막에 한층 더 광택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부여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내후성을 위해 클리어 도료 칠함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알루미늄분 빛을 반사만 함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2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마이카 칼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42960" y="3929040"/>
            <a:ext cx="8229600" cy="264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여러각도에서 다양한 색채감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2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펄도료</a:t>
            </a:r>
            <a:r>
              <a:rPr b="0" lang="en-US" sz="2700" spc="-1" strike="noStrike">
                <a:solidFill>
                  <a:srgbClr val="ffffff"/>
                </a:solidFill>
                <a:latin typeface="맑은 고딕"/>
              </a:rPr>
              <a:t>: 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화이트 마이카 단독 사용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은폐력</a:t>
            </a:r>
            <a:r>
              <a:rPr b="0" lang="en-US" sz="2700" spc="-1" strike="noStrike">
                <a:solidFill>
                  <a:srgbClr val="ffffff"/>
                </a:solidFill>
                <a:latin typeface="맑은 고딕"/>
              </a:rPr>
              <a:t>X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칼라 베이스 필요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맑은 고딕"/>
              </a:rPr>
              <a:t>    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ff0000"/>
                </a:solidFill>
                <a:latin typeface="맑은 고딕"/>
              </a:rPr>
              <a:t>칼라베이스에 의해 진주광택감 결정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15" name="Picture 2" descr=""/>
          <p:cNvPicPr/>
          <p:nvPr/>
        </p:nvPicPr>
        <p:blipFill>
          <a:blip r:embed="rId2"/>
          <a:stretch/>
        </p:blipFill>
        <p:spPr>
          <a:xfrm>
            <a:off x="4130640" y="1214280"/>
            <a:ext cx="4727520" cy="2714760"/>
          </a:xfrm>
          <a:prstGeom prst="rect">
            <a:avLst/>
          </a:prstGeom>
          <a:ln w="0">
            <a:noFill/>
          </a:ln>
        </p:spPr>
      </p:pic>
      <p:sp>
        <p:nvSpPr>
          <p:cNvPr id="116" name="TextBox 5"/>
          <p:cNvSpPr/>
          <p:nvPr/>
        </p:nvSpPr>
        <p:spPr>
          <a:xfrm>
            <a:off x="428760" y="2052720"/>
            <a:ext cx="37144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“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알루미늄분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”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대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Titanized Mica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안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7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료의 도장작업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599840"/>
            <a:ext cx="8229600" cy="104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목적으로 하는 상도도막을 경제적으로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재현성을 좋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얻기 위해서는 양호한 도장 작업성 필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0" name="TextBox 7"/>
          <p:cNvSpPr/>
          <p:nvPr/>
        </p:nvSpPr>
        <p:spPr>
          <a:xfrm>
            <a:off x="500040" y="2928960"/>
            <a:ext cx="74296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1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수지의 점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분자량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상용성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2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안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흡유량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안료농도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분산입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3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첨가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점성부여제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레벨링제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소포제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색분리방지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4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경화속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기본수지의 관능기 농도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가교제의 반응성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1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장의 내후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는 여러가지 환경속에서 장시간 폭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도도막은 빛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산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열 등 작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막구성성분 혹은 도막 전체의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물리적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화학적 성질이 점차로 변화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결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 손상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여러가지 좋지않은 현상 발생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24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환경대응형 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7" name="TextBox 4"/>
          <p:cNvSpPr/>
          <p:nvPr/>
        </p:nvSpPr>
        <p:spPr>
          <a:xfrm>
            <a:off x="500040" y="1571760"/>
            <a:ext cx="814392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하이솔리드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VOC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규제 대응한 고형분 높은 도료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→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유기용제 사용량줄인 타입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수성도료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유기용제의 사용량 극소화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도료 희석 신나로 물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순수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사용하는 도료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8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기능성 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ffffff"/>
                </a:solidFill>
                <a:latin typeface="맑은 고딕"/>
              </a:rPr>
              <a:t>복합가교형 도료</a:t>
            </a:r>
            <a:endParaRPr b="0" lang="en-US" sz="3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아크릴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멜라민 수지계에서 산성비 등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휘약한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멜라민 수지일부를 우레탄계 또는 실란수지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대체한 타입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     →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산성 및 내스크래치성을 향상시킨 도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신가교형 도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아크릴수지에 산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-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에폭시 경화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→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경화 시킨 비멜라민계 도료내산성 및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 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스크래치성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오염성 등 우수한 도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31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나노기술 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33" name="내용 개체 틀 3" descr="zzz.bmp"/>
          <p:cNvPicPr/>
          <p:nvPr/>
        </p:nvPicPr>
        <p:blipFill>
          <a:blip r:embed="rId2"/>
          <a:stretch/>
        </p:blipFill>
        <p:spPr>
          <a:xfrm>
            <a:off x="500040" y="1714680"/>
            <a:ext cx="4000680" cy="3929040"/>
          </a:xfrm>
          <a:prstGeom prst="rect">
            <a:avLst/>
          </a:prstGeom>
          <a:ln w="0">
            <a:noFill/>
          </a:ln>
        </p:spPr>
      </p:pic>
      <p:pic>
        <p:nvPicPr>
          <p:cNvPr id="134" name="그림 4" descr="ssstibis_8.jpg"/>
          <p:cNvPicPr/>
          <p:nvPr/>
        </p:nvPicPr>
        <p:blipFill>
          <a:blip r:embed="rId3"/>
          <a:stretch/>
        </p:blipFill>
        <p:spPr>
          <a:xfrm>
            <a:off x="4500720" y="1714680"/>
            <a:ext cx="3786120" cy="3929040"/>
          </a:xfrm>
          <a:prstGeom prst="rect">
            <a:avLst/>
          </a:prstGeom>
          <a:ln w="0">
            <a:noFill/>
          </a:ln>
        </p:spPr>
      </p:pic>
      <p:sp>
        <p:nvSpPr>
          <p:cNvPr id="135" name="직사각형 5"/>
          <p:cNvSpPr/>
          <p:nvPr/>
        </p:nvSpPr>
        <p:spPr>
          <a:xfrm>
            <a:off x="642960" y="5996160"/>
            <a:ext cx="77868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※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흠집방지효과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색상을 윤택하게하며 광택개선됨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메탈릭칼라 뿐아니라 전도장작업에 적용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6" name="Picture 11" descr="1_시그니춰_영문2"/>
          <p:cNvPicPr/>
          <p:nvPr/>
        </p:nvPicPr>
        <p:blipFill>
          <a:blip r:embed="rId4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 개발방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8" name="팔각형 6"/>
          <p:cNvSpPr/>
          <p:nvPr/>
        </p:nvSpPr>
        <p:spPr>
          <a:xfrm rot="4003800">
            <a:off x="2910240" y="2466000"/>
            <a:ext cx="3286080" cy="3211560"/>
          </a:xfrm>
          <a:prstGeom prst="octagon">
            <a:avLst>
              <a:gd name="adj" fmla="val 2928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TextBox 7"/>
          <p:cNvSpPr/>
          <p:nvPr/>
        </p:nvSpPr>
        <p:spPr>
          <a:xfrm>
            <a:off x="4000680" y="185724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저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VOC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TextBox 8"/>
          <p:cNvSpPr/>
          <p:nvPr/>
        </p:nvSpPr>
        <p:spPr>
          <a:xfrm>
            <a:off x="5715000" y="250020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CO</a:t>
            </a:r>
            <a:r>
              <a:rPr b="1" lang="en-US" sz="15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삭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TextBox 10"/>
          <p:cNvSpPr/>
          <p:nvPr/>
        </p:nvSpPr>
        <p:spPr>
          <a:xfrm>
            <a:off x="5786280" y="3857760"/>
            <a:ext cx="18576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TextBox 11"/>
          <p:cNvSpPr/>
          <p:nvPr/>
        </p:nvSpPr>
        <p:spPr>
          <a:xfrm flipV="1" rot="10800000">
            <a:off x="6286320" y="385668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PN 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TextBox 12"/>
          <p:cNvSpPr/>
          <p:nvPr/>
        </p:nvSpPr>
        <p:spPr>
          <a:xfrm flipV="1" rot="10800000">
            <a:off x="5786280" y="5214600"/>
            <a:ext cx="1857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환경호르몬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TextBox 13"/>
          <p:cNvSpPr/>
          <p:nvPr/>
        </p:nvSpPr>
        <p:spPr>
          <a:xfrm flipV="1" rot="10800000">
            <a:off x="3857400" y="592884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악취저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TextBox 14"/>
          <p:cNvSpPr/>
          <p:nvPr/>
        </p:nvSpPr>
        <p:spPr>
          <a:xfrm flipV="1" rot="10800000">
            <a:off x="1714320" y="5285160"/>
            <a:ext cx="18572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산업폐기물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삭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TextBox 15"/>
          <p:cNvSpPr/>
          <p:nvPr/>
        </p:nvSpPr>
        <p:spPr>
          <a:xfrm flipV="1" rot="10800000">
            <a:off x="928800" y="3856680"/>
            <a:ext cx="20001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HAPs 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TextBox 16"/>
          <p:cNvSpPr/>
          <p:nvPr/>
        </p:nvSpPr>
        <p:spPr>
          <a:xfrm flipV="1" rot="10800000">
            <a:off x="1357200" y="2499840"/>
            <a:ext cx="2286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중금속 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TextBox 17"/>
          <p:cNvSpPr/>
          <p:nvPr/>
        </p:nvSpPr>
        <p:spPr>
          <a:xfrm>
            <a:off x="3357720" y="3643200"/>
            <a:ext cx="25002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500" spc="-1" strike="noStrike">
                <a:solidFill>
                  <a:srgbClr val="ffffff"/>
                </a:solidFill>
                <a:latin typeface="굴림"/>
              </a:rPr>
              <a:t>환경보호</a:t>
            </a:r>
            <a:endParaRPr b="0" lang="en-US" sz="45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 개발방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1" name="육각형 3"/>
          <p:cNvSpPr/>
          <p:nvPr/>
        </p:nvSpPr>
        <p:spPr>
          <a:xfrm>
            <a:off x="2571840" y="2143080"/>
            <a:ext cx="3929040" cy="3714840"/>
          </a:xfrm>
          <a:prstGeom prst="hexagon">
            <a:avLst>
              <a:gd name="adj" fmla="val 24997"/>
              <a:gd name="vf" fmla="val 11547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TextBox 4"/>
          <p:cNvSpPr/>
          <p:nvPr/>
        </p:nvSpPr>
        <p:spPr>
          <a:xfrm>
            <a:off x="4929120" y="164304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에너지절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TextBox 8"/>
          <p:cNvSpPr/>
          <p:nvPr/>
        </p:nvSpPr>
        <p:spPr>
          <a:xfrm>
            <a:off x="6500880" y="371484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공간활용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TextBox 9"/>
          <p:cNvSpPr/>
          <p:nvPr/>
        </p:nvSpPr>
        <p:spPr>
          <a:xfrm>
            <a:off x="4786200" y="585792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인원활용성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TextBox 10"/>
          <p:cNvSpPr/>
          <p:nvPr/>
        </p:nvSpPr>
        <p:spPr>
          <a:xfrm>
            <a:off x="2571840" y="1643040"/>
            <a:ext cx="20714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공정단축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TextBox 11"/>
          <p:cNvSpPr/>
          <p:nvPr/>
        </p:nvSpPr>
        <p:spPr>
          <a:xfrm>
            <a:off x="214200" y="3786120"/>
            <a:ext cx="29289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자원재생효율성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TextBox 12"/>
          <p:cNvSpPr/>
          <p:nvPr/>
        </p:nvSpPr>
        <p:spPr>
          <a:xfrm>
            <a:off x="2357280" y="585792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사용량삭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TextBox 13"/>
          <p:cNvSpPr/>
          <p:nvPr/>
        </p:nvSpPr>
        <p:spPr>
          <a:xfrm>
            <a:off x="3357720" y="3500280"/>
            <a:ext cx="2786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ffffff"/>
                </a:solidFill>
                <a:latin typeface="굴림"/>
              </a:rPr>
              <a:t>경제성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의 정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피도물의 표면에 도장되어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건조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경화과정을 거쳐 얇은 연속 도막을 형성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장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물체의 보호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관등을 위해 도료를             사용하여 도막을 형성시키는 조작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8000" spc="-1" strike="noStrike">
                <a:solidFill>
                  <a:srgbClr val="eeece1"/>
                </a:solidFill>
                <a:latin typeface="맑은 고딕"/>
              </a:rPr>
              <a:t>Thank - you</a:t>
            </a:r>
            <a:endParaRPr b="0" lang="en-US" sz="8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도장의 목적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보호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공기중의 수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산소와 반응을 방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 형체에 맞는 색채감을 표현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품성의 향상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TWO-TONE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장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급격한 환경변화로 자동차 외관의 내구성필요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산성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세차기 브러쉬에 의한 손상방지 기능성 도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2" name="Picture 3" descr=""/>
          <p:cNvPicPr/>
          <p:nvPr/>
        </p:nvPicPr>
        <p:blipFill>
          <a:blip r:embed="rId2"/>
          <a:stretch/>
        </p:blipFill>
        <p:spPr>
          <a:xfrm>
            <a:off x="1714680" y="1571760"/>
            <a:ext cx="6429240" cy="4214520"/>
          </a:xfrm>
          <a:prstGeom prst="rect">
            <a:avLst/>
          </a:prstGeom>
          <a:ln w="0">
            <a:noFill/>
          </a:ln>
        </p:spPr>
      </p:pic>
      <p:pic>
        <p:nvPicPr>
          <p:cNvPr id="53" name="그림 4" descr="투톤.jpg"/>
          <p:cNvPicPr/>
          <p:nvPr/>
        </p:nvPicPr>
        <p:blipFill>
          <a:blip r:embed="rId3"/>
          <a:stretch/>
        </p:blipFill>
        <p:spPr>
          <a:xfrm>
            <a:off x="1928880" y="1428840"/>
            <a:ext cx="5952960" cy="47862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1" descr="1_시그니춰_영문2"/>
          <p:cNvPicPr/>
          <p:nvPr/>
        </p:nvPicPr>
        <p:blipFill>
          <a:blip r:embed="rId4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용 도료의 구성</a:t>
            </a:r>
            <a:r>
              <a:rPr b="0" lang="en-US" sz="4400" spc="-1" strike="noStrike">
                <a:solidFill>
                  <a:srgbClr val="ff0000"/>
                </a:solidFill>
                <a:latin typeface="맑은 고딕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방청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 부여관점에서 그시대 최신의기술을 적용 자동차의 상품성 향상에 기여함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7" name="그림 3" descr="AAA.gif"/>
          <p:cNvPicPr/>
          <p:nvPr/>
        </p:nvPicPr>
        <p:blipFill>
          <a:blip r:embed="rId2"/>
          <a:stretch/>
        </p:blipFill>
        <p:spPr>
          <a:xfrm>
            <a:off x="642960" y="1785960"/>
            <a:ext cx="8001000" cy="29811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의 품질항목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용 도료는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“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방청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”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과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“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”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에 관계되는도장품질항목이 있어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이들 도장품질을 가장 경제적으로 달성하도록 도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장계가 설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61" name="그림 9" descr="title_3_4_2s.gif"/>
          <p:cNvPicPr/>
          <p:nvPr/>
        </p:nvPicPr>
        <p:blipFill>
          <a:blip r:embed="rId2"/>
          <a:stretch/>
        </p:blipFill>
        <p:spPr>
          <a:xfrm>
            <a:off x="857160" y="3643200"/>
            <a:ext cx="7643880" cy="30006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의 도장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목표로 하는 자동차의 도장품질을 가장 경제적으로 얻기 위해 도장공정및 도장사양 이설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각 공정에서 얻어지는 도막에 각각 중요  품질을 기능분담시키고있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65" name="그림 3" descr="title_3_4_5s.gif"/>
          <p:cNvPicPr/>
          <p:nvPr/>
        </p:nvPicPr>
        <p:blipFill>
          <a:blip r:embed="rId2"/>
          <a:stretch/>
        </p:blipFill>
        <p:spPr>
          <a:xfrm>
            <a:off x="1187280" y="1341360"/>
            <a:ext cx="6858000" cy="47865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승용차 표준도장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428760" y="1571760"/>
          <a:ext cx="8286480" cy="4960800"/>
        </p:xfrm>
        <a:graphic>
          <a:graphicData uri="http://schemas.openxmlformats.org/drawingml/2006/table">
            <a:tbl>
              <a:tblPr/>
              <a:tblGrid>
                <a:gridCol w="1036440"/>
                <a:gridCol w="1136880"/>
                <a:gridCol w="2840040"/>
                <a:gridCol w="1636560"/>
                <a:gridCol w="1636560"/>
              </a:tblGrid>
              <a:tr h="3682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도장 공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     </a:t>
                      </a: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대표적인 재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처리방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피막두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034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처리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탈지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표면처리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화성처리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알칼리 탈지제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산아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Dipping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.5-2.0 g/m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15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하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착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변성 에폭시 수지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키티온 전착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0-180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-30mi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0-3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034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중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셋팅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폴리에스테르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멜라민수지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30-150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0-30mi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30-4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75720">
                <a:tc rowSpan="3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rowSpan="3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셋팅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솔리드칼라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아크릴멜라민수지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2C1B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알키드멜라민수지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2C1B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rowSpan="3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30-150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0-30mi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C1B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솔리드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30-40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19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굴림"/>
                        </a:rPr>
                        <a:t>2C1B 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굴림"/>
                        </a:rPr>
                        <a:t>(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베이스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15~20 </a:t>
                      </a:r>
                      <a:br>
                        <a:rPr sz="1500"/>
                      </a:b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클리어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30~45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1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메탈릭 마이카 칼라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아크릴멜라민수지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2C1B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6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표면처리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금속의 부식반응 억제와 하도도막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전착도막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과 소재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피도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의 부착력을 강화시켜 방청성을 향상시킴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을 피막의 주성분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Dipping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처리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72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30T08:37:47Z</dcterms:created>
  <dc:creator>user</dc:creator>
  <dc:description/>
  <dc:language>en-US</dc:language>
  <cp:lastModifiedBy>as0557585734</cp:lastModifiedBy>
  <dcterms:modified xsi:type="dcterms:W3CDTF">2009-12-01T13:59:27Z</dcterms:modified>
  <cp:revision>54</cp:revision>
  <dc:subject/>
  <dc:title>자동차속의 도료와 접착제</dc:title>
</cp:coreProperties>
</file>