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9.jpeg" ContentType="image/jpeg"/>
  <Override PartName="/ppt/media/image28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B5286-DE18-45DA-8C4E-11D141962B2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종이나 의복 등 습기에 약한 물품을 보관하는데 최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!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3400B-ACE3-4C5B-A6DD-6625618E8E3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하므로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B8B2C-50AB-406F-A19E-25373DDF2C5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해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FED8A-BB8C-4BC7-8394-9BC061FC5AC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선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 일반적일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환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가 넓을때 활용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F4638-D401-4200-8941-1D6A598C21B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반적으로 양각이라 한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변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산각을 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의 모서리를 없애고          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근모양으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음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음환각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다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FBADD-FDBA-4515-B6C8-F26A11F8CA6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구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보통 음양각이라 하며 맥부분을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글게 표현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산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맥부분을 산처럼 뾰족하게 표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FB7BC-F827-4AE0-B4A1-F48473856D2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65610-ECC1-4CCF-888B-6289DCDF35A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50949-1E88-42C1-8DE6-CCA546E7570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A8819-72A2-4AD7-B1E7-AFB2F235980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오른쪽 사진 두 장은 류장발교수님방에서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F4C18-A863-472E-A29A-1F85DBEA55B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부채사진은 이덕재교수님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왼쪽사진은 권태호교수님방 목베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0DB16-7216-42EE-9AE0-5265E9A8D53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690E7-72AA-4A92-90B3-8DE87E73E29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E14FE-AE8E-4462-9FC5-626C94D9F39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벽화에 보이는 평상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73040-577B-4ACB-8AAE-F60E967CD1F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나전칠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목공예품에 장식하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큰건 대장경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작은건 나전칠기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C3286-34AF-4649-9B66-ADF9DB5CD3D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연상이라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F99CA-3AC4-47E1-9E87-AEA76D25F72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C660-ED92-40F9-A786-938F0A57B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6AAC-D8AA-497E-90F3-B8EC7E431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7C38-ACFB-475A-BD9F-423A52B76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FDC9-B2D2-4E1E-8246-E3C6DCBB5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08643-9F3E-47F7-A229-ACF7DA2ED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340CC-4F01-4B4F-B64B-212494335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3EF43-1AD4-4F8D-9F8A-C9AD973A2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7CE04-F55F-4898-9BA9-10563EE60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C8917-4167-4CCB-8F79-65DF7F649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A1B6C-C830-42BB-A3F0-8C70538C0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FCA89-9C0C-43CD-84ED-EEDC218E9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A80E-FDFB-4B62-94F2-50B9B32B9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88B42-776A-4E6F-9AA7-73AC99634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C8F3D-D8ED-4E89-92A0-70E3834C8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CDBD0-39EA-41B6-90BD-35EA4E580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3C4B7-8AC0-4798-A871-318C40E36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997E5-387A-4B07-A21C-2A181AD09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3DBCC-FE5F-44B6-AED3-FC8B8DC7A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78209-FF23-4421-BBEF-2C2D0EAD5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5AFC4-FD46-44BE-A97A-81FA54D55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E279D-3CD0-48EE-9E7B-50AF11DF6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9AF60-3314-4B2B-AC1E-1DB4ECD2A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0CC9-883A-490C-84E3-7BB8C96E5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6ADFE-DE35-41AF-A4C9-6B78E87B0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21366-E5FA-497C-AAB6-977266F55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46DA0-9087-4D1E-873E-E33C5EFAB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5CF57-5920-4EC2-BBE9-C687852FE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614AE-7F71-4CEA-8C6E-EEFBC58D8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D3F3C-EB49-4224-8C8B-19A8BA52B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63D13-1B74-4164-9419-11B993259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D31F-58E1-4425-B5F0-6367D8352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3C51-BDD8-437F-9891-3F12160A3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A778-4265-49B9-98E0-69B4EDDF3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8EDA-24D7-4267-8BE2-168844B80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1FA8-01F9-4090-82EE-E43B1E87A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AF4F-782A-45BA-BCED-1B3B7CE82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77003-0B89-489C-A03D-37B401423BDB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3CDF0-1C9C-4468-A13A-E49A578A8034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4D7E4-5CF8-434F-BA46-76532C7AF476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74400" y="431280"/>
            <a:ext cx="7432920" cy="13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SJ깊은물빛"/>
              </a:rPr>
              <a:t>Woodcraft</a:t>
            </a:r>
            <a:endParaRPr b="0" lang="en-US" sz="9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55720" y="2828880"/>
            <a:ext cx="707400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 정동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김영훈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최덕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이수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소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옥의 기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실내가구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수축팽창의 변화가 별로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 결이 고우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윤기가 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촉감이 부드럽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습기에 강함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엌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의 기둥과 쇠목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동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골재와 장롱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오동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종이나 의복 등 습기에 약한 물품을 보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판재의 색이 희고 표면이 무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표면은 검고 광택이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거문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방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책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갑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필통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등에 많이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느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높고 굵게 잘 자라 무늬결이 독특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건습에 예민하여 수축팽창의 폭이 심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리는 단점이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좋아 목가구의 쓰임새 폭이 넓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소품이나 미장재료에 널리 활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먹감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얇게 판재를 쓰면 쉽게 비틀어지거나 터짐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참죽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굵은 선의 나무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붉은색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림이 별로 없고 큰 힘을 견딤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가 탄력이 있고 단단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강하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은행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터지거나 휘지 않음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벼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탄력이 있어 흠이 잘 생기지 않고 벌레가 먹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소반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조각재 등에 많이 쓰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피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드럽고 온순한 재질로 넣고 두꺼운 재료로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함지와 가리방 원반등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35120" y="31892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MDF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섬유와 합성수지 접착제에 의해 밀도가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500~800kg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J깊은물빛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로 생산된 판상재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grpSp>
        <p:nvGrpSpPr>
          <p:cNvPr id="165" name="그룹 5"/>
          <p:cNvGrpSpPr/>
          <p:nvPr/>
        </p:nvGrpSpPr>
        <p:grpSpPr>
          <a:xfrm>
            <a:off x="615960" y="2109960"/>
            <a:ext cx="2803680" cy="769680"/>
            <a:chOff x="615960" y="2109960"/>
            <a:chExt cx="2803680" cy="769680"/>
          </a:xfrm>
        </p:grpSpPr>
        <p:sp>
          <p:nvSpPr>
            <p:cNvPr id="166" name="모서리가 둥근 직사각형 6"/>
            <p:cNvSpPr/>
            <p:nvPr/>
          </p:nvSpPr>
          <p:spPr>
            <a:xfrm>
              <a:off x="615960" y="2109960"/>
              <a:ext cx="2803680" cy="7696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모서리가 둥근 직사각형 4"/>
            <p:cNvSpPr/>
            <p:nvPr/>
          </p:nvSpPr>
          <p:spPr>
            <a:xfrm>
              <a:off x="657000" y="2146320"/>
              <a:ext cx="2721240" cy="6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720" rIns="144720" tIns="144720" bIns="14472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1689120"/>
                  <a:tab algn="l" pos="3378240"/>
                  <a:tab algn="l" pos="5067360"/>
                  <a:tab algn="l" pos="6756480"/>
                  <a:tab algn="l" pos="8445600"/>
                  <a:tab algn="l" pos="10134720"/>
                </a:tabLst>
              </a:pPr>
              <a:r>
                <a:rPr b="0" lang="ko-KR" sz="3800" spc="-1" strike="noStrike">
                  <a:solidFill>
                    <a:srgbClr val="ffffff"/>
                  </a:solidFill>
                  <a:latin typeface="SJ깊은물빛"/>
                  <a:ea typeface="SJ깊은물빛"/>
                </a:rPr>
                <a:t>가공목재</a:t>
              </a:r>
              <a:endParaRPr b="0" lang="en-US" sz="3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제목 1"/>
          <p:cNvSpPr/>
          <p:nvPr/>
        </p:nvSpPr>
        <p:spPr>
          <a:xfrm>
            <a:off x="735120" y="1511280"/>
            <a:ext cx="75294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MDF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의 장단점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다이어그램 4" descr=""/>
          <p:cNvPicPr/>
          <p:nvPr/>
        </p:nvPicPr>
        <p:blipFill>
          <a:blip r:embed="rId1"/>
          <a:stretch/>
        </p:blipFill>
        <p:spPr>
          <a:xfrm>
            <a:off x="536400" y="1865160"/>
            <a:ext cx="8406000" cy="47181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의 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 등이 음으로 표현하는 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73" name="그림 3" descr="음각.bmp"/>
          <p:cNvPicPr/>
          <p:nvPr/>
        </p:nvPicPr>
        <p:blipFill>
          <a:blip r:embed="rId1"/>
          <a:stretch/>
        </p:blipFill>
        <p:spPr>
          <a:xfrm>
            <a:off x="735120" y="3549600"/>
            <a:ext cx="7553160" cy="14112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974880" y="5234040"/>
            <a:ext cx="21589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선각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3613320" y="5234040"/>
            <a:ext cx="21571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6130800" y="5234040"/>
            <a:ext cx="21574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그림 3" descr="양각.bmp"/>
          <p:cNvPicPr/>
          <p:nvPr/>
        </p:nvPicPr>
        <p:blipFill>
          <a:blip r:embed="rId1"/>
          <a:stretch/>
        </p:blipFill>
        <p:spPr>
          <a:xfrm>
            <a:off x="735120" y="3789360"/>
            <a:ext cx="7673760" cy="12700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양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 외 부분을 파내어 글자가 위로 솟게 하는 표현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0" name="TextBox 10"/>
          <p:cNvSpPr/>
          <p:nvPr/>
        </p:nvSpPr>
        <p:spPr>
          <a:xfrm>
            <a:off x="81432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TextBox 11"/>
          <p:cNvSpPr/>
          <p:nvPr/>
        </p:nvSpPr>
        <p:spPr>
          <a:xfrm>
            <a:off x="273204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변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12"/>
          <p:cNvSpPr/>
          <p:nvPr/>
        </p:nvSpPr>
        <p:spPr>
          <a:xfrm>
            <a:off x="4649760" y="538812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Box 13"/>
          <p:cNvSpPr/>
          <p:nvPr/>
        </p:nvSpPr>
        <p:spPr>
          <a:xfrm>
            <a:off x="6448320" y="5388120"/>
            <a:ext cx="19195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양각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의 중심인 맥은 양으로 하고 획의 외부선 부분은 음으로 하는 기법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6" name="TextBox 11"/>
          <p:cNvSpPr/>
          <p:nvPr/>
        </p:nvSpPr>
        <p:spPr>
          <a:xfrm>
            <a:off x="2289240" y="527364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구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5645160" y="527364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산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8" name="그림 8" descr="음양각.bmp"/>
          <p:cNvPicPr/>
          <p:nvPr/>
        </p:nvPicPr>
        <p:blipFill>
          <a:blip r:embed="rId1"/>
          <a:stretch/>
        </p:blipFill>
        <p:spPr>
          <a:xfrm>
            <a:off x="1568520" y="3595680"/>
            <a:ext cx="61387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360" y="3110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차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1596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정의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역사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특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재료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기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전망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연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면과 면을 서로 엇베어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1" name="그림 8" descr="연귀.JPG"/>
          <p:cNvPicPr/>
          <p:nvPr/>
        </p:nvPicPr>
        <p:blipFill>
          <a:blip r:embed="rId1"/>
          <a:stretch/>
        </p:blipFill>
        <p:spPr>
          <a:xfrm>
            <a:off x="974880" y="2949480"/>
            <a:ext cx="74451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사개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두 개의 목재가 직각으로 접합이 되도록 요철되게 절개하여 맞추는 방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=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손가락 맞춤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4" name="그림 4" descr="사개맞춤.jpg"/>
          <p:cNvPicPr/>
          <p:nvPr/>
        </p:nvPicPr>
        <p:blipFill>
          <a:blip r:embed="rId1"/>
          <a:stretch/>
        </p:blipFill>
        <p:spPr>
          <a:xfrm>
            <a:off x="1095480" y="3789360"/>
            <a:ext cx="3836880" cy="2373480"/>
          </a:xfrm>
          <a:prstGeom prst="rect">
            <a:avLst/>
          </a:prstGeom>
          <a:ln w="0">
            <a:noFill/>
          </a:ln>
        </p:spPr>
      </p:pic>
      <p:pic>
        <p:nvPicPr>
          <p:cNvPr id="195" name="그림 5" descr="사개맞춤1.JPG"/>
          <p:cNvPicPr/>
          <p:nvPr/>
        </p:nvPicPr>
        <p:blipFill>
          <a:blip r:embed="rId2"/>
          <a:stretch/>
        </p:blipFill>
        <p:spPr>
          <a:xfrm>
            <a:off x="5651640" y="3068640"/>
            <a:ext cx="299700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쪽 목재에는 장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다른 한 쪽에 장부 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구멍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을 만들어 서로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8" name="그림 6" descr="장부맞춤.JPG"/>
          <p:cNvPicPr/>
          <p:nvPr/>
        </p:nvPicPr>
        <p:blipFill>
          <a:blip r:embed="rId1"/>
          <a:stretch/>
        </p:blipFill>
        <p:spPr>
          <a:xfrm>
            <a:off x="5291280" y="3629160"/>
            <a:ext cx="3597120" cy="2466720"/>
          </a:xfrm>
          <a:prstGeom prst="rect">
            <a:avLst/>
          </a:prstGeom>
          <a:ln w="0">
            <a:noFill/>
          </a:ln>
        </p:spPr>
      </p:pic>
      <p:pic>
        <p:nvPicPr>
          <p:cNvPr id="199" name="그림 7" descr="장부맞춤1.JPG"/>
          <p:cNvPicPr/>
          <p:nvPr/>
        </p:nvPicPr>
        <p:blipFill>
          <a:blip r:embed="rId2"/>
          <a:stretch/>
        </p:blipFill>
        <p:spPr>
          <a:xfrm>
            <a:off x="844560" y="3929040"/>
            <a:ext cx="3963960" cy="21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76200" y="310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411520" y="1869840"/>
            <a:ext cx="313668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2" name="그림 4" descr="ing.jpg"/>
          <p:cNvPicPr/>
          <p:nvPr/>
        </p:nvPicPr>
        <p:blipFill>
          <a:blip r:embed="rId1"/>
          <a:stretch/>
        </p:blipFill>
        <p:spPr>
          <a:xfrm>
            <a:off x="1555920" y="1860480"/>
            <a:ext cx="340992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4" name="Picture 4" descr="장식품"/>
          <p:cNvPicPr/>
          <p:nvPr/>
        </p:nvPicPr>
        <p:blipFill>
          <a:blip r:embed="rId1"/>
          <a:stretch/>
        </p:blipFill>
        <p:spPr>
          <a:xfrm>
            <a:off x="376200" y="1751040"/>
            <a:ext cx="1704960" cy="2763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855720" y="4987800"/>
            <a:ext cx="69800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원목의 느낌을 살려 전통적인 감각을 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주로 오동나무 사용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6" name="그림 4" descr="화분받이.JPG"/>
          <p:cNvPicPr/>
          <p:nvPr/>
        </p:nvPicPr>
        <p:blipFill>
          <a:blip r:embed="rId2"/>
          <a:stretch/>
        </p:blipFill>
        <p:spPr>
          <a:xfrm>
            <a:off x="2293920" y="1870200"/>
            <a:ext cx="2432160" cy="257148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7" descr="장식1.JPG"/>
          <p:cNvPicPr/>
          <p:nvPr/>
        </p:nvPicPr>
        <p:blipFill>
          <a:blip r:embed="rId3"/>
          <a:stretch/>
        </p:blipFill>
        <p:spPr>
          <a:xfrm>
            <a:off x="6969240" y="1511280"/>
            <a:ext cx="1828800" cy="335592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9" descr="장식2.JPG"/>
          <p:cNvPicPr/>
          <p:nvPr/>
        </p:nvPicPr>
        <p:blipFill>
          <a:blip r:embed="rId4"/>
          <a:stretch/>
        </p:blipFill>
        <p:spPr>
          <a:xfrm>
            <a:off x="5051520" y="1511280"/>
            <a:ext cx="167004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0" name="Picture 6" descr="제기"/>
          <p:cNvPicPr/>
          <p:nvPr/>
        </p:nvPicPr>
        <p:blipFill>
          <a:blip r:embed="rId1"/>
          <a:stretch/>
        </p:blipFill>
        <p:spPr>
          <a:xfrm>
            <a:off x="6249960" y="4987800"/>
            <a:ext cx="2538360" cy="143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974880" y="2230560"/>
          <a:ext cx="5187960" cy="1938240"/>
        </p:xfrm>
        <a:graphic>
          <a:graphicData uri="http://schemas.openxmlformats.org/drawingml/2006/table">
            <a:tbl>
              <a:tblPr/>
              <a:tblGrid>
                <a:gridCol w="1930320"/>
                <a:gridCol w="3257640"/>
              </a:tblGrid>
              <a:tr h="59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오동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틀어짐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</a:t>
                      </a: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휘어짐이 없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물푸레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더 고풍스러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단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" name="Picture 28" descr="식탁"/>
          <p:cNvPicPr/>
          <p:nvPr/>
        </p:nvPicPr>
        <p:blipFill>
          <a:blip r:embed="rId2"/>
          <a:stretch/>
        </p:blipFill>
        <p:spPr>
          <a:xfrm>
            <a:off x="3732120" y="4508640"/>
            <a:ext cx="1897200" cy="1744560"/>
          </a:xfrm>
          <a:prstGeom prst="rect">
            <a:avLst/>
          </a:prstGeom>
          <a:ln w="0">
            <a:noFill/>
          </a:ln>
        </p:spPr>
      </p:pic>
      <p:pic>
        <p:nvPicPr>
          <p:cNvPr id="213" name="그림 7" descr="베게.JPG"/>
          <p:cNvPicPr/>
          <p:nvPr/>
        </p:nvPicPr>
        <p:blipFill>
          <a:blip r:embed="rId3"/>
          <a:stretch/>
        </p:blipFill>
        <p:spPr>
          <a:xfrm>
            <a:off x="735120" y="4748040"/>
            <a:ext cx="2465280" cy="1544760"/>
          </a:xfrm>
          <a:prstGeom prst="rect">
            <a:avLst/>
          </a:prstGeom>
          <a:ln w="0">
            <a:noFill/>
          </a:ln>
        </p:spPr>
      </p:pic>
      <p:pic>
        <p:nvPicPr>
          <p:cNvPr id="214" name="그림 8" descr="cycameraimage(3).jpg"/>
          <p:cNvPicPr/>
          <p:nvPr/>
        </p:nvPicPr>
        <p:blipFill>
          <a:blip r:embed="rId4"/>
          <a:stretch/>
        </p:blipFill>
        <p:spPr>
          <a:xfrm>
            <a:off x="6729480" y="1751040"/>
            <a:ext cx="1617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6" name="Picture 3" descr="장승"/>
          <p:cNvPicPr/>
          <p:nvPr/>
        </p:nvPicPr>
        <p:blipFill>
          <a:blip r:embed="rId1"/>
          <a:stretch/>
        </p:blipFill>
        <p:spPr>
          <a:xfrm>
            <a:off x="6261120" y="1619280"/>
            <a:ext cx="2292480" cy="4795920"/>
          </a:xfrm>
          <a:prstGeom prst="rect">
            <a:avLst/>
          </a:prstGeom>
          <a:ln w="0">
            <a:noFill/>
          </a:ln>
        </p:spPr>
      </p:pic>
      <p:pic>
        <p:nvPicPr>
          <p:cNvPr id="217" name="그림 5" descr="하회탈.JPG"/>
          <p:cNvPicPr/>
          <p:nvPr/>
        </p:nvPicPr>
        <p:blipFill>
          <a:blip r:embed="rId2"/>
          <a:stretch/>
        </p:blipFill>
        <p:spPr>
          <a:xfrm>
            <a:off x="974880" y="1751040"/>
            <a:ext cx="2398680" cy="16779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5"/>
          <p:cNvSpPr/>
          <p:nvPr/>
        </p:nvSpPr>
        <p:spPr>
          <a:xfrm>
            <a:off x="615960" y="3549600"/>
            <a:ext cx="371628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밤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잘 썩지 않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오리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조각 잘 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자작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결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은행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뽀얀 색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9" name="그림 6" descr="솟대.jpg"/>
          <p:cNvPicPr/>
          <p:nvPr/>
        </p:nvPicPr>
        <p:blipFill>
          <a:blip r:embed="rId3"/>
          <a:stretch/>
        </p:blipFill>
        <p:spPr>
          <a:xfrm>
            <a:off x="4332240" y="1722600"/>
            <a:ext cx="167796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전망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599840"/>
            <a:ext cx="855036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결을 부각시키고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단점을 보안하여 자연미의 표현가능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나무 공예와 친환경이 트렌드가 되면서 인기를 얻음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친환경장난감의 출시로 여러방향으로 발전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목공예전문가가 없어지는 추세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유행에 민감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SJ깊은물빛"/>
              </a:rPr>
              <a:t>목공예의 정의</a:t>
            </a:r>
            <a:endParaRPr b="0" lang="en-US" sz="48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5840" y="1870200"/>
            <a:ext cx="830916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목재를 이용하여 음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양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투각 등의 기법으로 문양을 새기거나 외형을 완성하는 공예품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36" name="그림 3" descr="%B9%DD~1.JPG"/>
          <p:cNvPicPr/>
          <p:nvPr/>
        </p:nvPicPr>
        <p:blipFill>
          <a:blip r:embed="rId1"/>
          <a:stretch/>
        </p:blipFill>
        <p:spPr>
          <a:xfrm>
            <a:off x="5770440" y="3605040"/>
            <a:ext cx="337356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95360" y="1511280"/>
            <a:ext cx="822960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2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~13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고딕 건축양식이 발달하여 유럽에서는 의자나 테이블이 대량 생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제작기술도 고도화하여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많은 고전양식의 가구가 출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7∼18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를 중심으로 한 목공예의 황금시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20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기계와 강력한 접착제의 출현으로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공장생산으로 이행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360" y="4748040"/>
            <a:ext cx="8229600" cy="16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고려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예가 가장 화려하게 꽃피운 시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전칠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대장경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1" name="그림 5" descr="대장경.JPG"/>
          <p:cNvPicPr/>
          <p:nvPr/>
        </p:nvPicPr>
        <p:blipFill>
          <a:blip r:embed="rId1"/>
          <a:stretch/>
        </p:blipFill>
        <p:spPr>
          <a:xfrm>
            <a:off x="615960" y="1717560"/>
            <a:ext cx="7074000" cy="2643480"/>
          </a:xfrm>
          <a:prstGeom prst="rect">
            <a:avLst/>
          </a:prstGeom>
          <a:ln w="0">
            <a:noFill/>
          </a:ln>
        </p:spPr>
      </p:pic>
      <p:pic>
        <p:nvPicPr>
          <p:cNvPr id="142" name="그림 6" descr="나전칠기.JPG"/>
          <p:cNvPicPr/>
          <p:nvPr/>
        </p:nvPicPr>
        <p:blipFill>
          <a:blip r:embed="rId2"/>
          <a:stretch/>
        </p:blipFill>
        <p:spPr>
          <a:xfrm>
            <a:off x="6130800" y="3549600"/>
            <a:ext cx="26514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95360" y="1990800"/>
            <a:ext cx="8229600" cy="26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선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자연 목리의 미로써 통일성을 나타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5" name="그림 5" descr="연상.JPG"/>
          <p:cNvPicPr/>
          <p:nvPr/>
        </p:nvPicPr>
        <p:blipFill>
          <a:blip r:embed="rId1"/>
          <a:stretch/>
        </p:blipFill>
        <p:spPr>
          <a:xfrm>
            <a:off x="615960" y="3668760"/>
            <a:ext cx="80010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특징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95480" y="2230560"/>
          <a:ext cx="7432560" cy="2757240"/>
        </p:xfrm>
        <a:graphic>
          <a:graphicData uri="http://schemas.openxmlformats.org/drawingml/2006/table">
            <a:tbl>
              <a:tblPr/>
              <a:tblGrid>
                <a:gridCol w="1917720"/>
                <a:gridCol w="5514840"/>
              </a:tblGrid>
              <a:tr h="15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장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중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열전도도가 적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강도가 크고 가공이 용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가연성과 부패성이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함수율에 의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변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9" name="다이어그램 5" descr=""/>
          <p:cNvPicPr/>
          <p:nvPr/>
        </p:nvPicPr>
        <p:blipFill>
          <a:blip r:embed="rId1"/>
          <a:stretch/>
        </p:blipFill>
        <p:spPr>
          <a:xfrm>
            <a:off x="476280" y="1620720"/>
            <a:ext cx="829620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76200" y="2470320"/>
            <a:ext cx="82296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침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백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해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육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잣나무는 접착력이 약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공이 쉽고 곧으며 긴재료를 얻을 수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활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단단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 기물로 이용하며 무늬가 좋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재질이 단단하고 무늬와 색상이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강도는 침엽수보다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52" name="그룹 3" descr=""/>
          <p:cNvPicPr/>
          <p:nvPr/>
        </p:nvPicPr>
        <p:blipFill>
          <a:blip r:embed="rId1"/>
          <a:stretch/>
        </p:blipFill>
        <p:spPr>
          <a:xfrm>
            <a:off x="596880" y="1536840"/>
            <a:ext cx="291456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02:56:58Z</dcterms:created>
  <dc:creator>sec</dc:creator>
  <dc:description/>
  <dc:language>en-US</dc:language>
  <cp:lastModifiedBy>이수연</cp:lastModifiedBy>
  <dcterms:modified xsi:type="dcterms:W3CDTF">2011-05-30T14:39:10Z</dcterms:modified>
  <cp:revision>131</cp:revision>
  <dc:subject/>
  <dc:title>목공예품</dc:title>
</cp:coreProperties>
</file>