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C8C94-3EDB-4DA6-86B7-7274CD7F5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6101F-4E7E-4416-B115-8523A3E3B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F4318-ACDD-4ADC-873F-86E5EB95E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21E2A-AFC2-4434-ACEC-11F65C68C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A1979-A452-4C85-8193-5DE0C74DF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4BDB9-3063-41EA-9024-9313665CC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C302D-AD6F-4AE4-BABA-9CFDA5FFA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E7364-ADB5-441B-AF42-F468EC5D5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03B4F-6A9C-4BCD-8C19-B7CDA1CDC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9FE97-1F5A-45D1-99B8-1CED9FACD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963DB-571B-4723-A192-DE8905BFE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6FA22-CA28-4FCA-B274-306E8588D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AE93B-3B39-4EB2-9EE1-D54F466EF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19594-18DB-40BB-9569-B24D50822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C22D2-AECC-4A67-BD0F-192FFBA71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3B801-5BB0-446A-9B31-DB9A1F668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AA884-E393-4692-B2AD-D1B5CA4D3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8FA08-D506-4330-9AF1-A0F0CBEF7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E9672-0AF1-490D-B006-3FEE31F3F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22DA7-788D-484A-821F-8C401FE84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FA682-39B4-4F64-8854-542772624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CDD71-923E-4CC4-AD91-C6088630F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21F31-966E-4B0D-B3F0-A5FD0A9FF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50AF6-BE2D-4A05-9C08-203CF0F38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9B26D-C627-4CD1-8509-2EDAA661260B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3512A-B64F-435C-A3B9-7FCF5BB4AA00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2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직의 성격과 </a:t>
            </a:r>
            <a:br>
              <a:rPr sz="5400"/>
            </a:b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          교사의 역할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교에서의 비형식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형식적인 구조에서 허용되지 않는 방식으로 자신을 표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형식적 구조를 통해 형식적 임무수행이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형식적 구조를 통해 공식적인 조직의 목적이나 절차가 수정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의 소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취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신 등의 비형식적 구조가 형식적 구조에 영향을 미침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부수적인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르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촉진자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는 촉진자가 되어야 한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급에서의 교사의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형식화된 지식 전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식적인 교사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회화 중재 역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내면화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을 위한 올바른 평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아실현과 동기부여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역할극이 마감되는 것을 인지하는 교사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자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품과 전문성 겸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이상적인 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언적 접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천적 접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한국교육개발원의 연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나오는 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대정신에 따라 교육내용과 방법이 달라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자질도 달라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그러나 봉사와 사명감은 존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성에 기초한 학생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중심의 교직의 실행력은 곧 바람직한 교사의 자질로 재현될 것이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람이 그리운 사회에서 사람만이 희망이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이란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?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와 교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의사와 의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죄인과 인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특징과 중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을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의 정신생활을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성숙자를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봉사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가와 민족에 영향을 미치는 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진보에 중요한 역할을 담당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7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향상을 도모하기 유리한 직업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을 보는 관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노동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공 봉사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전문성과 자율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전문성과 자율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율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본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에서의 직업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에서의 비형식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부수적인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급에서의 교사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기본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지식과 기술을 전달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회화 과정을 조력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평가의 주체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별평가와 성취평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교에서의 직업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피고용인의 역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경영에서의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장과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부모와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가의 역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다면적인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족관계의 역할을 모두 수행하는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관찰력이 분명하고 정확한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7T01:34:59Z</dcterms:created>
  <dc:creator>XPuser</dc:creator>
  <dc:description/>
  <dc:language>en-US</dc:language>
  <cp:lastModifiedBy>XPuser</cp:lastModifiedBy>
  <dcterms:modified xsi:type="dcterms:W3CDTF">2008-09-17T02:16:16Z</dcterms:modified>
  <cp:revision>6</cp:revision>
  <dc:subject/>
  <dc:title>제 2장 교직의 성격과            교사의 역할</dc:title>
</cp:coreProperties>
</file>